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973-6CC1-45A0-8689-E581B21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E24-35E6-4739-AEFD-ABCCB6AD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8EA-3DCB-4D50-827B-FEF2A871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42B-2782-4FCA-960A-F52DB0D6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DBB-D7B8-49C2-987B-BC49C64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967-CE87-4949-A87E-9ABD1339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98E-8778-4523-A9FA-524BF862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267-65BE-488A-9354-0D544CD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F63-0A26-4AAA-8847-26253BF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FFD-D90C-4636-9A74-387422F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3EA-A4F8-4826-89BE-63CAB7C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45C-0CB9-4D07-BF9F-553104C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2961-8569-41D2-B1B9-60BD1EC61E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E510-030E-4330-A02C-C10012F109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5641920" y="1339920"/>
            <a:ext cx="3357720" cy="4797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2"/>
          <a:stretch/>
        </p:blipFill>
        <p:spPr>
          <a:xfrm>
            <a:off x="146160" y="2060640"/>
            <a:ext cx="5003640" cy="3336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158760" y="2060640"/>
            <a:ext cx="5003640" cy="333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440" y="1054080"/>
            <a:ext cx="41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插图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82A-5032-4A18-B763-96760284B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dongdong</dc:creator>
  <dc:description/>
  <dc:language>en-US</dc:language>
  <cp:lastModifiedBy>ABC</cp:lastModifiedBy>
  <dcterms:modified xsi:type="dcterms:W3CDTF">2015-07-11T14:47:47Z</dcterms:modified>
  <cp:revision>97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