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3E9D-C3C1-4F1A-8732-B6E89C02A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B854-45FE-4FA4-93FC-29313A646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2E55-D279-42EB-80AC-259366CB4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157D-3B1C-41C6-83E1-8C3CE7F6E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2B277-066F-47D5-A0CF-4879B759D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0B10A-6B7F-4B86-B198-8F1DEF98B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C743E-98D2-4D46-B305-1D121D40B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25E79-9EA4-414D-99BD-8439D38C3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7AA94-6B93-4FB2-9C6E-C95E68F2F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08DE4-3C14-4828-906F-B0D1085FF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66BD7-BF9A-4A7C-9B46-4D8833E86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8583-5B45-4C71-906C-79325C292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FBAFB-4CDA-47DF-A48D-4EE1DA4C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E57D9-3FCB-406D-928D-603FC581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77120-8377-449E-B0F7-F1A4A3B28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B5453-F260-42D5-831E-7471FF19F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F93F9-CE93-4CE1-AB03-816E2A745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4CB4-EDAD-4D38-A7C3-F0FF675F0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6280-764C-48C7-9B00-29FECCD3D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B74C-EFBB-4FE3-B837-07EA8DB99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09A7-6049-4DB8-BBED-A77A8B2C2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122D-574A-45E0-82F2-E702BEA94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AF89-826C-48C3-A6AC-2BB3A721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D8C6-7521-4A24-8468-BE2117316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492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8483E-AD9E-4051-9B73-07FE90EF47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278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F6F4A-084A-4857-BB98-8FD8E25315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01080" y="6141960"/>
            <a:ext cx="716040" cy="716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47640" y="4076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420360" y="2565360"/>
            <a:ext cx="161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4360" y="6310440"/>
            <a:ext cx="5643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8T08:44:41Z</dcterms:created>
  <dc:creator>An</dc:creator>
  <dc:description/>
  <dc:language>en-US</dc:language>
  <cp:lastModifiedBy/>
  <dcterms:modified xsi:type="dcterms:W3CDTF">2015-07-11T14:14:27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