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271-9B51-4654-8298-7A093D8C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E74-DA3D-4E39-9F40-AF29A14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FA1-CDE6-467E-B8D6-E58EFA72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121-F682-4161-A5D8-0E487888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969-E82F-489B-8A98-BF5077F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B04-B8C0-4BA7-A599-8D27B4AD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403-25F0-45FB-A415-D7A32B3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B99-DB34-4DE7-B184-98BA8D8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0CE-D6C8-41FA-8BA2-A04528D3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2151-F122-4E64-BFC9-E750265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541D-A9D9-42D9-913C-2D4C4DD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F4B-ED01-411E-B9C3-BD3E249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BBE1-B876-44E6-9896-2E2CF73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2E5A-91AB-4A54-888A-FBAD71E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725D-B8B1-4124-B7CB-013A3581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1D1E-C00F-403B-B91E-3E225428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A906-1638-40F7-ADFA-0731FEBD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863-09F4-4072-BFF4-674D4E3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196-0972-4490-9D79-479A494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8EB-79AA-4D65-8A41-4713EE6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6D8-987F-4D8B-9CC2-07ABAA4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474-0DFB-4F37-BD85-D5D195D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781-8611-4727-AB85-27F9D4F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831-0660-4B95-9A89-4741090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22A-84C6-492C-A436-52FB02D1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F013-2702-415C-A2CD-3080A8CB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27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华康少女文字W5(P)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制作技巧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——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其它事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亲爱的朋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应学术研究需要，在此对大家展开一份问卷调查，关心的是企业员工与家庭生活间的关系，问卷形式为单项选择，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余个选题，涉及社会、家庭及工作等方面，内容丰富有趣，当然也有更多的是值得我们深思的，我想，在闲暇时间认真做这样一份调查是非常有意义的，不过我也为因此耽误你宝贵的十几分钟感到抱歉！问卷调查见附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谢谢大家捧场</a:t>
            </a:r>
            <a:r>
              <a:rPr b="1" lang="en-US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前准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定演讲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明确演讲性质，为主题的选择提供依据，如：工作汇报、教育培训、产品介绍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定演讲规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大致了解观众对象，人数，演讲室规模等，以确定主题风格、字体字号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前准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演讲内容、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提到制作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很多人首先想到的便是寻找模板，其实这种思路是不大科学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建议大家先准备好演讲内容，最好能在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里编辑，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页左右，围绕中心论点展开论述，并做到层次分明，富有逻辑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主题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演讲类型确定主色调，另配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辅助颜色，辅助颜色不宜与主色调产生冲突或不协调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色泽鲜艳的颜色不宜大面积使用，仅作为点缀，否则可能产生不良的视觉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合适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用于工作相关的模板应该简约，不宜太花哨，素雅的模板更能使观众接受，整个演讲稿风格应当保持一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宜采用过多的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时常为别人用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做出的一些动作效果感到惊叹，我们也不由地佩服制作者精湛的技术，但是，我们也应仅限于此，过于繁琐的动作和效果并不一定适用在演示文稿中，要做到简约而不简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94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体、字号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保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运行稳定，建议不要使用其他特殊字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字号建议采用如下标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标题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4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标题一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标题二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演示文稿内容最小字号应大于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排版，图表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图文并茂有着相当强的表现力，如有可能，不妨插入一两个图表，可大大增加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说服力。以下是表现力排行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图表＞表格＞数字＞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其它事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朋友，如果你觉得这个东东对你有点帮助，如果你能够抽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的闲暇时间，请你帮我完成一个调查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0:01:49Z</dcterms:created>
  <dc:creator>smart-boy</dc:creator>
  <dc:description/>
  <dc:language>en-US</dc:language>
  <cp:lastModifiedBy/>
  <dcterms:modified xsi:type="dcterms:W3CDTF">2015-07-09T10:48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