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A50-D0A7-4E08-AD04-36CBE4C9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DA1-3B58-4FFA-8676-27063BE3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F36-EC55-4570-A1C7-161BF43F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C89-2BC4-44EB-A5C1-D6C2A0AE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3786-BECD-4D1B-9CB7-598DBEA6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7105-EFAB-43EC-8DD6-A8F2CD48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6215-0D95-44A6-B0C6-45554FD0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5957-162D-47A0-BEB3-FAC68817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0C91-32DC-4DFD-B163-49B89D66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540D-26FC-422E-A376-F73560F9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722A-A0EA-4C08-A354-C528B10B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FDB-F48A-4082-8166-9B17EDD1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A22D-79D4-40CD-AB86-9F115404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8D4B-E854-4D0C-A534-7612355C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EE29-EF51-4DDD-8BCD-87704BE8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13E0-1255-4449-BF27-3BD955B4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FBCB-84A4-468B-9C1B-24C79CCC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E45-6639-4793-A2C3-CF15B163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198-DFDF-4F52-BCC8-E0DA40A2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52D-8DAF-4A11-96A0-60B0CFFC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028-6ABA-45B0-A128-601B68BD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2B6-5082-40AC-A676-B21588A1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E78-7243-41E1-9035-B2F8BBDF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CC4-91E9-40FC-B697-251DFF55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AC08-1AEE-4D32-8C4E-357BCAD82713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4393-E7A9-40C2-AB22-312EFFA9163A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3.jpeg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Impact"/>
                <a:ea typeface="宋体"/>
              </a:rPr>
              <a:t>忍者</a:t>
            </a:r>
            <a:r>
              <a:rPr b="1" i="1" lang="zh-CN" sz="5400" spc="-1" strike="noStrike">
                <a:solidFill>
                  <a:srgbClr val="ff0000"/>
                </a:solidFill>
                <a:latin typeface="Impact"/>
                <a:ea typeface="宋体"/>
              </a:rPr>
              <a:t>PPT</a:t>
            </a:r>
            <a:r>
              <a:rPr b="1" i="1" lang="zh-CN" sz="5400" spc="-1" strike="noStrike">
                <a:solidFill>
                  <a:srgbClr val="ff0000"/>
                </a:solidFill>
                <a:latin typeface="Impact"/>
                <a:ea typeface="宋体"/>
              </a:rPr>
              <a:t>模板下载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520" y="1905120"/>
            <a:ext cx="3886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579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69339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  <a:ea typeface="宋体"/>
              </a:rPr>
              <a:t>Transitional Pag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927840" y="3754440"/>
            <a:ext cx="2216160" cy="3103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520" y="60958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761760"/>
            <a:ext cx="6248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7128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514600" y="99072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114800" y="99072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5715000" y="99072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7620120" y="2590920"/>
            <a:ext cx="1120680" cy="3585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7315200" y="990720"/>
            <a:ext cx="1527120" cy="1145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4915080" y="2819520"/>
            <a:ext cx="247644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7:40:15Z</dcterms:created>
  <dc:creator>eclipse</dc:creator>
  <dc:description/>
  <dc:language>en-US</dc:language>
  <cp:lastModifiedBy>微软用户</cp:lastModifiedBy>
  <dcterms:modified xsi:type="dcterms:W3CDTF">2015-07-05T06:16:49Z</dcterms:modified>
  <cp:revision>2</cp:revision>
  <dc:subject/>
  <dc:title>NINJA SILENT ASSASI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