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CE86-3BDB-4BDD-9CF3-D4569C0B8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9FFC-F858-4E22-BD92-F2FDB955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556F-9595-43BF-8681-28976C06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9842-E6CD-44C5-87CA-727B62510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5A07-6CE9-4B43-8E6C-D448C239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F16A-D233-4D6A-BCD6-64B73B00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4F9C-DBDA-4CF9-A93A-79096A65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1383-C0C4-4120-9752-9C8A8F03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54AE-66D7-42BC-B1B8-09DE72E5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4AFC-EDE0-492C-A5C2-7BC3280F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A115-96FE-4171-BD56-7E813906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3232-A7F0-40F8-8D3E-04FBCC28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E93B-327C-4747-9F66-FE4484909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engjingtupian.com/script/pics/index.html?pics=/d/file/taiwan/taizhong/2006-12-20/34c21bd7e62d5766eb0808ed406d5a05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fengjingtupian.com/script/pics/index.html?pics=/d/file/taiwan/taizhong/2006-12-20/34c21bd7e62d5766eb0808ed406d5a05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孙悟空三打白骨精预览图 点击看大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404640"/>
            <a:ext cx="5689800" cy="5905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094520" y="1125360"/>
            <a:ext cx="109692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9308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16360" y="3286080"/>
            <a:ext cx="4606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63360" y="2060640"/>
            <a:ext cx="24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打白骨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清水岩-孙悟空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116000" y="630864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80C1-8078-43E9-9D8A-53AAFE72E3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09:23:58Z</dcterms:created>
  <dc:creator>An</dc:creator>
  <dc:description/>
  <dc:language>en-US</dc:language>
  <cp:lastModifiedBy/>
  <dcterms:modified xsi:type="dcterms:W3CDTF">2015-07-11T08:17:5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