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738-BB0B-4AD2-8809-11A94573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079-62D7-4DC1-8DB3-655787B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238-C91A-4653-B4E3-6612F1E0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CF4-BBB7-4A28-AFBA-0658204A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2E9F-C222-4529-BE9C-8230EF82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4C2-5790-405B-8D2D-E1E0B2D2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91D-B501-4AC5-8E19-0A77EADF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8C8-526A-4F1C-BA9F-FC45E20B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B8B-9B16-4E3B-86F5-8F5B7DEE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A23-E537-45DE-BD83-5DE275B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BC5-F2C3-40BA-80C1-C5B1177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F46-3B6D-4ACD-9F94-D6E3B1E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A7DD-9638-4BFA-B9C0-ADD5B1022CA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360B-37DF-4CF9-A738-E88FE626EF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71640" y="4572000"/>
            <a:ext cx="717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829440" y="638172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5518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2800" y="443700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圣诞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组合 2"/>
          <p:cNvGrpSpPr/>
          <p:nvPr/>
        </p:nvGrpSpPr>
        <p:grpSpPr>
          <a:xfrm>
            <a:off x="2322360" y="1339920"/>
            <a:ext cx="4442040" cy="1295280"/>
            <a:chOff x="2322360" y="1339920"/>
            <a:chExt cx="4442040" cy="1295280"/>
          </a:xfrm>
        </p:grpSpPr>
        <p:sp>
          <p:nvSpPr>
            <p:cNvPr id="46" name="矩形 12"/>
            <p:cNvSpPr/>
            <p:nvPr/>
          </p:nvSpPr>
          <p:spPr>
            <a:xfrm>
              <a:off x="5652720" y="207216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mob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hangye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er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beijing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tub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xiaza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powerpoint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word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excel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ziliao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keji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fanwe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           </a:t>
              </a: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shiti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94429"/>
                  </a:solidFill>
                  <a:latin typeface="宋体"/>
                  <a:ea typeface="宋体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ea typeface="Calibri"/>
                </a:rPr>
                <a:t>www.1ppt.com/jiaoan/</a:t>
              </a: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94429"/>
                  </a:solidFill>
                  <a:latin typeface="Calibri"/>
                  <a:ea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图片 1" descr=""/>
            <p:cNvPicPr/>
            <p:nvPr/>
          </p:nvPicPr>
          <p:blipFill>
            <a:blip r:embed="rId2"/>
            <a:stretch/>
          </p:blipFill>
          <p:spPr>
            <a:xfrm>
              <a:off x="2322360" y="1339920"/>
              <a:ext cx="44420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矩形 8"/>
          <p:cNvSpPr/>
          <p:nvPr/>
        </p:nvSpPr>
        <p:spPr>
          <a:xfrm>
            <a:off x="317880" y="63324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83040" y="1914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369600" y="3525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6" descr=""/>
          <p:cNvPicPr/>
          <p:nvPr/>
        </p:nvPicPr>
        <p:blipFill>
          <a:blip r:embed="rId3"/>
          <a:stretch/>
        </p:blipFill>
        <p:spPr>
          <a:xfrm>
            <a:off x="2322360" y="2600280"/>
            <a:ext cx="444024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"/>
          <p:cNvPicPr/>
          <p:nvPr/>
        </p:nvPicPr>
        <p:blipFill>
          <a:blip r:embed="rId4"/>
          <a:stretch/>
        </p:blipFill>
        <p:spPr>
          <a:xfrm>
            <a:off x="2322360" y="3895560"/>
            <a:ext cx="444024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8" descr=""/>
          <p:cNvPicPr/>
          <p:nvPr/>
        </p:nvPicPr>
        <p:blipFill>
          <a:blip r:embed="rId5"/>
          <a:stretch/>
        </p:blipFill>
        <p:spPr>
          <a:xfrm>
            <a:off x="2322360" y="5184720"/>
            <a:ext cx="444024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3083040" y="32004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083040" y="44877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083040" y="5751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32423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971640" y="4572000"/>
            <a:ext cx="71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32423"/>
                </a:solidFill>
                <a:latin typeface="华康海报体W12(P)"/>
                <a:ea typeface="华康海报体W12(P)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C39-33A8-44C4-9BF3-FD4C99A946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An</dc:creator>
  <dc:description/>
  <dc:language>en-US</dc:language>
  <cp:lastModifiedBy/>
  <dcterms:modified xsi:type="dcterms:W3CDTF">2015-07-11T08:43:54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