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8.png" ContentType="image/png"/>
  <Override PartName="/ppt/media/image7.jpeg" ContentType="image/jpeg"/>
  <Override PartName="/ppt/media/image26.gif" ContentType="image/gif"/>
  <Override PartName="/ppt/media/image19.png" ContentType="image/png"/>
  <Override PartName="/ppt/media/image21.jpeg" ContentType="image/jpeg"/>
  <Override PartName="/ppt/media/image36.gif" ContentType="image/gif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5.jpeg" ContentType="image/jpeg"/>
  <Override PartName="/ppt/media/image39.jpeg" ContentType="image/jpeg"/>
  <Override PartName="/ppt/media/image45.jpeg" ContentType="image/jpeg"/>
  <Override PartName="/ppt/media/image44.jpeg" ContentType="image/jpeg"/>
  <Override PartName="/ppt/media/image35.png" ContentType="image/png"/>
  <Override PartName="/ppt/media/image43.jpeg" ContentType="image/jpeg"/>
  <Override PartName="/ppt/media/image38.gif" ContentType="image/gif"/>
  <Override PartName="/ppt/media/image47.gif" ContentType="image/gif"/>
  <Override PartName="/ppt/media/image53.jpeg" ContentType="image/jpeg"/>
  <Override PartName="/ppt/media/image48.jpeg" ContentType="image/jpeg"/>
  <Override PartName="/ppt/media/image49.gif" ContentType="image/gif"/>
  <Override PartName="/ppt/media/image46.jpeg" ContentType="image/jpeg"/>
  <Override PartName="/ppt/media/image50.gif" ContentType="image/gif"/>
  <Override PartName="/ppt/media/image51.jpeg" ContentType="image/jpeg"/>
  <Override PartName="/ppt/media/image40.jpeg" ContentType="image/jpeg"/>
  <Override PartName="/ppt/media/image13.jpeg" ContentType="image/jpeg"/>
  <Override PartName="/ppt/media/image54.jpeg" ContentType="image/jpeg"/>
  <Override PartName="/ppt/media/image20.gif" ContentType="image/gif"/>
  <Override PartName="/ppt/media/image34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2.gif" ContentType="image/gif"/>
  <Override PartName="/ppt/media/image42.jpeg" ContentType="image/jpeg"/>
  <Override PartName="/ppt/media/image31.jpeg" ContentType="image/jpeg"/>
  <Override PartName="/ppt/media/image23.png" ContentType="image/png"/>
  <Override PartName="/ppt/media/image55.jpeg" ContentType="image/jpeg"/>
  <Override PartName="/ppt/media/image30.gif" ContentType="image/gif"/>
  <Override PartName="/ppt/media/image12.png" ContentType="image/png"/>
  <Override PartName="/ppt/media/image11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92E-21CE-4294-A5CE-CC8C131D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A38-2A91-405B-B488-2219D1AB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D21EF-8689-4995-BA50-F371455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EF5C6-67F2-4E17-9CEC-2AE325F7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6E91E-D5FE-4A11-9A51-2113703A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32A8B-4D9F-4B15-8C94-66309F45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7E526-E893-4847-807E-B7FFEF8E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31BEC-249D-41CD-9D1F-EEAF09CE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DC66C-70D5-430C-9105-B5F80644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34BBA-B22E-4A41-AD9E-21500DC9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631D4-7E76-4386-86D2-D5DA1F8D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F33CD-0516-442B-A194-AFB1B042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18B-CF58-45D3-ABD8-53F11DBE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4EC77-B613-41F8-84D3-F5EEBE19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6FA3F-9CDA-4CC8-9840-65FF863A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D6CF1-861D-428D-9C66-01DB30E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05CF4-BE33-4495-8330-284A829A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E31B4-9599-4285-8B43-727C9AF4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AA457-4BE5-4DD5-9B9B-AE2F5BD4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2CCCB-69BD-4313-A882-22183347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05BAE-C720-47EB-90C6-25FA17C5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F90BF-C86E-4831-8D57-8D383C4B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F1BB3-40B9-4465-9C37-54859E6F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21A-4CB4-4F48-82E0-8C6F91C1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F0FEE-C60F-4DA6-846C-0F38B35A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B899D-071D-413D-9BFA-C8B0380D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E71E5-B9C8-4311-B06B-FC850EA2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6B90B-BB2D-4F39-8829-875D1C1E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1EF21-0C87-4CCF-9CC9-D1981CE7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C7C48-AB00-4902-BDD7-5F197196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6BCAC-E69F-48BE-B285-6D859779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1E671-6A79-4C1B-8EBD-A6AD9F25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83246-20C0-48F3-B171-3526EEE1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9CD9D-ED85-4775-8BE7-0029398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31E2-4EEB-4315-A032-012336D3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8C778-B662-4F57-8672-39819004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25C3C-4781-4647-B1E7-9A515ECB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ADF5B-9337-447C-B519-2376590D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C79D9-90B5-4116-9F1E-7F991292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81DAF-9C33-44C1-BA69-EDFB407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82BE5-174E-45D4-AF7C-1817DAF3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54445-AC69-49EE-95F1-EF5241F7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747F6-76A1-436F-9732-9569AA55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09EDD-24FA-4C26-BD27-295B381A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4CD81-F0C8-4598-BA3D-1D96C867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72AE-603F-4D25-B05B-8450466E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7A9DB-3C90-47B7-8A73-93FDC8BF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63509-FD10-4D60-97DC-A6653EA9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07F13-8AC3-4683-B43E-2235998A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E7320-B010-45A6-A2AB-1A57B3A3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18F23-ADC6-4E9A-B1A8-69E53EA2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F9AFA-C5E7-4174-85B1-59EB927A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9F862-13EA-4026-9565-D520D213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71090-3C99-4F26-81E5-09C9B8D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0B557-409E-4683-88CD-47425E43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6B6AF-8803-48E1-8FC8-900CFC24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343C-7CA6-4CCB-BA8D-9665FE83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0D5E9-32DC-4446-BC37-9D68E0C4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4FD1B-F761-4F1B-84DE-2E774AB3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9CF16-66DB-4E1A-BC70-7CA72C20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98298-97E0-4837-AB8D-724889CE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6D1CC-9789-4FCB-89EC-001AB041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6CCD4-0412-4189-B901-5C88A59B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9BE31-3395-4F5B-A539-AFEE5E14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6FD5F-A0ED-4726-9A06-F870595B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93D56-BC6E-45D3-8FBB-39891132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A9B02-4850-476B-B8CF-E01A6BD3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FB9F-B116-46B7-8614-D7FAEE0F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1DCBA-2A32-4B9F-B80B-1537048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CD31A-B2B9-4447-A801-53F3440D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4D779-417C-4213-AB1A-C3141F94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92A5D-40E7-40C0-9966-4DE350B9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94734-B213-4754-B820-4B4E0681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72BEE-9C36-4AE8-86F7-746DA9F6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6017F-93AB-4CFF-870F-E3BE6D6A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A63F0-FE52-40EE-BEEF-AACE0852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D735A-0FEA-4FB1-B122-B8F6E208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BB46C-72DD-45F6-B4AC-EF6E985E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B7CE-D95B-47A7-9CA0-CB9F5821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78891-0DCC-40C4-B6AC-9F735107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66C3D-7775-43CF-9CE1-08713EBD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48CA6-1FD2-46C0-B0F5-A2BB61F1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D9618-BB30-4635-A56B-1FADA385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ECC55-EF21-45EF-8871-BD2343EE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7E6C5-4079-4A2E-A7A8-B314563E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88CA7-1B54-4BFE-B456-F894A5D8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748FB-1295-4568-B414-B879CB6A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06FF7-05AF-4C0B-903B-F2D96979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E8F33-69DD-48B8-A121-123C2F4A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B5BB-3FD5-4594-8BFE-ABDA4FE5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3DB0D-66B7-4D6E-B668-2DF0D376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DCC8EE-BF78-490D-AA10-E6610F78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99B97-AC66-4A63-B7B2-DAC71ADF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70E5F-5DDC-47C3-B37A-11667553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3AEB4-92F0-484A-806A-13B8CE8F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B438E-08F0-48BE-97DB-4375B78E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69398-BE3F-4B08-97ED-C8C0C0D5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A7196-B6CB-4808-A72B-69307F4B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5B812-6EC6-46BC-886F-63D092BB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77903-6C29-4324-AA08-C914ABC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7F0C-6AD9-4436-B6A0-B7E41F1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B2177-FBDD-41A5-BD6F-D65D152A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E5D5C-D311-4305-93D6-72664101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CA9F0-E72E-43CF-94A1-8E2C58A5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77373-5608-4C3A-B189-35EEACC9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FBDCB-A45D-4FE5-88C4-67F95071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560E87-FC05-4D64-8610-5EF4D7F9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4CE18-6576-493E-93C1-48A55AD7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5EB8E5-899B-4BBB-B076-0BEB899E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2F3AD-E229-4551-9C82-785F5539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9703B-F557-4D4D-8106-8181D417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16D-63CB-4F7F-875E-F1F02E0F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058D-D3A9-4F8A-A718-547BB971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8CB9C-3EA3-4873-B9AA-BDE12D42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4AE62D-CACF-400C-AF2E-E63D3601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872C41-9442-4493-9BDF-7873C5FA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53EC6-5945-43FE-BFB5-C4100F1A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3CB36-C991-4B73-9FC6-80A6DF2D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6D174F-61C6-49A8-BD0C-9257CA9B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DB3C8-B45C-472F-9A00-FD22DACF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2BDB32-FC33-488E-9876-EDA47C77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183CF-0110-4639-9A9A-BD2CCB4E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55AA8-55AE-469D-BD9C-78886A3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3A20-3466-4961-8845-FF89011F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6F767-E655-425B-999D-BC020C51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7F737-3208-4D5F-976B-79DB7E25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EC10BA-0396-4503-952B-2FCEFF6D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0F196-C57F-4649-AEB2-D2CFFC5B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7E342-8777-4DAA-BBE8-2F081083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388F24-2E48-49A1-9849-18D37DA4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E93AD-F2BC-4EF9-A995-9C51EAC4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24B77-FF9A-4081-8C35-AB1729CB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436A79-1690-4999-AB52-F216568F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13458B-1A92-4882-B858-1EB557F5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6AC6-06F0-4384-81DC-FC54B23C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3B088E-D145-4D9E-9EFD-7F42D144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0E1B32-D6FA-4B33-80E1-B2A67A77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B4B618-7C1B-4EF2-97A3-858F9463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2D507-9431-4CCB-9EEB-EEF736D4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00203-B3B4-42FA-B76E-F03C3159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3C063-E109-44E5-9E45-40F79621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F9666-3573-4481-B23A-68DAFB03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61B1C-BA57-4414-8F28-2E9F167A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2EC6B-92CB-4D10-B68F-D560AD98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A936F1-BBA8-4123-B4E6-D17B663B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1A87-8D1D-4F2C-B99F-CCFDD657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1611D-BDDF-44AF-9927-D9B083B1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F5AD28-1CDD-4E47-864C-5D0DC87C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8FF696-F9C7-48F0-A6C0-927EF07A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4D77F-34E8-431A-9B9A-866AAEFD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C6375-3DC4-43AB-BF2D-0BE7B627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4292A-C4A7-4543-BEA1-9AF1605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88546-5E64-4A91-978C-5F5854C2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43F17-C296-481D-BF9D-8354092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13355-69B5-4301-BD9E-A4991061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75B43F-014F-4C06-9260-BD230DAC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AFDB-0589-4C97-9D5B-568C5582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B34E8E-368B-4A03-BD2B-A0F70031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F4CD9B-0236-471A-B548-3B3A6034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1113FC-928F-4E07-B5B6-F6EFE68B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12521F-B993-4404-8F3E-5FFE28F4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F623FC-9A50-434B-80C0-DDA5FBF8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6FA50F-DBB3-4889-96F3-6A3E0B32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DE692-8E01-47C0-82D0-CD2DF772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12C181-8819-45B0-8D50-A8049A2F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510D6E-B667-48C5-8C6D-36C5A2B6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DE4781-66B0-4461-A140-D3182BB7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25A0-E759-4BA1-A0EE-7E798010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57390A-1172-42C1-9B3A-408EF468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68A738-59C8-4996-AB83-93A303BE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08AC7-C384-4D11-8887-C58B6913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37D217-E93F-467C-BBA9-4CF46D10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6842E1-714C-4E7C-B615-130FAD8D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32AB5C-1A82-42B8-B922-F5BF074D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C73A83-3317-4542-8090-A2F0BC94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E988F6-01AB-4246-B8E7-A1725C3C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2B0A59-F4AC-4AB8-AA13-45DE5B61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42810D-433D-4D6A-9CC4-3360AA40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C374-2C15-4A90-A4F3-40D7C019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AFEFB1-3800-4BE6-9493-3E899DA7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D02F0E-506C-4392-9349-47F21654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BCC603-B5F4-4B50-B72E-9FC94ACE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43257D-B755-4DF6-A770-795CF968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AAA5F1-4174-4876-96ED-35101CF0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659D64-6869-4398-A357-00448441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A6658F-BD98-4027-B06B-05E67CF4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B8A7D1-135F-4204-AC90-6A768D2D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EBD282-832D-46E3-9DF4-78C841BA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B79BCF-10A4-4A3F-948B-E0C29639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82905-5A47-48D3-A6A0-D02D672F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08B1E0-215D-435C-9535-36FD47DB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C4CD13-C30D-4947-B39F-09DFDABB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371046-267E-4518-B457-08B2381E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D60637-101E-4138-9F44-CF694AE3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B17D73-DA7A-432D-A122-D69C5B04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2552D4-8B36-432F-8D36-F2E5187E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C2E426-3C1A-43A0-9A8A-BA93E007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2B81A5-CC6D-49CF-9463-A6C363C5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7942AF-20D1-4501-9AD9-F9B869E9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93FA15-26B8-4667-9E47-12ECFF23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0293-5FCC-442E-A7F7-41C872AC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FF80D5-9B77-402D-8F67-F7CE1057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D90C1C-E328-4DB8-9BCA-3710507B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F74E4D-6815-4307-951C-0F765739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9F51BC-7655-4A5B-9826-731179E7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A129A3-68B8-4D78-A6CE-8307A74B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3666B4-08C3-413F-A0A2-697B984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481C6D-708A-4A9F-97D2-B46975DF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C05344-B7C6-425D-A0C8-582892FA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8D19AD-B3C0-443D-B688-E46DE2D1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4DB858-73B6-4946-9384-6198235C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D4DCC-4814-4868-8D64-12C93E79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B24DA4-069A-4479-9C8C-0F118566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EE8A57-BF29-4C5F-8C94-07E10B70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CF0E9F-AA86-4B60-A796-31DB25A2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E8E790-ADF2-4550-B924-B22F03F4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4A9628-834B-4407-B125-0585C874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801952-A492-4A0F-9FEA-0B785F15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522879-A451-4B86-A52B-8AE6CBFB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09BC37-3C75-4E6B-AA44-D933F9D6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0AEC86-5D11-48B0-804C-1D7A8B55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80BD6B-40C9-49C7-86FB-690101A4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09C-0CE8-460E-B41A-6EAAF879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A8F10-815A-4564-B904-868BD7CE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9440BE-C747-47D2-9F8D-CBDD2C17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85C3-F39D-4615-98CF-C87A3E1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7A93-F043-4491-8E61-8B123ED4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1A31E-CB5B-466B-B910-2C7C4433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FADF-B85F-4981-9105-BF3086AD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CF8E-F701-4B26-B28C-A8FCB74F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FFA8-0F11-4E31-87CF-C0685B7D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FC1F-CE11-48C6-91F6-A881A7A9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F2DE3-1A53-4253-B352-37362AA1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573A-E93C-44CA-BD40-1DEC8A0E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AAC-23E0-414E-9194-A71FB457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4263F-653B-4FE3-B5B8-7806ADED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B5FAC-B1F5-4441-83CB-FF30CB25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9C30E-2A7A-43A9-A2E6-8E69E337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1784-F471-4C29-87C1-B9CF37A0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7CFE7-E1C7-4184-99BF-866C93D0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71F33-73D8-4205-8989-97C02723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52D23-B6BA-40A3-819A-2C245050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D678F-D634-45CF-8D82-D600E57F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36EB7-63FC-453D-96DE-68D361AD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D7776-079C-477F-A441-F0D7619E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05B-C864-40CD-B625-DA56DB6A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3CA07-9E9D-443E-9837-DB800B1E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6EA25-2DB5-407C-A06F-0DA473C7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ED344-38EC-4F42-936F-4340931D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7EE7A-B86A-469B-872C-5EC6AD38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4A8D2-129E-4BC5-B906-67FA8BB2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DEE9-A336-4C22-87BC-74CC372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EDEED-0AC7-4367-A6E9-8B235BF0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A17DA-4721-48B2-8FB9-27904286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A230-52D0-4CBC-8225-2B77D95F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1AA9C-B970-4CE7-8536-2518C50F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486-BAE2-4DD0-9185-8791F0B5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DB7B7-9369-49F9-8AD9-1D63C729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5B878-B427-4D1F-87F9-53D9EDC2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60568-06EB-4ABE-9EB8-56C00CCD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9D451-63CD-44AB-BB4E-3E3F244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D7AE8-A392-4AF9-BA15-663FD92D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393F1-0BA6-4A71-BA6B-DDEE84A1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65003-0B9C-477E-B9F2-D9A9C492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DE095-8FBF-4996-8771-C080869D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B7C3F-F4CF-424C-84F4-CDC06496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C7C6F-FF31-4ADE-A2F0-3954B649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99F-C15A-4482-992E-0550A6B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2A588-D8BD-4742-A694-95BC17FB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6202F-0369-49C1-8A73-785C80A4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2DFA3-DC76-4855-AD5C-F174A5AF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285C3-1074-404A-8D1E-F0B9AA56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46898-AAE2-4C00-B164-BCECBE37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43D43-9BC4-44D3-8E05-CD6D322B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F4EFD-521B-48C9-9DDF-B8A5AAD9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78B48-0A77-41B6-9437-5E9F0C19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351E8-0F7E-45A4-91EE-C43BAE96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DAAD9-21B5-430B-B195-E7820968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76A-C271-4A5D-AD45-499F3A16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4B80B-FA48-4DFF-8ABF-D425CBF2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D030-E5E3-4579-8744-EB21257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0A74B-82C4-488F-AABC-1DFAB0A9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AEEF1-D760-4371-9A0E-05D69379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F3B2E-7496-4B5E-8581-44284836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263C2-F9D9-48EC-960B-BC695329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9F213-D03C-4C6F-A66F-21136769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94EA6-FCB1-4DD3-8042-8D8A57A7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232B5-7ACD-41D3-8C25-A810760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2500A-FB1F-4EBB-81C6-47B83463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30A-C586-4FE8-B12B-F992159A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F227D-43D0-4132-8DE1-7795E4BA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0EEBB-BF71-44D5-9616-476AF2C8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AF616-C6EF-4E7F-A4DF-14D2C656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91402-4683-4499-8B7F-CB0C2891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466BF-9CEB-4DB6-8171-AA808263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4A583-B032-4594-BAEB-97B5A7BC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83FDD-8674-47FE-AC74-08D2FDB8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58EA4-607C-4D46-9CC5-B7AB0F3D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685D5-F57B-4A6B-9560-C0A6E655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DD4FA-E330-45C8-8A6A-0E7B428C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A576-21FB-4482-A003-2CC384EB7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D010-674F-4579-A6F7-09C9DFFA5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E18B-F32C-436B-AF19-DE9698373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A40E-FE3F-4179-80A9-4836AE175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3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1" name="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5" name="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55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27CF-442D-4A98-A42B-843993540C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2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633" name="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1" name="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65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74EF-5520-472E-A6D0-CD76C5975C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23" name="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724" name="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2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730" name="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33" name="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6273360" y="-21240"/>
                <a:ext cx="2867400" cy="2268720"/>
                <a:chOff x="6273360" y="-21240"/>
                <a:chExt cx="2867400" cy="2268720"/>
              </a:xfrm>
            </p:grpSpPr>
            <p:grpSp>
              <p:nvGrpSpPr>
                <p:cNvPr id="737" name="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2" name="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6537960" y="906120"/>
                  <a:ext cx="1063800" cy="1141560"/>
                  <a:chOff x="6537960" y="906120"/>
                  <a:chExt cx="1063800" cy="11415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flipH="1" rot="18888600">
                    <a:off x="6789960" y="1196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7112160" y="15840"/>
                  <a:ext cx="607680" cy="785520"/>
                  <a:chOff x="7112160" y="15840"/>
                  <a:chExt cx="607680" cy="78552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 flipH="1" rot="3474000">
                    <a:off x="7240320" y="477000"/>
                    <a:ext cx="5652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rot="3474000">
                    <a:off x="7114320" y="103680"/>
                    <a:ext cx="303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7287840" y="-21240"/>
                  <a:ext cx="466200" cy="808560"/>
                  <a:chOff x="7287840" y="-21240"/>
                  <a:chExt cx="466200" cy="80856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 flipH="1" rot="4126800">
                    <a:off x="7332120" y="45900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 flipH="1" rot="4578600">
                  <a:off x="7418160" y="48492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802" name=""/>
                <p:cNvGrpSpPr/>
                <p:nvPr/>
              </p:nvGrpSpPr>
              <p:grpSpPr>
                <a:xfrm>
                  <a:off x="7665480" y="-11520"/>
                  <a:ext cx="497520" cy="790920"/>
                  <a:chOff x="7665480" y="-11520"/>
                  <a:chExt cx="497520" cy="790920"/>
                </a:xfrm>
              </p:grpSpPr>
              <p:sp>
                <p:nvSpPr>
                  <p:cNvPr id="803" name="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rot="17742000">
                    <a:off x="7886520" y="77760"/>
                    <a:ext cx="2919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7662600" y="38160"/>
                  <a:ext cx="786240" cy="747360"/>
                  <a:chOff x="7662600" y="38160"/>
                  <a:chExt cx="786240" cy="74736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 rot="18822600">
                    <a:off x="762084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rot="18822600">
                    <a:off x="8101800" y="119160"/>
                    <a:ext cx="31788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6710760" y="929880"/>
                  <a:ext cx="913680" cy="1249200"/>
                  <a:chOff x="6710760" y="929880"/>
                  <a:chExt cx="913680" cy="124920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 flipH="1" rot="18336000">
                    <a:off x="6859080" y="125604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 rot="18336000">
                    <a:off x="6713280" y="178740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1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7312680" y="1001160"/>
                  <a:ext cx="363240" cy="1217520"/>
                  <a:chOff x="7312680" y="1001160"/>
                  <a:chExt cx="363240" cy="121752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 flipH="1" rot="16870800">
                    <a:off x="713592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 rot="16870800">
                    <a:off x="7253640" y="1876320"/>
                    <a:ext cx="42120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" name="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821" name=""/>
                  <p:cNvSpPr/>
                  <p:nvPr/>
                </p:nvSpPr>
                <p:spPr>
                  <a:xfrm rot="3144000">
                    <a:off x="768924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3144000">
                    <a:off x="826668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"/>
                <p:cNvGrpSpPr/>
                <p:nvPr/>
              </p:nvGrpSpPr>
              <p:grpSpPr>
                <a:xfrm>
                  <a:off x="7786440" y="956160"/>
                  <a:ext cx="732600" cy="1261800"/>
                  <a:chOff x="7786440" y="956160"/>
                  <a:chExt cx="732600" cy="126180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rot="3745200">
                    <a:off x="807984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rot="4286400">
                    <a:off x="7536600" y="1351440"/>
                    <a:ext cx="8215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rot="5755200">
                    <a:off x="7321320" y="1401480"/>
                    <a:ext cx="738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843600" y="911880"/>
                <a:ext cx="218052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650268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6410520" y="5994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71480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8852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3168-4B7E-4DE6-8449-54398354CB8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2010960" y="245160"/>
            <a:ext cx="7128000" cy="7923600"/>
            <a:chOff x="2010960" y="245160"/>
            <a:chExt cx="7128000" cy="7923600"/>
          </a:xfrm>
        </p:grpSpPr>
        <p:grpSp>
          <p:nvGrpSpPr>
            <p:cNvPr id="899" name="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900" name="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2010960" y="245160"/>
              <a:ext cx="7128000" cy="7706520"/>
              <a:chOff x="2010960" y="245160"/>
              <a:chExt cx="7128000" cy="7706520"/>
            </a:xfrm>
          </p:grpSpPr>
          <p:grpSp>
            <p:nvGrpSpPr>
              <p:cNvPr id="903" name="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90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" name="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909" name="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1" name="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91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4" name="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91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7" name="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91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2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2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9" name=""/>
                  <p:cNvGrpSpPr/>
                  <p:nvPr/>
                </p:nvGrpSpPr>
                <p:grpSpPr>
                  <a:xfrm>
                    <a:off x="2646720" y="2474280"/>
                    <a:ext cx="2557080" cy="2741400"/>
                    <a:chOff x="2646720" y="2474280"/>
                    <a:chExt cx="2557080" cy="2741400"/>
                  </a:xfrm>
                </p:grpSpPr>
                <p:sp>
                  <p:nvSpPr>
                    <p:cNvPr id="930" name=""/>
                    <p:cNvSpPr/>
                    <p:nvPr/>
                  </p:nvSpPr>
                  <p:spPr>
                    <a:xfrm flipH="1" rot="18888600">
                      <a:off x="3254400" y="317160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flipH="1" rot="18888600">
                      <a:off x="2692440" y="429588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4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5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5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4027320" y="335520"/>
                    <a:ext cx="1461240" cy="1886040"/>
                    <a:chOff x="4027320" y="335520"/>
                    <a:chExt cx="1461240" cy="188604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H="1" rot="3474000">
                      <a:off x="4033080" y="546120"/>
                      <a:ext cx="7290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4448520" y="245160"/>
                    <a:ext cx="1121760" cy="1946880"/>
                    <a:chOff x="4448520" y="245160"/>
                    <a:chExt cx="1121760" cy="194688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flipH="1" rot="4126800">
                      <a:off x="4554720" y="140112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flipH="1" rot="4126800">
                      <a:off x="4418640" y="439920"/>
                      <a:ext cx="7034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1" name=""/>
                  <p:cNvSpPr/>
                  <p:nvPr/>
                </p:nvSpPr>
                <p:spPr>
                  <a:xfrm flipH="1" rot="4578600">
                    <a:off x="4764240" y="1464840"/>
                    <a:ext cx="1266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3" name=""/>
                  <p:cNvGrpSpPr/>
                  <p:nvPr/>
                </p:nvGrpSpPr>
                <p:grpSpPr>
                  <a:xfrm>
                    <a:off x="5356080" y="270360"/>
                    <a:ext cx="1195920" cy="1900800"/>
                    <a:chOff x="5356080" y="270360"/>
                    <a:chExt cx="1195920" cy="1900800"/>
                  </a:xfrm>
                </p:grpSpPr>
                <p:sp>
                  <p:nvSpPr>
                    <p:cNvPr id="974" name=""/>
                    <p:cNvSpPr/>
                    <p:nvPr/>
                  </p:nvSpPr>
                  <p:spPr>
                    <a:xfrm rot="17742000">
                      <a:off x="5087520" y="141876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 rot="17742000">
                      <a:off x="5887800" y="485280"/>
                      <a:ext cx="70200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5347800" y="388440"/>
                    <a:ext cx="1891440" cy="1797480"/>
                    <a:chOff x="5347800" y="388440"/>
                    <a:chExt cx="1891440" cy="179748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 rot="18822600">
                      <a:off x="5248080" y="13892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 rot="18822600">
                      <a:off x="6404400" y="583920"/>
                      <a:ext cx="7642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9" name=""/>
                  <p:cNvGrpSpPr/>
                  <p:nvPr/>
                </p:nvGrpSpPr>
                <p:grpSpPr>
                  <a:xfrm>
                    <a:off x="5458320" y="292680"/>
                    <a:ext cx="427680" cy="1794960"/>
                    <a:chOff x="5458320" y="292680"/>
                    <a:chExt cx="427680" cy="1794960"/>
                  </a:xfrm>
                </p:grpSpPr>
                <p:sp>
                  <p:nvSpPr>
                    <p:cNvPr id="980" name=""/>
                    <p:cNvSpPr/>
                    <p:nvPr/>
                  </p:nvSpPr>
                  <p:spPr>
                    <a:xfrm rot="16696200">
                      <a:off x="5007240" y="1445760"/>
                      <a:ext cx="11754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 rot="16696200">
                      <a:off x="5443200" y="53316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3062520" y="2530440"/>
                    <a:ext cx="2196360" cy="3003120"/>
                    <a:chOff x="3062520" y="2530440"/>
                    <a:chExt cx="2196360" cy="3003120"/>
                  </a:xfrm>
                </p:grpSpPr>
                <p:sp>
                  <p:nvSpPr>
                    <p:cNvPr id="983" name=""/>
                    <p:cNvSpPr/>
                    <p:nvPr/>
                  </p:nvSpPr>
                  <p:spPr>
                    <a:xfrm flipH="1" rot="18336000">
                      <a:off x="3420000" y="331452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flipH="1" rot="18336000">
                      <a:off x="3069720" y="45914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8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 flipH="1" rot="16870800">
                      <a:off x="4086000" y="3489120"/>
                      <a:ext cx="188748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 flipH="1" rot="16870800">
                      <a:off x="4366800" y="4807800"/>
                      <a:ext cx="10126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rot="3144000">
                      <a:off x="5415480" y="3250440"/>
                      <a:ext cx="21261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5648040" y="2593440"/>
                    <a:ext cx="1758600" cy="3032640"/>
                    <a:chOff x="5648040" y="2593440"/>
                    <a:chExt cx="1758600" cy="3032640"/>
                  </a:xfrm>
                </p:grpSpPr>
                <p:sp>
                  <p:nvSpPr>
                    <p:cNvPr id="995" name=""/>
                    <p:cNvSpPr/>
                    <p:nvPr/>
                  </p:nvSpPr>
                  <p:spPr>
                    <a:xfrm rot="3745200">
                      <a:off x="5265360" y="3395880"/>
                      <a:ext cx="203436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 rot="3745200">
                      <a:off x="6351840" y="4718880"/>
                      <a:ext cx="1091160" cy="57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rot="4286400">
                      <a:off x="5046480" y="354312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rot="4286400">
                      <a:off x="5877360" y="4881240"/>
                      <a:ext cx="10594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0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4961160" y="2887560"/>
                    <a:ext cx="663120" cy="2717640"/>
                    <a:chOff x="4961160" y="2887560"/>
                    <a:chExt cx="663120" cy="271764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 rot="5755200">
                      <a:off x="4531320" y="3665160"/>
                      <a:ext cx="17726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rot="5755200">
                      <a:off x="4714920" y="4931640"/>
                      <a:ext cx="9511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06" name=""/>
              <p:cNvGrpSpPr/>
              <p:nvPr/>
            </p:nvGrpSpPr>
            <p:grpSpPr>
              <a:xfrm>
                <a:off x="2175120" y="682560"/>
                <a:ext cx="6963840" cy="7269120"/>
                <a:chOff x="2175120" y="682560"/>
                <a:chExt cx="6963840" cy="7269120"/>
              </a:xfrm>
            </p:grpSpPr>
            <p:grpSp>
              <p:nvGrpSpPr>
                <p:cNvPr id="1007" name=""/>
                <p:cNvGrpSpPr/>
                <p:nvPr/>
              </p:nvGrpSpPr>
              <p:grpSpPr>
                <a:xfrm>
                  <a:off x="2175120" y="682560"/>
                  <a:ext cx="6963840" cy="7269120"/>
                  <a:chOff x="2175120" y="682560"/>
                  <a:chExt cx="6963840" cy="726912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>
                    <a:off x="2561760" y="227088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>
                    <a:off x="248940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5" name="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6" name=""/>
            <p:cNvGrpSpPr/>
            <p:nvPr/>
          </p:nvGrpSpPr>
          <p:grpSpPr>
            <a:xfrm>
              <a:off x="2342880" y="712440"/>
              <a:ext cx="6410160" cy="7456320"/>
              <a:chOff x="2342880" y="712440"/>
              <a:chExt cx="6410160" cy="7456320"/>
            </a:xfrm>
          </p:grpSpPr>
          <p:sp>
            <p:nvSpPr>
              <p:cNvPr id="1017" name="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3383280" y="248724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3645360" y="212184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2342520" y="1737000"/>
                <a:ext cx="36730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73440" y="2150280"/>
                <a:ext cx="5824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411880" y="213660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EF35-2D78-457E-9F90-B4129F64526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E842-C854-4E48-B1FD-0F8BEEEA47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8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90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09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0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0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1110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1111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112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1113" name="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1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547B-4E4C-44C1-A595-E5613D87A7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64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6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68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174" name="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178" name="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18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2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22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5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04E6-E6A0-4D4E-86AD-50674B0E97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3F80-883D-419A-9EEC-3772CC610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66" name="PlaceHolder 1"/>
          <p:cNvSpPr>
            <a:spLocks noGrp="1"/>
          </p:cNvSpPr>
          <p:nvPr>
            <p:ph type="dt" idx="5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sldNum" idx="6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BC8E-F049-4758-AE94-B3C2F7F4BC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E124-D514-44B7-9D32-4F7764303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7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348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F69B-12E4-4054-AFBB-67C45D769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7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398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40A1-ACD2-4F0A-B6EB-76FE0AE09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7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449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7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7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7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CB06-D2F2-42AA-8DA2-6031B165BD22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92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494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9942-8C5B-4509-AF87-17AF8CB615B3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0A3F-67F4-4719-8776-E8E1F113E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8404-2587-461D-A880-359752705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8005-2A27-4DCC-A136-FB4D02A48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B2EF-C260-4AF6-BB42-B4BC6EFD1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5DDF-F134-47A6-8DAC-5C74F449B5F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EDAF-2887-4C93-A7F1-CAED13B623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F45-BABB-44DC-8FE3-CA483ED6F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gif"/><Relationship Id="rId10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1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2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jpe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5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 txBox="1"/>
          <p:nvPr/>
        </p:nvSpPr>
        <p:spPr>
          <a:xfrm>
            <a:off x="4067280" y="620640"/>
            <a:ext cx="4752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世界美食之经典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1536" name=""/>
          <p:cNvSpPr/>
          <p:nvPr/>
        </p:nvSpPr>
        <p:spPr>
          <a:xfrm>
            <a:off x="4046040" y="2781360"/>
            <a:ext cx="37659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华文行楷"/>
              </a:rPr>
              <a:t>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ea typeface="华文行楷"/>
              </a:rPr>
              <a:t>异域风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华文行楷"/>
              </a:rPr>
              <a:t>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ea typeface="华文行楷"/>
              </a:rPr>
              <a:t>中华美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omic Sans MS"/>
                <a:ea typeface="隶书"/>
              </a:rPr>
              <a:t>东北菜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392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东北菜以炖、酱、烤为主要特点，形糙色重味浓。粗线条的东北菜，不拘泥于细节，颇像粗线条的东北人，令人胃口大开。酱脊骨、酱猪蹄、酱鸡爪鸡脖鸡肝等酱菜，若佐以醇厚的高粱烧酒，便有几分豪气从胃中升腾，充满了塞外的味道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4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3384360" cy="2664000"/>
          </a:xfrm>
          <a:prstGeom prst="rect">
            <a:avLst/>
          </a:prstGeom>
          <a:ln w="0">
            <a:noFill/>
          </a:ln>
        </p:spPr>
      </p:pic>
      <p:pic>
        <p:nvPicPr>
          <p:cNvPr id="15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484280"/>
          </a:xfrm>
          <a:prstGeom prst="rect">
            <a:avLst/>
          </a:prstGeom>
          <a:ln w="0">
            <a:noFill/>
          </a:ln>
        </p:spPr>
      </p:pic>
      <p:sp>
        <p:nvSpPr>
          <p:cNvPr id="1576" name="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4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8" name="" descr=""/>
          <p:cNvPicPr/>
          <p:nvPr/>
        </p:nvPicPr>
        <p:blipFill>
          <a:blip r:embed="rId2"/>
          <a:stretch/>
        </p:blipFill>
        <p:spPr>
          <a:xfrm>
            <a:off x="6375240" y="0"/>
            <a:ext cx="2768760" cy="22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9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3276720" cy="2276640"/>
          </a:xfrm>
          <a:prstGeom prst="rect">
            <a:avLst/>
          </a:prstGeom>
          <a:ln w="0">
            <a:noFill/>
          </a:ln>
        </p:spPr>
      </p:pic>
      <p:pic>
        <p:nvPicPr>
          <p:cNvPr id="1580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3276720" cy="2304720"/>
          </a:xfrm>
          <a:prstGeom prst="rect">
            <a:avLst/>
          </a:prstGeom>
          <a:ln w="0">
            <a:noFill/>
          </a:ln>
        </p:spPr>
      </p:pic>
      <p:pic>
        <p:nvPicPr>
          <p:cNvPr id="1581" name="" descr=""/>
          <p:cNvPicPr/>
          <p:nvPr/>
        </p:nvPicPr>
        <p:blipFill>
          <a:blip r:embed="rId5"/>
          <a:stretch/>
        </p:blipFill>
        <p:spPr>
          <a:xfrm>
            <a:off x="3276720" y="0"/>
            <a:ext cx="3095640" cy="22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2" name="" descr=""/>
          <p:cNvPicPr/>
          <p:nvPr/>
        </p:nvPicPr>
        <p:blipFill>
          <a:blip r:embed="rId6"/>
          <a:stretch/>
        </p:blipFill>
        <p:spPr>
          <a:xfrm>
            <a:off x="3276720" y="2276640"/>
            <a:ext cx="3095640" cy="237636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/>
          <p:cNvPicPr/>
          <p:nvPr/>
        </p:nvPicPr>
        <p:blipFill>
          <a:blip r:embed="rId7"/>
          <a:stretch/>
        </p:blipFill>
        <p:spPr>
          <a:xfrm>
            <a:off x="3276720" y="4653000"/>
            <a:ext cx="309564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4" name="" descr=""/>
          <p:cNvPicPr/>
          <p:nvPr/>
        </p:nvPicPr>
        <p:blipFill>
          <a:blip r:embed="rId8"/>
          <a:stretch/>
        </p:blipFill>
        <p:spPr>
          <a:xfrm>
            <a:off x="6372360" y="2205000"/>
            <a:ext cx="2771640" cy="2448000"/>
          </a:xfrm>
          <a:prstGeom prst="rect">
            <a:avLst/>
          </a:prstGeom>
          <a:ln w="0">
            <a:noFill/>
          </a:ln>
        </p:spPr>
      </p:pic>
      <p:pic>
        <p:nvPicPr>
          <p:cNvPr id="1585" name="" descr=""/>
          <p:cNvPicPr/>
          <p:nvPr/>
        </p:nvPicPr>
        <p:blipFill>
          <a:blip r:embed="rId9"/>
          <a:stretch/>
        </p:blipFill>
        <p:spPr>
          <a:xfrm>
            <a:off x="6372360" y="4653000"/>
            <a:ext cx="27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c0039"/>
                </a:solidFill>
                <a:latin typeface="Arial"/>
                <a:ea typeface="华文行楷"/>
              </a:rPr>
              <a:t>异域风味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2916360" y="1989000"/>
            <a:ext cx="204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意大利菜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6084720" y="1989000"/>
            <a:ext cx="2044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日本料理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2987640" y="3789360"/>
            <a:ext cx="153360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泰国菜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6084720" y="3716280"/>
            <a:ext cx="18050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法国菜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91" name=""/>
          <p:cNvSpPr/>
          <p:nvPr/>
        </p:nvSpPr>
        <p:spPr>
          <a:xfrm>
            <a:off x="7308720" y="5734080"/>
            <a:ext cx="914400" cy="609480"/>
          </a:xfrm>
          <a:prstGeom prst="cloudCallout">
            <a:avLst>
              <a:gd name="adj1" fmla="val 56944"/>
              <a:gd name="adj2" fmla="val 7005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back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c0039"/>
                </a:solidFill>
                <a:latin typeface="Arial"/>
                <a:ea typeface="华文新魏"/>
              </a:rPr>
              <a:t>意大利菜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553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大利菜味浓香烂，以原汁原味闻名，烹调上 以炒、煎 、炸 、红焖等方法著称，并喜用面条、 米饭作菜，而不作为主食用。意大利人吃饭的习 惯一般在六七成熟就吃，这是其他国家所没有的。 口味爱好：喜吃烤羊腿、牛排等和口味醇浓的菜。  每样食品都是在适宜的季节，在风味最佳的时候趁新鲜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4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c00"/>
                </a:solidFill>
                <a:latin typeface="Times New Roman"/>
                <a:ea typeface="隶书"/>
              </a:rPr>
              <a:t>日本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144000" y="148428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日本料理讲究营养的配比，而且喜吃生食：龙虾、金枪鱼、三纹鱼，都是蘸了绿芥末和调料生食，吃进喝一些清酒。除生鱼片、寿司外，日式料理的名菜还有铁板烧、天妇罗、蘸生鸡蛋吃的牛肉火锅和类似中国涮羊肉的牛肉水锅。但总的来说，与中餐相比，日本料理的口味要清淡的多，数量也少，习惯了大碗喝酒大块吃肉的人恐怕会有吃不饱的感觉。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0" y="5932440"/>
            <a:ext cx="853920" cy="925560"/>
          </a:xfrm>
          <a:custGeom>
            <a:avLst/>
            <a:gdLst>
              <a:gd name="textAreaLeft" fmla="*/ 213480 w 853920"/>
              <a:gd name="textAreaRight" fmla="*/ 640440 w 853920"/>
              <a:gd name="textAreaTop" fmla="*/ 231480 h 925560"/>
              <a:gd name="textAreaBottom" fmla="*/ 694440 h 925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38d77"/>
                </a:solidFill>
                <a:latin typeface="Impact"/>
                <a:ea typeface="方正舒体"/>
              </a:rPr>
              <a:t>泰国菜</a:t>
            </a:r>
            <a:endParaRPr b="0" lang="en-US" sz="6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763200" y="2268360"/>
            <a:ext cx="798516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38d77"/>
                </a:solidFill>
                <a:latin typeface="Arial Narrow"/>
              </a:rPr>
              <a:t>泰国菜具有色调鲜艳</a:t>
            </a:r>
            <a:r>
              <a:rPr b="0" lang="en-US" sz="2800" spc="-1" strike="noStrike">
                <a:solidFill>
                  <a:srgbClr val="a38d77"/>
                </a:solidFill>
                <a:latin typeface="Arial Narrow"/>
              </a:rPr>
              <a:t>,</a:t>
            </a:r>
            <a:r>
              <a:rPr b="0" lang="zh-CN" sz="2800" spc="-1" strike="noStrike">
                <a:solidFill>
                  <a:srgbClr val="a38d77"/>
                </a:solidFill>
                <a:latin typeface="Arial Narrow"/>
              </a:rPr>
              <a:t>青脆新鲜</a:t>
            </a:r>
            <a:r>
              <a:rPr b="0" lang="en-US" sz="2800" spc="-1" strike="noStrike">
                <a:solidFill>
                  <a:srgbClr val="a38d77"/>
                </a:solidFill>
                <a:latin typeface="Arial Narrow"/>
              </a:rPr>
              <a:t>,</a:t>
            </a:r>
            <a:r>
              <a:rPr b="0" lang="zh-CN" sz="2800" spc="-1" strike="noStrike">
                <a:solidFill>
                  <a:srgbClr val="a38d77"/>
                </a:solidFill>
                <a:latin typeface="Arial Narrow"/>
              </a:rPr>
              <a:t>红红绿绿</a:t>
            </a:r>
            <a:r>
              <a:rPr b="0" lang="en-US" sz="2800" spc="-1" strike="noStrike">
                <a:solidFill>
                  <a:srgbClr val="a38d77"/>
                </a:solidFill>
                <a:latin typeface="Arial Narrow"/>
              </a:rPr>
              <a:t>,</a:t>
            </a:r>
            <a:r>
              <a:rPr b="0" lang="zh-CN" sz="2800" spc="-1" strike="noStrike">
                <a:solidFill>
                  <a:srgbClr val="a38d77"/>
                </a:solidFill>
                <a:latin typeface="Arial Narrow"/>
              </a:rPr>
              <a:t>眼观极佳的优点</a:t>
            </a:r>
            <a:r>
              <a:rPr b="0" lang="en-US" sz="2800" spc="-1" strike="noStrike">
                <a:solidFill>
                  <a:srgbClr val="a38d77"/>
                </a:solidFill>
                <a:latin typeface="Arial Narrow"/>
              </a:rPr>
              <a:t>,</a:t>
            </a:r>
            <a:r>
              <a:rPr b="0" lang="zh-CN" sz="2800" spc="-1" strike="noStrike">
                <a:solidFill>
                  <a:srgbClr val="a38d77"/>
                </a:solidFill>
                <a:latin typeface="Arial Narrow"/>
              </a:rPr>
              <a:t>不管是新鲜蔬菜瓜果的艳丽清新，还是乌賊尤鱼等众海鲜的肉感</a:t>
            </a:r>
            <a:r>
              <a:rPr b="0" lang="en-US" sz="2800" spc="-1" strike="noStrike">
                <a:solidFill>
                  <a:srgbClr val="a38d77"/>
                </a:solidFill>
                <a:latin typeface="Arial Narrow"/>
              </a:rPr>
              <a:t>,</a:t>
            </a:r>
            <a:r>
              <a:rPr b="0" lang="zh-CN" sz="2800" spc="-1" strike="noStrike">
                <a:solidFill>
                  <a:srgbClr val="a38d77"/>
                </a:solidFill>
                <a:latin typeface="Arial Narrow"/>
              </a:rPr>
              <a:t>都让食客在未饱口福之前大饱了眼福</a:t>
            </a:r>
            <a:r>
              <a:rPr b="0" lang="en-US" sz="2800" spc="-1" strike="noStrike">
                <a:solidFill>
                  <a:srgbClr val="a38d77"/>
                </a:solidFill>
                <a:latin typeface="Arial Narrow"/>
              </a:rPr>
              <a:t>,</a:t>
            </a:r>
            <a:r>
              <a:rPr b="0" lang="zh-CN" sz="2800" spc="-1" strike="noStrike">
                <a:solidFill>
                  <a:srgbClr val="a38d77"/>
                </a:solidFill>
                <a:latin typeface="Arial Narrow"/>
              </a:rPr>
              <a:t>猛咽口水。从口味来讲，酸辣是泰餐最大的特点。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600" name="" descr=""/>
          <p:cNvPicPr/>
          <p:nvPr/>
        </p:nvPicPr>
        <p:blipFill>
          <a:blip r:embed="rId1"/>
          <a:stretch/>
        </p:blipFill>
        <p:spPr>
          <a:xfrm>
            <a:off x="250920" y="5661000"/>
            <a:ext cx="165708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c0039"/>
                </a:solidFill>
                <a:latin typeface="Arial"/>
                <a:ea typeface="华文彩云"/>
              </a:rPr>
              <a:t>          </a:t>
            </a:r>
            <a:r>
              <a:rPr b="0" lang="zh-CN" sz="6600" spc="-1" strike="noStrike">
                <a:solidFill>
                  <a:srgbClr val="8c0039"/>
                </a:solidFill>
                <a:latin typeface="Arial"/>
                <a:ea typeface="华文彩云"/>
              </a:rPr>
              <a:t>法国菜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51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式菜肴的特点是：选料广泛（如蜗牛、鹅肝都是法式菜肴中的美味），加工精细，烹调考究，滋味有浓有淡，花色品种多；法式菜还比较讲究吃半熟或生食，如牛排、羊腿以半熟鲜嫩为特点，海味的蚝也可生吃，烧野鸭一般一六成熟即可食用等；法式菜肴重视调味，调味品种类多样。用酒来调味，什么样的菜选用什么酒都有严格的规定，如清汤用葡萄酒，海味品用白兰地酒，甜品用各式甜酒或白兰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3357720"/>
          </a:xfrm>
          <a:prstGeom prst="rect">
            <a:avLst/>
          </a:prstGeom>
          <a:ln w="0">
            <a:noFill/>
          </a:ln>
        </p:spPr>
      </p:pic>
      <p:pic>
        <p:nvPicPr>
          <p:cNvPr id="1605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097080" cy="265932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3"/>
          <a:stretch/>
        </p:blipFill>
        <p:spPr>
          <a:xfrm>
            <a:off x="5580000" y="433872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607" name="" descr=""/>
          <p:cNvPicPr/>
          <p:nvPr/>
        </p:nvPicPr>
        <p:blipFill>
          <a:blip r:embed="rId4"/>
          <a:stretch/>
        </p:blipFill>
        <p:spPr>
          <a:xfrm>
            <a:off x="5435640" y="260280"/>
            <a:ext cx="3529080" cy="2405160"/>
          </a:xfrm>
          <a:prstGeom prst="rect">
            <a:avLst/>
          </a:prstGeom>
          <a:ln w="0">
            <a:noFill/>
          </a:ln>
        </p:spPr>
      </p:pic>
      <p:sp>
        <p:nvSpPr>
          <p:cNvPr id="1608" name=""/>
          <p:cNvSpPr/>
          <p:nvPr/>
        </p:nvSpPr>
        <p:spPr>
          <a:xfrm>
            <a:off x="158760" y="415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0" y="437040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泰国菜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&gt;&gt;&gt;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2991240" y="8290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法国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rot="16200000">
            <a:off x="2951280" y="441000"/>
            <a:ext cx="576360" cy="360360"/>
          </a:xfrm>
          <a:custGeom>
            <a:avLst/>
            <a:gdLst>
              <a:gd name="textAreaLeft" fmla="*/ 192240 w 576360"/>
              <a:gd name="textAreaRight" fmla="*/ 494280 w 576360"/>
              <a:gd name="textAreaTop" fmla="*/ 1717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3372"/>
                </a:moveTo>
                <a:lnTo>
                  <a:pt x="10286" y="13372"/>
                </a:lnTo>
                <a:lnTo>
                  <a:pt x="10286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14" y="7200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4444200" y="569880"/>
            <a:ext cx="1094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^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意大利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700440" y="595008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日本料理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&gt;&gt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3999600" y="55368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谢谢观赏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24000" y="4581360"/>
            <a:ext cx="882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278520" y="4653000"/>
            <a:ext cx="278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The End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eec94"/>
                </a:solidFill>
                <a:latin typeface="Times New Roman"/>
                <a:ea typeface="华文彩云"/>
              </a:rPr>
              <a:t>中 华 美 食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6732720" y="3284640"/>
            <a:ext cx="127476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京菜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6372360" y="1773360"/>
            <a:ext cx="11300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湘菜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1042920" y="4581360"/>
            <a:ext cx="1347840" cy="9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川菜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3708360" y="2852640"/>
            <a:ext cx="132084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粤菜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324000" y="1773360"/>
            <a:ext cx="2260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满汉全席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3851280" y="4653000"/>
            <a:ext cx="1792440" cy="8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-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东北菜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3"/>
          <a:stretch/>
        </p:blipFill>
        <p:spPr>
          <a:xfrm>
            <a:off x="7559640" y="0"/>
            <a:ext cx="1584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66"/>
                </a:solidFill>
                <a:latin typeface="Arial"/>
                <a:ea typeface="方正舒体"/>
              </a:rPr>
              <a:t>满汉全席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满汉全席起兴于清代，是集满族与汉族菜点之精华而形成的历史上最著名的中华大宴。满汉全席是我国一种具有浓郁民族特色的巨型宴席。既有宫廷菜肴之特色，又有地方风味之精华，菜点精美，礼仪讲究，形成了引人注目的独特风格。满汉全席原是官场中举办宴会时满人和汉人合坐的一种全席。满汉全席上菜一般起码一百零八种，分三天吃完。满汉全席取材广泛，用料精细，山珍海味无所不包。烹饪技艺精湛，富有地方特色。突出满族菜点特殊风味，烧烤、火锅、涮锅几乎是不可缺少的菜点；同时又展示了汉族烹调的特色，扒、炸、炒、熘、烧等兼备，实乃中华菜系文化的瑰宝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451640" y="564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3311640" cy="2592720"/>
          </a:xfrm>
          <a:prstGeom prst="rect">
            <a:avLst/>
          </a:prstGeom>
          <a:ln w="0">
            <a:noFill/>
          </a:ln>
        </p:spPr>
      </p:pic>
      <p:pic>
        <p:nvPicPr>
          <p:cNvPr id="1549" name="" descr=""/>
          <p:cNvPicPr/>
          <p:nvPr/>
        </p:nvPicPr>
        <p:blipFill>
          <a:blip r:embed="rId3"/>
          <a:stretch/>
        </p:blipFill>
        <p:spPr>
          <a:xfrm>
            <a:off x="3851280" y="476280"/>
            <a:ext cx="3168720" cy="2530440"/>
          </a:xfrm>
          <a:prstGeom prst="rect">
            <a:avLst/>
          </a:prstGeom>
          <a:ln w="0">
            <a:noFill/>
          </a:ln>
        </p:spPr>
      </p:pic>
      <p:pic>
        <p:nvPicPr>
          <p:cNvPr id="1550" name="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1551" name="" descr=""/>
          <p:cNvPicPr/>
          <p:nvPr/>
        </p:nvPicPr>
        <p:blipFill>
          <a:blip r:embed="rId5"/>
          <a:stretch/>
        </p:blipFill>
        <p:spPr>
          <a:xfrm>
            <a:off x="3851280" y="364500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1552" name="" descr=""/>
          <p:cNvPicPr/>
          <p:nvPr/>
        </p:nvPicPr>
        <p:blipFill>
          <a:blip r:embed="rId6"/>
          <a:stretch/>
        </p:blipFill>
        <p:spPr>
          <a:xfrm>
            <a:off x="7488360" y="0"/>
            <a:ext cx="16556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66"/>
                </a:solidFill>
                <a:latin typeface="方正舒体"/>
                <a:ea typeface="方正舒体"/>
              </a:rPr>
              <a:t>北 京 菜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北京菜是由具北京风味的山东菜、民族清真菜和宫廷三种风味的菜肴组合而成。其形成的历史并不久远，但在全国乃至世界各地，均有广泛的影响，并享有盛誉。北京菜的基本特点是：选料讲究，刀工精湛，调味多变，火候严谨，讲究时令，注重佐膳。北京菜的“爆”法，变化多样，具体可分为油爆、酱爆、葱爆、水爆、汤爆等。口味讲究酥脆鲜嫩，清鲜爽口，保持原味，并且要求做到色、香、味、形、器五方面俱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">
            <a:hlinkClick r:id="" action="ppaction://hlinkshowjump?jump=nextslide"/>
          </p:cNvPr>
          <p:cNvSpPr/>
          <p:nvPr/>
        </p:nvSpPr>
        <p:spPr>
          <a:xfrm>
            <a:off x="6948360" y="5300640"/>
            <a:ext cx="1043280" cy="1042920"/>
          </a:xfrm>
          <a:custGeom>
            <a:avLst/>
            <a:gdLst>
              <a:gd name="textAreaLeft" fmla="*/ 65160 w 1043280"/>
              <a:gd name="textAreaRight" fmla="*/ 978120 w 104328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7" y="1350"/>
                </a:lnTo>
                <a:lnTo>
                  <a:pt x="1350" y="135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7" y="20250"/>
                </a:lnTo>
                <a:lnTo>
                  <a:pt x="20257" y="135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7" y="2025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7" h="21600">
                <a:moveTo>
                  <a:pt x="3760" y="3756"/>
                </a:moveTo>
                <a:lnTo>
                  <a:pt x="17847" y="10800"/>
                </a:lnTo>
                <a:lnTo>
                  <a:pt x="3760" y="17844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3313080" cy="273672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3"/>
          <a:stretch/>
        </p:blipFill>
        <p:spPr>
          <a:xfrm>
            <a:off x="4716360" y="907920"/>
            <a:ext cx="3743280" cy="273708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4"/>
          <a:stretch/>
        </p:blipFill>
        <p:spPr>
          <a:xfrm>
            <a:off x="1211400" y="3573360"/>
            <a:ext cx="3216240" cy="295128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5"/>
          <a:stretch/>
        </p:blipFill>
        <p:spPr>
          <a:xfrm>
            <a:off x="5867280" y="4437000"/>
            <a:ext cx="15289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5ffff"/>
                </a:solidFill>
                <a:latin typeface="Tahoma"/>
              </a:rPr>
              <a:t>湘菜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24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在长期的饮食文化和烹饪实践中，湖南人民创制了多种多样的菜肴。随着历史的前进，及烹饪技术的不断交流，逐步形成了以湘江流域、洞庭湖区和湘西山区三种地方风味为主的湖南菜系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2"/>
          <a:stretch/>
        </p:blipFill>
        <p:spPr>
          <a:xfrm>
            <a:off x="4859280" y="2305080"/>
            <a:ext cx="3600360" cy="292428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d47d"/>
                </a:solidFill>
                <a:latin typeface="Arial"/>
                <a:ea typeface="华文彩云"/>
              </a:rPr>
              <a:t>          </a:t>
            </a:r>
            <a:r>
              <a:rPr b="0" lang="zh-CN" sz="7200" spc="-1" strike="noStrike">
                <a:solidFill>
                  <a:srgbClr val="f7d47d"/>
                </a:solidFill>
                <a:latin typeface="Arial"/>
                <a:ea typeface="华文彩云"/>
              </a:rPr>
              <a:t>川菜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Arial"/>
              </a:rPr>
              <a:t>川菜以四川成都菜为代表，基本特点是酸、甜、麻、辣、香、油重、味浓，具有浓厚的四川乡土风味。四川菜的主要烹调方法是：炒、爆、烤、烧、煸等。菜肴色彩鲜艳、口味麻辣浓重，调料偏重于三辣（辣椒、胡椒、花椒）等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3240000" cy="3671640"/>
          </a:xfrm>
          <a:prstGeom prst="rect">
            <a:avLst/>
          </a:prstGeom>
          <a:ln w="0">
            <a:noFill/>
          </a:ln>
        </p:spPr>
      </p:pic>
      <p:pic>
        <p:nvPicPr>
          <p:cNvPr id="15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  <a:ea typeface="华文行楷"/>
              </a:rPr>
              <a:t>       </a:t>
            </a:r>
            <a:r>
              <a:rPr b="0" lang="zh-CN" sz="7200" spc="-1" strike="noStrike">
                <a:solidFill>
                  <a:srgbClr val="ffffff"/>
                </a:solidFill>
                <a:latin typeface="Arial Black"/>
                <a:ea typeface="华文行楷"/>
              </a:rPr>
              <a:t>粤菜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74804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南宋时受御厨随往羊城的影响，明清发展迅速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0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世纪随对外通商，吸取西餐的某些特长，粤菜也推向世界，仅美国纽约就有粤菜馆数千家。粤菜是以广州、潮州、东江三地的菜为代表而形成的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0" name="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27:44Z</dcterms:created>
  <dc:creator/>
  <dc:description/>
  <cp:keywords>世界 美食</cp:keywords>
  <dc:language>en-US</dc:language>
  <cp:lastModifiedBy/>
  <dcterms:modified xsi:type="dcterms:W3CDTF">2015-07-09T13:27:5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