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893-198F-4B0A-A814-A3557B24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929-2659-4AA7-8680-C330E366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235-39B3-4576-B969-C8503B98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E9B-3D67-4493-895B-142DEEDE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5D9-90DF-4855-A6BB-2FE16C2A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1D2-98AD-46E0-A48B-1698BBB6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84A8-EF34-42FB-874C-5C940FF6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C6C4-E092-4EC1-92C5-1A5C6A95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168-7546-41F8-AD73-3730E1A3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482-C6C9-423B-AAFA-71B332F7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219-9E2A-4491-A114-F343442A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657-A9EC-40F5-BD91-5911741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B7C90-E6CF-488F-B52E-1EFFDF5081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DB0F-56D6-47E0-BBD7-A1782781F7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 flipH="1"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iStock_000004435158Small.jpg"/>
          <p:cNvPicPr/>
          <p:nvPr/>
        </p:nvPicPr>
        <p:blipFill>
          <a:blip r:embed="rId1"/>
          <a:srcRect l="0" t="0" r="0" b="2327"/>
          <a:stretch/>
        </p:blipFill>
        <p:spPr>
          <a:xfrm>
            <a:off x="0" y="457200"/>
            <a:ext cx="4378320" cy="6400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3"/>
          <p:cNvSpPr/>
          <p:nvPr/>
        </p:nvSpPr>
        <p:spPr>
          <a:xfrm>
            <a:off x="2438280" y="304920"/>
            <a:ext cx="648036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808080"/>
                </a:solidFill>
                <a:latin typeface="Arial"/>
              </a:rPr>
              <a:t>               </a:t>
            </a:r>
            <a:r>
              <a:rPr b="0" lang="zh-CN" sz="4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27720" y="1192320"/>
            <a:ext cx="3286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5440" y="985680"/>
            <a:ext cx="518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思考的男士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图片素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39040" y="1917720"/>
            <a:ext cx="33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E9A4-806D-4160-8740-7979E16988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7-11T14:43:4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