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8813-889F-4C3C-B6C4-311E1BA43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9367-292F-4803-9D4F-2FF407381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664B-52DA-4698-B511-6FA235D9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D915-3388-4CF3-B155-841BBE3D3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CAB2A-D8AF-4FEF-8DB2-1AD9F4DE8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53A38-F733-4DBC-BADF-4902BC78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7513-52F4-458A-9ED8-3B8912666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729F2-C2FE-4370-898C-D36AA6AD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93BD-ED60-47B1-B2A5-C0CE249A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905E6-F2E4-493C-941E-C2976A3DB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F26B-52DF-4EA9-8A0A-843C0BBC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4789-5F7D-47AE-830A-27800F5F8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2B628-1A02-49DF-968A-8EBF7F92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AE2B-9ECD-408F-9C9D-D517471D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19D1E-335B-4DEC-B99C-FE3B891B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5252D-2BA8-4825-9C66-B3C833EAB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080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33240" y="1413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836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080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33240" y="3777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011-32CB-4FBF-B4CB-836081ED1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DFFA-9833-47D3-8C3A-28756A8C5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FB2F-6508-4825-AEB2-A685B245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2E8-9142-4C63-8CDD-BF5C103C3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261720"/>
            <a:ext cx="82296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BBD2-7F36-4318-B337-2FD65E0FA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6673-11B4-449C-A90B-6B338E2C0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400" y="3777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0524-1BCE-4F9F-88F0-CD52C0B36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400" y="1413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3777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A822-90AE-4D1B-80F1-B551091A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868A-5333-4DDD-8EF0-A5098AAB50AB}" type="datetime">
              <a:rPr b="0" lang="zh-TW" sz="1400" spc="-1" strike="noStrike">
                <a:solidFill>
                  <a:srgbClr val="ffffff"/>
                </a:solidFill>
                <a:latin typeface="Times New Roman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5480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D5CA6-99A2-434D-9F6C-27B7AEDEED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8316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63F57-2FEF-438F-BBAB-D1A0C57DD938}" type="datetime">
              <a:rPr b="0" lang="zh-TW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83160"/>
            <a:ext cx="289584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759720" y="638316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6AA2-A258-4EA3-B111-059FC8B0FD97}" type="slidenum"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zhongguofeng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052720" y="46544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27560" y="3286080"/>
            <a:ext cx="255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Arial"/>
              </a:rPr>
              <a:t>水墨中国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日期占位符 3"/>
          <p:cNvSpPr/>
          <p:nvPr/>
        </p:nvSpPr>
        <p:spPr>
          <a:xfrm>
            <a:off x="457200" y="6454800"/>
            <a:ext cx="213372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03604-FC94-45D8-8152-9D21CED5BF9A}" type="datetime">
              <a:rPr b="0" lang="zh-TW" sz="1400" spc="-1" strike="noStrike">
                <a:solidFill>
                  <a:srgbClr val="ffffff"/>
                </a:solidFill>
                <a:latin typeface="Arial"/>
              </a:rPr>
              <a:t>115/0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5"/>
          <p:cNvSpPr/>
          <p:nvPr/>
        </p:nvSpPr>
        <p:spPr>
          <a:xfrm>
            <a:off x="6759720" y="6454800"/>
            <a:ext cx="21333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08A5D-1945-40D9-8AC9-BF341757A08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617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单击此处添加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首页主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40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副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28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       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内页标题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6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中文黑体英文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Arial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）加粗；内页内容文字</a:t>
            </a:r>
            <a:r>
              <a:rPr b="0" lang="en-US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32</a:t>
            </a:r>
            <a:r>
              <a:rPr b="0" lang="zh-CN" sz="16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号（宋体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5591160"/>
            <a:ext cx="7688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3300"/>
                </a:solidFill>
                <a:uFillTx/>
                <a:latin typeface="Arial"/>
                <a:hlinkClick r:id="rId2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TW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zh-TW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TW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3300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7458-D34E-4272-9C8D-E0B20D3D54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5T09:57:00Z</dcterms:created>
  <dc:creator>Rhea</dc:creator>
  <dc:description>www.nordridesign.cn</dc:description>
  <cp:keywords>Powerbar Nordri</cp:keywords>
  <dc:language>en-US</dc:language>
  <cp:lastModifiedBy>jccook</cp:lastModifiedBy>
  <dcterms:modified xsi:type="dcterms:W3CDTF">2015-07-11T15:22:30Z</dcterms:modified>
  <cp:revision>29</cp:revision>
  <dc:subject/>
  <dc:title>水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