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301040" y="976320"/>
            <a:ext cx="28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实习的意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不要以为你偷懒的时候没有人看见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【总是把简单的事情做对】是新人最宝贵的素质之一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分析企业的招聘流程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发布渠道，招聘流程，用人周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读懂了流程，也就读懂了企业的价值观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企业真正的价值观沉淀在业务流程和绩效考核制度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学会在压力下快速成长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有压力学习效率最高效，有目标学习方向最明确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不是所有的安排你都能理解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把合理的安排当考验，把不合理的考验当磨练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把竞聘实习岗位当求职演习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选单位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投简历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来面试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适环境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过考评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你对什么充满未知，就多去琢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经验不是看你经历了多少，而是总结了多少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建立初步的职业化素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积极心态、主动沟通、学会总结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所谓职业化，就是学会控制自己的情绪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工作常常是一件苦逼的事情，但是你得会学会笑着面对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让实习单位成为你就业的跳板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中意的单位：有没有转正的机遇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中意单位：有没有潜在的人脉？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你眼睛里面要能看见事情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人和人表面上没有什么不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同的是同样的事情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你看见的和我看见的不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人脉，是经营出来的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你爸不是李刚，但李刚他爸也不是李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</a:rPr>
              <a:t>关于实习你应该留意的九个方面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我行吗？克服就业恐惧症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愿读服输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博士生，研究生，本科生，生生不息！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上一届，这一届，下一届，届届失业！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因为害怕未知的未来，所以假装在求学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一种人敢于面对现实并挑战它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一种人不断拖延最后期限企图被拯救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后者的命运永远是向前者臣服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了解自己的特长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行业：专业，发展，爱好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岗位：待遇，能力，个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最糟糕的不是做错选择，而是害怕犯错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没有人一开始就能全然了解自己，试错是人生的财富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不过如果一直在试错，就是人生的悲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学习职场的礼仪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倒开水，等电梯，接电话，穿服装，细节是魔鬼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习惯能在无意中拯救或毁灭你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每次上班都不迟到的人背后的故事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494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5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、观察企业对人的要求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42900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经验优先于学历，品质优先于能力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黑体"/>
              </a:rPr>
              <a:t>因为专业选择你，因为事情安排你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5:26:00Z</dcterms:created>
  <dc:creator>An</dc:creator>
  <dc:description/>
  <dc:language>en-US</dc:language>
  <cp:lastModifiedBy/>
  <dcterms:modified xsi:type="dcterms:W3CDTF">2015-07-11T14:30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