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D96-9C7E-46C5-9511-249FEA2F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752-5003-48DE-BF05-BB61035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825-0301-46B1-8DE7-D96E9763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CEA-1293-4798-976C-D2B85C33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657-6F8B-40A5-BF84-690E9A5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337-ECAC-4379-8AB8-BB2D6FF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E3D-9D96-4563-BF71-8716BAE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238-7F99-4A1C-80F6-8E8DD64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AB9-F8D0-4C7F-B3FC-4D44C50B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34F-8927-4E97-BF84-9B8B7D2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B13-A156-42E8-A44C-0F1BDF1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011-C896-46E8-8EFA-1D32741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AC1-1B98-40B1-BE31-0198A265EC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268F-2FC6-42E8-A982-A45A3427D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Stock_000002456857Medium.jpg"/>
          <p:cNvPicPr/>
          <p:nvPr/>
        </p:nvPicPr>
        <p:blipFill>
          <a:blip r:embed="rId1"/>
          <a:srcRect l="0" t="0" r="0" b="-34"/>
          <a:stretch/>
        </p:blipFill>
        <p:spPr>
          <a:xfrm>
            <a:off x="0" y="-22320"/>
            <a:ext cx="9147240" cy="68547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765000"/>
            <a:ext cx="9144000" cy="4272120"/>
            <a:chOff x="0" y="765000"/>
            <a:chExt cx="9144000" cy="4272120"/>
          </a:xfrm>
        </p:grpSpPr>
        <p:pic>
          <p:nvPicPr>
            <p:cNvPr id="43" name="Rectangle 23" descr=""/>
            <p:cNvPicPr/>
            <p:nvPr/>
          </p:nvPicPr>
          <p:blipFill>
            <a:blip r:embed="rId2"/>
            <a:stretch/>
          </p:blipFill>
          <p:spPr>
            <a:xfrm>
              <a:off x="584280" y="4075920"/>
              <a:ext cx="798048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Rectangle 23" descr=""/>
            <p:cNvPicPr/>
            <p:nvPr/>
          </p:nvPicPr>
          <p:blipFill>
            <a:blip r:embed="rId3"/>
            <a:stretch/>
          </p:blipFill>
          <p:spPr>
            <a:xfrm>
              <a:off x="0" y="765000"/>
              <a:ext cx="9144000" cy="40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2541960" y="503712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数字网络电子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4A1-306D-4326-8546-C9F1EC76F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11T14:43:3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