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99F-19D6-4764-BA2D-8492C367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C73-A482-4E7C-BC21-C85EB2AA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10D-E276-4291-9E72-97FA74E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EF2-566E-4269-89CD-9CDE90D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5CB3-BE4C-49AE-9DF6-48EBFA9E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7B28-A0F3-45FE-A8E5-125420F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664C-9842-49E7-B096-B509ACF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3F86-C1F2-4FFA-9C6A-5D87B6EA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E1E-3856-4EC4-AD7A-348EFE8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D843-12CB-4D51-A73A-F6CEBA51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295E-DB41-4465-9922-9C798453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A49-56F3-4185-A7C5-AFD4FBA7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3638-2AB7-4B73-B433-ECBCA311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D52-BA9E-49A9-8BE2-5095F419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0BBB-18F7-4210-8601-C371C7BC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D8AD-2FDB-4B28-9BF7-F2882909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E947-4B8E-421A-BCC9-1362BDB2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E14-6D05-4088-95DE-8A9EDAA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4C1-04A0-48FA-9659-B3214753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66A-FA50-4F54-9438-22DA9D75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618-2267-475C-8AE5-C3B0CD6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A1E-B017-4DFC-9090-84AE7DE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544-9926-4A27-999D-6D04AE2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17A-014C-4490-A895-6ED50D9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2486-CE7E-44DA-8E60-25328257D6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20C-B8AF-48F9-A141-2604A1D646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C:\Documents and Settings\Administrator\桌面\图片1 拷贝.png"/>
          <p:cNvPicPr/>
          <p:nvPr/>
        </p:nvPicPr>
        <p:blipFill>
          <a:blip r:embed="rId2"/>
          <a:stretch/>
        </p:blipFill>
        <p:spPr>
          <a:xfrm>
            <a:off x="906480" y="3154320"/>
            <a:ext cx="7429320" cy="86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92360" y="54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60280" y="4437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团队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7143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6760" y="202680"/>
            <a:ext cx="764388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37B-08DB-461B-AD81-75E90FD5B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3:42:13Z</dcterms:created>
  <dc:creator>An</dc:creator>
  <dc:description/>
  <dc:language>en-US</dc:language>
  <cp:lastModifiedBy/>
  <dcterms:modified xsi:type="dcterms:W3CDTF">2015-07-11T14:31:3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