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D75-C1B6-4B63-AD11-BCA5497C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2C5-0DF3-4E08-92FB-BF2400F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EED-312D-45C4-9302-6B5FBB3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F7B-8553-4188-BD8C-454F2C0D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1AA3-DA4D-4315-8AC1-C437CA89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2478-E78D-4782-BE7B-9C214E2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990-48F9-4FCE-BAEF-C5F91CC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C195-2657-48D3-800D-02E45C16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0ADF-0483-476C-85FE-EF4ECB5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993-60D6-49F4-9ADA-B36F1CC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5D62-FFBE-40E1-840A-AB3459A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2FB-121E-4AA4-95FB-B5D0541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E52-63D2-413E-BC12-310AA55A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24D-459E-4885-B47D-F86D535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C89F-FDA3-4A7C-AE87-8D9F50D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257D-092D-423C-8DD3-C20348FE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981-7303-4FB1-AFE5-44FE287B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036-272F-422E-B9B2-912581D9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7D2-0ED4-4687-B88B-EB82828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B03-88ED-4E9F-AFEE-D27096C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23A-646C-4C1E-AF2C-C8EEBA6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E44-151C-48A6-8DF3-ED66BB4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660-8A60-4E80-B7AA-A60AB52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BA9-E9A1-4F69-B1AC-E4ABE5E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8DC9-D4D4-4088-ADFB-FF406C1B514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6217-7D6E-4349-AB31-21B4B4ED66D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19051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战国策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076640"/>
            <a:ext cx="4606920" cy="3988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5320" y="1125360"/>
            <a:ext cx="33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唐雎不辱使命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免费下载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想要并吞安陵国，采用了哪些手段？最后得到什么结果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13372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先是采用“以大易小”的欺诈手段，被安陵君拒绝后，责备安陵君，并露威胁之意。唐雎则从容镇定，据理答辩。秦王大怒，用武力恐吓相威胁，但唐雎抗辩，步步紧逼，直至挺剑而起。秦王终于色挠，长跪而谢。唐雎不辱使命，捍卫了安陵国和自己的尊严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个故事可以看出秦王和唐雎各是什么样的人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：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981080"/>
            <a:ext cx="662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贪得无厌、奸诈狡猾，外强中干的封建统治者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雎：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3505320"/>
            <a:ext cx="624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容镇定，不畏强暴，具有凛然正气的外交家的形象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523880"/>
            <a:ext cx="716292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面对一心要吞并天下的强秦，唐雎，这位安陵小国的使者，从容镇定，不畏强暴，拼死一搏，使安陵国避过了一劫。唐雎确实不辱使命。我们要学习他为真理正义而斗争的凛然正气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8360" y="55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面句中的通假字，并写出它的本字和解释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905120"/>
            <a:ext cx="7391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悦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，故不错意也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仓鹰击于殿上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41640" y="266688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通“悦”，高兴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17960" y="426708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错通“措”，注意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3000" y="59436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仓通“苍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17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63634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句子中“以”字的用法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98108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大易小。（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有先生也。（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。（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以五十里之地存者。（    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80880" y="19810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10400" y="27874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61760" y="365760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24080" y="441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凭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957-A91D-4529-8620-099EFA2F12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路结构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457200"/>
            <a:ext cx="8305920" cy="268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可分为三个部分：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代唐雎出使秦国的原因。秦王企图吞并安陵遭到拒绝，秦王不悦，表明安陵危在旦夕。这是情节的开端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叙写唐雎出使秦国，与秦王进行针锋相对的斗争。这是情节的发展与高潮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侧面描写“秦王色挠，长跪而谢之”及他所明白的道理，反衬唐雎出使胜利，点明了主题。这部分是情节的结局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结构图示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85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2280" y="68580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安陵君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71600"/>
            <a:ext cx="363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五百里易安陵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24680" y="13716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愿终守之弗敢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905120"/>
            <a:ext cx="202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诱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34040" y="1905120"/>
            <a:ext cx="177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辨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590920"/>
            <a:ext cx="114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45360" y="25909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276720"/>
            <a:ext cx="3124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寡人轻寡人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480" y="327672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虽千里不易岂五百里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86200"/>
            <a:ext cx="248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凌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0080" y="3809880"/>
            <a:ext cx="204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容答辩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子之怒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94172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力恐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1520" y="44956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布衣之怒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6440" y="5235480"/>
            <a:ext cx="204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针锋相对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560" y="5562720"/>
            <a:ext cx="202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跪而谢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5840" y="6095880"/>
            <a:ext cx="156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7440" y="5967360"/>
            <a:ext cx="225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辱使命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752480"/>
            <a:ext cx="7621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657600"/>
            <a:ext cx="7621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876920"/>
            <a:ext cx="16765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6526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93a18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838080"/>
            <a:ext cx="838224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选自《战国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策》。《战国策》是西汉末年刘向根据战国时事的记录整理编辑的，共三十三篇，分东周、西周、秦、齐、楚、赵、魏、韩、燕、宋、卫、中山十二策。刘向（约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名更生，字子政，沛（今江苏沛县）人。西汉经学家、目录学家、文学家，汉皇族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15040" y="1111320"/>
            <a:ext cx="579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nì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1828800"/>
            <a:ext cx="861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guī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23840" y="2590920"/>
            <a:ext cx="107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xiǎn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6760" y="3276720"/>
            <a:ext cx="140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qiāng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9840" y="4006800"/>
            <a:ext cx="9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gǎo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9760" y="4692600"/>
            <a:ext cx="125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yōng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06280" y="5410080"/>
            <a:ext cx="9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náo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304920"/>
            <a:ext cx="5333760" cy="5799240"/>
            <a:chOff x="990720" y="304920"/>
            <a:chExt cx="5333760" cy="5799240"/>
          </a:xfrm>
        </p:grpSpPr>
        <p:sp>
          <p:nvSpPr>
            <p:cNvPr id="94" name=""/>
            <p:cNvSpPr/>
            <p:nvPr/>
          </p:nvSpPr>
          <p:spPr>
            <a:xfrm>
              <a:off x="990720" y="304920"/>
              <a:ext cx="5333760" cy="579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逆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傀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徒跣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抢地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缟素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庸夫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色挠（      ） 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9840" y="17524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9840" y="24382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040" y="320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99840" y="3962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99840" y="4571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9840" y="5333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7040" y="6019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a94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易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其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加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弗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说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错意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74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764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552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348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9320" y="4037040"/>
            <a:ext cx="355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“悦”，高兴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3760" y="472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7792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，放在心上。错，通“措”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广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逆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轻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与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岂直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怫然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公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布衣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376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1268280"/>
            <a:ext cx="191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744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37600" y="2590920"/>
            <a:ext cx="150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气助词，相当于“吗”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7184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64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93880" y="4648320"/>
            <a:ext cx="396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“先生”，古代对人的尊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096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免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徒跣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抢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庸夫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士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缟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3200" y="83664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744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8016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4344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1640" y="5867280"/>
            <a:ext cx="402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色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谢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谕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徒以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9400" y="160020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096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236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220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各段的段意。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8128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责备安陵君，并露威胁之意，唐雎从容镇定，据理答辩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面对秦王的武力恐吓，拼死抗争，捍卫安陵国和自己的尊严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70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被唐雎折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要求以五百里之地易五十里的魏属安陵小国，其用意是什么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采取的“以大易小”的欺诈手段，企图不战而并吞安陵国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4:12:05Z</dcterms:created>
  <dc:creator>An</dc:creator>
  <dc:description/>
  <dc:language>en-US</dc:language>
  <cp:lastModifiedBy/>
  <dcterms:modified xsi:type="dcterms:W3CDTF">2015-07-11T08:58:5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