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69FD-8613-4ABB-93B6-B03C3D16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5303-0135-485D-89ED-8C7B8F6F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F2DE-A4A1-4D8B-BCCB-ADEA8FF7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90C-B0F6-49B9-8F42-79064172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16A9-01B4-416A-9880-5088B4BF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31D-40D4-4892-BAEE-01E79F40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1AC5-093F-47AA-AFBC-4B7DC07C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E0EB-7509-4E36-A660-7443432C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8B64-6806-43C7-BC9E-82A7EC0E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9724-E842-4C6B-BBF6-91B33965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F8BD-979E-431A-AF53-D0B87577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C6E4-0548-496C-AEB9-63C6C060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0D77-55A8-4B47-8E0D-1B6445A2B99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BFF8-EC12-446C-B441-06946D1082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Girlonsofa.png"/>
          <p:cNvPicPr/>
          <p:nvPr/>
        </p:nvPicPr>
        <p:blipFill>
          <a:blip r:embed="rId1"/>
          <a:srcRect l="0" t="0" r="5" b="-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44280" y="5493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外国美女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27040" y="141300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DC46-7A86-4B99-A3E1-BCF4392B37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7-11T14:44:1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