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chimes.wav" ContentType="audio/x-wav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455-0AD8-4E86-A911-C2B967CA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BC1-2479-4BBB-8E4C-1D4B0B19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1D5-EE38-4B9E-AEF0-E6F77129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7F6-EFAA-4CDD-A144-47D137A6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BD3-95BF-4371-9329-91691B45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092D-4FB6-4FA5-9849-265B10FE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8F1E-B74C-4B60-A6D4-22F60FA6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C302-F5F4-463A-B988-4E3A51E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F037-F58D-4FCD-A279-B44B8CF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C6AA-B233-4A45-BD2D-DDAB46B3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4814-1647-4754-9482-BDE5BFAB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1C8-8E13-4509-AA91-49B4686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6177-FA4E-4C3E-98FF-8C7A324C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878A-D9E7-4D8B-AFAB-B6557A4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0694-472E-4065-9B00-91624E83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95B3-521D-466D-A9F8-B072D6C9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AE8-C7F6-461E-923D-4404BF66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D6A7-7498-4CE1-94DE-E9B4211E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D255-51C5-453F-B27F-5DC13FA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AEFF-0F51-464C-AD80-CC697F8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0013-A88F-436C-9FFE-D0E5F1A5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E3F0-84DD-4193-8476-9FA5A170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83F-066C-4199-A6CE-5EFC4137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EB91-AAA8-48F4-BA36-44A800FE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1775-0CB2-4045-9B8E-2D5B301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D8BA-823B-4093-9C2C-DD159AB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3BB9-5459-4CF0-8F0A-281704F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8832-D15B-4631-90BE-4022586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D2E3-BDB0-4FA0-9539-99D8B4A8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0B97-D0CD-421A-95C6-CCC2C851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8B96-F382-4685-8485-76091766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525B1-FA79-485E-B57C-BD1F636D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7C89-7E23-470F-A367-57C91C1C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5D0-5062-4086-AC2E-06FFB989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DC9D4-F684-48D9-B86C-B0FE07F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B478-58EF-40E6-A0BF-41478A12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0CA0C-45A2-4A43-8CF2-895057C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6857-57F8-4021-8BB5-AF8CAB8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0525-DA93-4F86-BF61-861A5EA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DB3A-39A1-4720-BFA5-0ABE120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B65B-C48E-4849-8229-303C3500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A817-6CCF-4D7E-94FF-6BD0EC4F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6F16-996C-4DA0-9FFE-B1E1EBD0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C6968-AFA4-4056-8780-9B0BDFD6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026-C3CF-4F31-9440-866F8ABE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05BC-683C-4C3C-99CF-04DDB832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6662-C353-4830-8E52-97A0CB05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F89F-593E-45B2-A6F1-7F631CEE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5A64-2B5F-4BD7-A830-2C2A0AB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F09E-862D-4E4F-8B38-8D07116F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74616-22EC-459C-9095-6520193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5B9A-1E57-4C81-A5E0-61D5ED7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9502-D6BD-45DF-B40E-2B7C9522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21D5-A68C-4BAD-B09B-E5708D86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0ED6-49DE-4EF1-A7DC-DC959EA5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1DE-69D6-4383-8F0D-47C0FE8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C611-7B9C-4068-ADA0-33201648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B4A-BE22-4C48-A271-43AD09D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69F-6D62-46C4-9756-81DCFBE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413-336B-4AFF-8ED2-42C5D4F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BD1B-CFF6-48A2-9762-B17B2BE8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C5DC-7256-48CD-AAF4-FC1746AE8F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45A-CC94-435A-9FE2-FC374557C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5DD-7E7B-4A04-94C1-A4B9DCA2B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FAB-8EE4-4D34-9878-119EFA2AF4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8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205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20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7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208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7,9,&#24187;&#28783;&#29255; 9" TargetMode="External"/><Relationship Id="rId3" Type="http://schemas.openxmlformats.org/officeDocument/2006/relationships/hyperlink" Target="264,10,&#24187;&#28783;&#29255; 10" TargetMode="External"/><Relationship Id="rId4" Type="http://schemas.openxmlformats.org/officeDocument/2006/relationships/hyperlink" Target="272,9,&#24187;&#28783;&#29255; 9" TargetMode="External"/><Relationship Id="rId5" Type="http://schemas.openxmlformats.org/officeDocument/2006/relationships/hyperlink" Target="272,9,&#24187;&#28783;&#29255; 9" TargetMode="Externa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6,4,&#24187;&#28783;&#29255; 4" TargetMode="External"/><Relationship Id="rId3" Type="http://schemas.openxmlformats.org/officeDocument/2006/relationships/hyperlink" Target="256,4,&#24187;&#28783;&#29255; 4" TargetMode="External"/><Relationship Id="rId4" Type="http://schemas.openxmlformats.org/officeDocument/2006/relationships/hyperlink" Target="256,4,&#24187;&#28783;&#29255; 4" TargetMode="Externa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56,3,&#24187;&#28783;&#29255; 3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F:\ppt\704a\小学四年级上册语文第十课幸福是什么PPT课件2\1-1305150Z504I0.jpg"/>
          <p:cNvPicPr/>
          <p:nvPr/>
        </p:nvPicPr>
        <p:blipFill>
          <a:blip r:embed="rId17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2320" y="90972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幸福是什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小可爱"/>
          <p:cNvPicPr/>
          <p:nvPr/>
        </p:nvPicPr>
        <p:blipFill>
          <a:blip r:embed="rId1"/>
          <a:stretch/>
        </p:blipFill>
        <p:spPr>
          <a:xfrm>
            <a:off x="3683160" y="2762280"/>
            <a:ext cx="5460840" cy="40957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1042920" y="6922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说一说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华文行楷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11280" y="177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智慧的女儿对三个青年说：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所以我是幸福的。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小可爱"/>
          <p:cNvPicPr/>
          <p:nvPr/>
        </p:nvPicPr>
        <p:blipFill>
          <a:blip r:embed="rId1"/>
          <a:stretch/>
        </p:blipFill>
        <p:spPr>
          <a:xfrm>
            <a:off x="3683160" y="2762280"/>
            <a:ext cx="5460840" cy="4095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179280" y="404640"/>
            <a:ext cx="91440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我想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　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妈妈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下班回到家，我赶紧给她端去一杯热水，妈妈笑了。我觉得幸福是（              ）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开始发卷子了，小红却发现自己的笔没水了。看着她那焦急的样子，我（              ），小红笑了。我觉得幸福是（      ）。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5400" spc="-1" strike="noStrike" u="sng">
                <a:solidFill>
                  <a:srgbClr val="cc0066"/>
                </a:solidFill>
                <a:uFillTx/>
                <a:latin typeface="Arial"/>
                <a:ea typeface="华文行楷"/>
              </a:rPr>
              <a:t>                    </a:t>
            </a:r>
            <a:r>
              <a:rPr b="0" lang="zh-CN" sz="5400" spc="-1" strike="noStrike" u="sng">
                <a:solidFill>
                  <a:srgbClr val="703dff"/>
                </a:solidFill>
                <a:uFillTx/>
                <a:latin typeface="Arial"/>
                <a:ea typeface="华文行楷"/>
              </a:rPr>
              <a:t>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200 w 539640"/>
              <a:gd name="textAreaRight" fmla="*/ 514440 w 53964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3440" y="238284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-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最后一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-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两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7-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加三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以上  加四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7FA28-B031-408C-8C51-EBEDB3147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秋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627120" y="1268280"/>
            <a:ext cx="851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共同奋斗，共同受苦，共同建造便是幸福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——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罗曼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罗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"/>
          <p:cNvSpPr/>
          <p:nvPr/>
        </p:nvSpPr>
        <p:spPr>
          <a:xfrm>
            <a:off x="395280" y="119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我会演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让我们小组合作，把这个童话故事演一演吧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328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小熊"/>
          <p:cNvPicPr/>
          <p:nvPr/>
        </p:nvPicPr>
        <p:blipFill>
          <a:blip r:embed="rId1"/>
          <a:stretch/>
        </p:blipFill>
        <p:spPr>
          <a:xfrm>
            <a:off x="3851280" y="2882880"/>
            <a:ext cx="4968720" cy="37321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634760" y="2133720"/>
            <a:ext cx="5947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彼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此   铁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锹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 树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杈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诧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异  小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麦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  义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务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898560" y="996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ff"/>
                </a:solidFill>
                <a:latin typeface="Arial"/>
                <a:ea typeface="华文行楷"/>
              </a:rPr>
              <a:t>我会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5B4F-542B-49F3-88D8-3294458BE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755640" y="1700280"/>
            <a:ext cx="7904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幸福要靠劳动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要靠很好地尽自己的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义务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做出对人们有益的事情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①    </a:t>
            </a:r>
            <a:r>
              <a:rPr b="0" lang="zh-CN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◆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 </a:t>
            </a:r>
            <a:r>
              <a:rPr b="0" lang="zh-CN" sz="18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324000" y="62064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给病人治病。他们恢复了健康，多么幸福。我能帮助别人，因而感到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006633"/>
                </a:solidFill>
                <a:latin typeface="Arial"/>
                <a:ea typeface="华文行楷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395280" y="476280"/>
            <a:ext cx="797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勤勤恳恳地工作，我的工作对别人都是有用的。我的劳动没有白费，所以我是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的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b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468360" y="3333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我耕地。地上长出麦子来。麦子养活了许多人。我的劳动也没有白费。我也感到很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幸福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0" y="1773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cc"/>
                </a:solidFill>
                <a:latin typeface="Arial"/>
                <a:ea typeface="华文行楷"/>
              </a:rPr>
              <a:t>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0" y="549360"/>
            <a:ext cx="914400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你能想象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第一个青年是怎样给病人治病的，病人恢复健康后会说什么？他会有什么样的感受？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2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第二个青年当花匠的时候会做些什么，人们会对他说什么？他又有什么样的感受？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3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你能想象第三个青年种的“麦子养活了很多人”的情景吗？</a:t>
            </a:r>
            <a:r>
              <a:rPr b="0" lang="en-US" sz="4000" spc="-1" strike="noStrike" u="sng">
                <a:solidFill>
                  <a:srgbClr val="66ffff"/>
                </a:solidFill>
                <a:uFillTx/>
                <a:latin typeface="Arial"/>
                <a:ea typeface="华文行楷"/>
                <a:hlinkClick r:id="rId4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pic_114943"/>
          <p:cNvPicPr/>
          <p:nvPr/>
        </p:nvPicPr>
        <p:blipFill>
          <a:blip r:embed="rId1"/>
          <a:stretch/>
        </p:blipFill>
        <p:spPr>
          <a:xfrm>
            <a:off x="1258920" y="0"/>
            <a:ext cx="62658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1908000" y="404640"/>
            <a:ext cx="5040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为什么智慧的女儿会来到三个牧童的身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90400" y="6237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8:27:51Z</dcterms:created>
  <dc:creator>An</dc:creator>
  <dc:description/>
  <dc:language>en-US</dc:language>
  <cp:lastModifiedBy/>
  <dcterms:modified xsi:type="dcterms:W3CDTF">2015-07-11T09:23:54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