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1E2-5D56-4B7D-9FAB-17BBAE9D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495-AFBC-4DB8-86A3-D3268A27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78A-F4EC-46D2-912E-F28F11AB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7521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5830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A2E9-58C4-42C3-B702-0A90BCEB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C46-C476-4E81-BAB3-93A1E0B9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A3D-FD69-4472-9BCC-AECD889D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E8F-27EB-40CE-A70B-B442A021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F17-4751-4F6D-A63E-75DC8AE7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071-E95C-4974-8341-D42D73DE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09E-F4E8-41CE-AF14-DE1EAD7F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5830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288-CF13-41A2-8723-A9CC1793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7521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5830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A17-E9FE-4C2E-B458-67A50EA5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1171-F8F5-4E3D-887E-C8246319E488}" type="slidenum">
              <a:rPr b="0" lang="zh-CN" sz="1400" spc="-1" strike="noStrike">
                <a:solidFill>
                  <a:srgbClr val="99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303120"/>
            <a:ext cx="687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汉仪小隶书简"/>
                <a:ea typeface="汉仪小隶书简"/>
              </a:rPr>
              <a:t>鲜花</a:t>
            </a:r>
            <a:r>
              <a:rPr b="0" lang="zh-CN" sz="4400" spc="-1" strike="noStrike">
                <a:solidFill>
                  <a:srgbClr val="ffffff"/>
                </a:solidFill>
                <a:latin typeface="汉仪小隶书简"/>
                <a:ea typeface="汉仪小隶书简"/>
              </a:rPr>
              <a:t>PPT</a:t>
            </a:r>
            <a:r>
              <a:rPr b="0" lang="en-US" sz="4400" spc="-1" strike="noStrike">
                <a:solidFill>
                  <a:srgbClr val="ffffff"/>
                </a:solidFill>
                <a:latin typeface="汉仪小隶书简"/>
                <a:ea typeface="汉仪小隶书简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5120" y="170172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5493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6:19:01Z</dcterms:created>
  <dc:creator>user</dc:creator>
  <dc:description/>
  <dc:language>en-US</dc:language>
  <cp:lastModifiedBy>jccook</cp:lastModifiedBy>
  <dcterms:modified xsi:type="dcterms:W3CDTF">2015-07-07T00:25:1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