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D75-87BC-4E21-A1AF-AB715525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258-46C6-4201-85C9-2BA0D190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5E1-15EF-41CF-8207-2B8C3B24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053-59D6-4203-B148-221F678A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A2A-6873-4488-945F-742692BB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350-29E0-4D37-A4FB-990609C1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C53-5E6E-436A-8D46-78DF2739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6DF-FD9C-4756-9989-97FC33CE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06D-8507-482F-9AC2-D5FF9ECF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C3B-AB3C-4D1F-A7A3-9AEBFD9D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49A-AC2E-48D2-A5DD-E298E9C3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F4F-9D59-4A93-9A91-8835CC38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9BC7-DF57-4BAE-990F-9E5D520AC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3573360"/>
            <a:ext cx="53294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44720" y="3789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42040" y="2565360"/>
            <a:ext cx="31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虚拟语气介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426960"/>
            <a:ext cx="8207640" cy="5954760"/>
          </a:xfrm>
          <a:prstGeom prst="rect">
            <a:avLst/>
          </a:prstGeom>
          <a:solidFill>
            <a:srgbClr val="ccffff">
              <a:alpha val="79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、主语从句中的虚拟语气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基本句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uggested, ordered, proposed, required, demanded, requested, insist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should)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important, necessary, natural, desirable, strange, advisable, imperative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pity, a shame, no wo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3933720"/>
            <a:ext cx="799308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考题点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s it necessary that he _____ the exam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s to t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must t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t is strange that he _____ you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ould tell    B. should tell   C. had told   D. has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544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426960"/>
            <a:ext cx="8352000" cy="6041520"/>
          </a:xfrm>
          <a:prstGeom prst="rect">
            <a:avLst/>
          </a:prstGeom>
          <a:solidFill>
            <a:srgbClr val="ccffff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、表语从句和同位语从句中的虚拟语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ion, proposal, idea, plan, order, advic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名词后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表语从句、同位语从句中要用虚拟语气，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词原形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idea is that we (should) get more people to attend the conferenc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make a proposal that we (should) hold a meeting next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797360"/>
            <a:ext cx="79930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考题点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suggestion that you _____ once more sounds reaso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ry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ries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must try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can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530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333360"/>
            <a:ext cx="8207280" cy="5922000"/>
          </a:xfrm>
          <a:prstGeom prst="rect">
            <a:avLst/>
          </a:prstGeom>
          <a:solidFill>
            <a:srgbClr val="00ffff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5.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虚拟语气在其它情况下的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1) wish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后的虚拟语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高考题点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 wish every family _____ a large house with a beautiful garden! (0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. h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will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ad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2) as if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从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高考题点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pencil is partly in a glass of water, it looks as if it ____.  (95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rea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s broke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were broken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ad been br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1844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40720" y="429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360-CADD-42AF-838B-92A29F45F0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333360"/>
            <a:ext cx="8064720" cy="6113520"/>
          </a:xfrm>
          <a:prstGeom prst="rect">
            <a:avLst/>
          </a:prstGeom>
          <a:solidFill>
            <a:srgbClr val="00ccff">
              <a:alpha val="76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3) It’s time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从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(high) time tha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的从句谓语动词要用过去式或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动词原形，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可省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time that the children went to bed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high time that the children should go to b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似的结构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rathe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ould rather you attended the meeting this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3716280"/>
            <a:ext cx="806472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考题点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Do you mind if I leave the window o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Well, I’d rather you 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do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id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wo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must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t’s half past eleven. It’s high time _____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e’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we’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we’re go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D. we 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9564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92720" y="551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476360" y="620640"/>
            <a:ext cx="4464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Good-bye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40464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549360"/>
            <a:ext cx="7991280" cy="5657760"/>
          </a:xfrm>
          <a:prstGeom prst="rect">
            <a:avLst/>
          </a:prstGeom>
          <a:solidFill>
            <a:srgbClr val="ccffff">
              <a:alpha val="76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1.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虚拟语气的考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、条件句中的虚拟语气的用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、条件句中虚拟语气的倒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、名词性从句中虚拟语气的用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、几种特殊结构中虚拟语气的用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、虚拟语气与陈述语气的判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89000"/>
            <a:ext cx="8064720" cy="6189480"/>
          </a:xfrm>
          <a:prstGeom prst="rect">
            <a:avLst/>
          </a:prstGeom>
          <a:solidFill>
            <a:srgbClr val="00ffff">
              <a:alpha val="77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、陈述语气与虚拟语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典型例题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The volleyball match will be put off if it _____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r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rai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rain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is raine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--- Would you have called her up _____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Yes, but I _____ busy doing my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ad it been … w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if it was … 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if it had been … had b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if it were …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1341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205000"/>
            <a:ext cx="777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该句为陈述语气，因为主句用的是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will be put off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。真实条件句主句为将来时，从句用一般现在时代将来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941720"/>
            <a:ext cx="7777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问句中用的是虚拟语气，主句用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would have called,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从句中与过去相反的动词形式为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had don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；答句中表示的是真实的情况，所以该用陈述语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189000"/>
            <a:ext cx="8424720" cy="6189480"/>
          </a:xfrm>
          <a:prstGeom prst="rect">
            <a:avLst/>
          </a:prstGeom>
          <a:solidFill>
            <a:srgbClr val="ccffcc">
              <a:alpha val="76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、条件句中的虚拟语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11280" y="1397160"/>
          <a:ext cx="8137440" cy="4590720"/>
        </p:xfrm>
        <a:graphic>
          <a:graphicData uri="http://schemas.openxmlformats.org/drawingml/2006/table">
            <a:tbl>
              <a:tblPr/>
              <a:tblGrid>
                <a:gridCol w="1440000"/>
                <a:gridCol w="2952720"/>
                <a:gridCol w="3744720"/>
              </a:tblGrid>
              <a:tr h="101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华文中宋"/>
                          <a:ea typeface="华文中宋"/>
                        </a:rPr>
                        <a:t>时  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ff"/>
                          </a:solidFill>
                          <a:latin typeface="华文中宋"/>
                          <a:ea typeface="华文中宋"/>
                        </a:rPr>
                        <a:t>If </a:t>
                      </a: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华文中宋"/>
                          <a:ea typeface="华文中宋"/>
                        </a:rPr>
                        <a:t>条件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华文中宋"/>
                          <a:ea typeface="华文中宋"/>
                        </a:rPr>
                        <a:t>主           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华文中宋"/>
                          <a:ea typeface="华文中宋"/>
                        </a:rPr>
                        <a:t>过  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华文中宋"/>
                          <a:ea typeface="华文中宋"/>
                        </a:rPr>
                        <a:t>现  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uld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华文中宋"/>
                          <a:ea typeface="华文中宋"/>
                        </a:rPr>
                        <a:t>将  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uld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re to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uld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333360"/>
            <a:ext cx="8280360" cy="6125760"/>
          </a:xfrm>
          <a:prstGeom prst="rect">
            <a:avLst/>
          </a:prstGeom>
          <a:solidFill>
            <a:srgbClr val="99ccff">
              <a:alpha val="80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高考题点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You didn’t let me drive. If we ____ in turn, you ____ so t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6 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drove…didn’t 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d driven…wouldn’t have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drove…wouldn’t 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driving…wouldn’t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It is hard for me to imagine what I would be doing today if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 in love, at the age of seven, with the Melinda Co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 in my hometown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ouldn’t have fal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d not f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hould 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were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210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前句用的是陈述语气，表示过去发生的事；后句是虚拟语气，表示与过去相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765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35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522936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6600ff"/>
                </a:solidFill>
                <a:latin typeface="Times New Roman"/>
              </a:rPr>
              <a:t>该句主句中用的是与现在相反的虚拟语气，而从句中使用的是与过去相反的虚拟语气。全句意思为“如果我不在七岁时迷上了我们家乡的 </a:t>
            </a:r>
            <a:r>
              <a:rPr b="0" lang="en-US" sz="2200" spc="-1" strike="noStrike">
                <a:solidFill>
                  <a:srgbClr val="6600ff"/>
                </a:solidFill>
                <a:latin typeface="Times New Roman"/>
              </a:rPr>
              <a:t>Melinda Cox Library</a:t>
            </a:r>
            <a:r>
              <a:rPr b="0" lang="zh-CN" sz="2200" spc="-1" strike="noStrike">
                <a:solidFill>
                  <a:srgbClr val="6600ff"/>
                </a:solidFill>
                <a:latin typeface="Times New Roman"/>
              </a:rPr>
              <a:t>，我真不能想象我今天会做什么。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426960"/>
            <a:ext cx="8353440" cy="5728320"/>
          </a:xfrm>
          <a:prstGeom prst="rect">
            <a:avLst/>
          </a:prstGeom>
          <a:solidFill>
            <a:srgbClr val="00ffff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、条件句中虚拟语气的特殊情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66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虚拟倒装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ve happened, _____ as far as the river ban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ad walked far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if Bob should walk fa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ad Bob walked far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if Bob walked fa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2)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错综条件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_____ him yesterday, you _____ what to do n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ed … would 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d asked … would hav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sked him … 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ad asked … would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55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333360"/>
            <a:ext cx="8136000" cy="5991120"/>
          </a:xfrm>
          <a:prstGeom prst="rect">
            <a:avLst/>
          </a:prstGeom>
          <a:solidFill>
            <a:srgbClr val="00ccff">
              <a:alpha val="74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3)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介词短语表条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for your help, we couldn’t have succ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wouldn’t have reached the agreement so easily without that common 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4)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情境中提供虚拟语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here were no gravitational force, objects would not fall to the ground when dro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wasn’t feeling very well. Otherwise she wouldn’t have left the meeting so e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高考题点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 ____ yet, otherwise he would have phoned me. (N 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ustn’t have arr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shouldn’t have ar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can’t have arr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needn’t have ar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333360"/>
            <a:ext cx="8064360" cy="5960880"/>
          </a:xfrm>
          <a:prstGeom prst="rect">
            <a:avLst/>
          </a:prstGeom>
          <a:solidFill>
            <a:srgbClr val="ccffcc">
              <a:alpha val="77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5)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比较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if only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only 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i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“只有”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l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表示“如果……就好了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l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可用于陈述语气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ake up only if the alarm clock r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有闹钟响了，我才会醒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ly the alarm clock had rung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时闹钟响了，就好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ly he comes early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愿他早点回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260280"/>
            <a:ext cx="8207640" cy="6103440"/>
          </a:xfrm>
          <a:prstGeom prst="rect">
            <a:avLst/>
          </a:prstGeom>
          <a:solidFill>
            <a:srgbClr val="00ffff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名词性从句中的虚拟语气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、宾语从句中的虚拟语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动词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, order, demand, request, desire, insist, require, decide, determine, advise, recommend, deserve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得提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需用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的虚拟语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3141720"/>
            <a:ext cx="8136000" cy="32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考题点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acher demanded that the work _____ before 4 o’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finished    B. be finished    C. should finish    D.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--- What did the doctor say about your mother’s ill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He suggested that she _____ an operation a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ust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ad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78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5373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0:46:41Z</dcterms:created>
  <dc:creator>An</dc:creator>
  <dc:description/>
  <dc:language>en-US</dc:language>
  <cp:lastModifiedBy/>
  <dcterms:modified xsi:type="dcterms:W3CDTF">2015-07-11T14:33:40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