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A42-AE48-46E4-B155-B8654CA6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AF5-3FAF-4018-BF01-C18E987F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B8B-27B6-43DF-8C6A-72D5F5C9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744-B6B8-4051-92B3-38E8C87B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622-0562-4E0B-9D5D-AE39F8EE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07D-CAD5-4734-802C-985D18B1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158-1112-4616-9502-CF3C752F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B20-C658-44EC-A411-52CF813D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D5D-93FF-4834-BAB1-5D38BD06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AB6-2E38-47F1-B5A2-2D3EC039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76B-D6F2-4F92-8D3F-5D00BC2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6CB-DDBD-469E-BC9D-1D9CDFD9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DAA3-D986-4DDB-B4B5-A37F0ACFEFE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4" descr="LZ001131.jpg"/>
          <p:cNvPicPr/>
          <p:nvPr/>
        </p:nvPicPr>
        <p:blipFill>
          <a:blip r:embed="rId1"/>
          <a:srcRect l="0" t="0" r="0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文字方塊 5" descr=""/>
          <p:cNvPicPr/>
          <p:nvPr/>
        </p:nvPicPr>
        <p:blipFill>
          <a:blip r:embed="rId2"/>
          <a:stretch/>
        </p:blipFill>
        <p:spPr>
          <a:xfrm>
            <a:off x="-304920" y="-566640"/>
            <a:ext cx="10277640" cy="3054240"/>
          </a:xfrm>
          <a:prstGeom prst="rect">
            <a:avLst/>
          </a:prstGeom>
          <a:ln w="0">
            <a:noFill/>
          </a:ln>
        </p:spPr>
      </p:pic>
      <p:sp>
        <p:nvSpPr>
          <p:cNvPr id="43" name="文字方塊 6"/>
          <p:cNvSpPr/>
          <p:nvPr/>
        </p:nvSpPr>
        <p:spPr>
          <a:xfrm>
            <a:off x="2354760" y="42552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</a:rPr>
              <a:t>穀仕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字方塊 7"/>
          <p:cNvSpPr/>
          <p:nvPr/>
        </p:nvSpPr>
        <p:spPr>
          <a:xfrm>
            <a:off x="6806160" y="28584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</a:rPr>
              <a:t>好的開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字方塊 8"/>
          <p:cNvSpPr/>
          <p:nvPr/>
        </p:nvSpPr>
        <p:spPr>
          <a:xfrm>
            <a:off x="7797600" y="5934240"/>
            <a:ext cx="1338840" cy="916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y Leon 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952303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6" descr="42-23707348.jpg"/>
          <p:cNvPicPr/>
          <p:nvPr/>
        </p:nvPicPr>
        <p:blipFill>
          <a:blip r:embed="rId1"/>
          <a:srcRect l="0" t="0" r="1101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文字方塊 5"/>
          <p:cNvSpPr/>
          <p:nvPr/>
        </p:nvSpPr>
        <p:spPr>
          <a:xfrm>
            <a:off x="0" y="201600"/>
            <a:ext cx="9144000" cy="6311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品牌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穀仕達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ood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標語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好的開始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通路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松青、頂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價格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1000g/$2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目標對象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職業婦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溝通重點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德國原裝進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頂級品中最划算的價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強調價值消費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注重生活風格，不跟隨流行、不人云亦云的生活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內含天然風乾水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推廣方式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上架促銷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直覺聯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陳列方式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陳列情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早安手冊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品牌理念傳達及再購、客戶忠誠計畫、客戶轉介計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異業結盟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相關飲品業者、運動休閒業者、健康相關產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其他通路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郵購及團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圖片 7" descr="42-23469756.jpg"/>
          <p:cNvPicPr/>
          <p:nvPr/>
        </p:nvPicPr>
        <p:blipFill>
          <a:blip r:embed="rId2"/>
          <a:stretch/>
        </p:blipFill>
        <p:spPr>
          <a:xfrm>
            <a:off x="7072200" y="214200"/>
            <a:ext cx="1785960" cy="257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"/>
          <p:cNvSpPr/>
          <p:nvPr/>
        </p:nvSpPr>
        <p:spPr>
          <a:xfrm>
            <a:off x="34920" y="0"/>
            <a:ext cx="21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r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圖片 9" descr="DWF15-910031.jpg"/>
          <p:cNvPicPr/>
          <p:nvPr/>
        </p:nvPicPr>
        <p:blipFill>
          <a:blip r:embed="rId1"/>
          <a:stretch/>
        </p:blipFill>
        <p:spPr>
          <a:xfrm>
            <a:off x="4978440" y="357120"/>
            <a:ext cx="4165560" cy="609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4000"/>
              </a:srgbClr>
            </a:outerShdw>
          </a:effectLst>
        </p:spPr>
      </p:pic>
      <p:pic>
        <p:nvPicPr>
          <p:cNvPr id="51" name="圖片 10" descr="42-22845497.jpg"/>
          <p:cNvPicPr/>
          <p:nvPr/>
        </p:nvPicPr>
        <p:blipFill>
          <a:blip r:embed="rId2"/>
          <a:stretch/>
        </p:blipFill>
        <p:spPr>
          <a:xfrm>
            <a:off x="6431040" y="2779560"/>
            <a:ext cx="2719440" cy="4084920"/>
          </a:xfrm>
          <a:prstGeom prst="rect">
            <a:avLst/>
          </a:prstGeom>
          <a:ln w="0">
            <a:noFill/>
          </a:ln>
        </p:spPr>
      </p:pic>
      <p:sp>
        <p:nvSpPr>
          <p:cNvPr id="52" name="文字方塊 11"/>
          <p:cNvSpPr/>
          <p:nvPr/>
        </p:nvSpPr>
        <p:spPr>
          <a:xfrm>
            <a:off x="964080" y="857160"/>
            <a:ext cx="3158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陳列位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天陳列於水果區之間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概念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原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直接聯想天然健康、吸引目光、吸引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水果餐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內含風乾水果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陳列方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選擇一小粗麻布袋，於袋內最下方置放泡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再鋪一層麥穗，於麥穗上放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6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麥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早安小冊使用細麻繩綁於麥片袋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早安小冊內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品牌介紹、製作流程、早安健康操、集點活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會員活動、建議搭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合作廠商廣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介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朋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填寫朋友地址，本公司寄送試吃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等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內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異業合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搭配牛奶果汁等廠商，做綑綁銷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麥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一加崙裝牛奶兩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399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參與贊助自然養生社團活動、相關書籍出版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動配合、單車健行活動贊助早餐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網路活動操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口碑操作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B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粉絲專業、專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0" y="0"/>
            <a:ext cx="764388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6720" y="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圖片 5" descr="42-22224244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"/>
          <p:cNvSpPr/>
          <p:nvPr/>
        </p:nvSpPr>
        <p:spPr>
          <a:xfrm>
            <a:off x="512280" y="571680"/>
            <a:ext cx="23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頂好惠康超市總店數約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708920" y="928800"/>
            <a:ext cx="17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松青超市目前約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4200" y="1714680"/>
          <a:ext cx="5429160" cy="3786120"/>
        </p:xfrm>
        <a:graphic>
          <a:graphicData uri="http://schemas.openxmlformats.org/drawingml/2006/table">
            <a:tbl>
              <a:tblPr/>
              <a:tblGrid>
                <a:gridCol w="2475000"/>
                <a:gridCol w="892080"/>
                <a:gridCol w="1120680"/>
                <a:gridCol w="94140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超市店數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松青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+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頂好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預計鋪貨數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每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製作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需求數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單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假設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小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粗麻布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OP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兩式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早安小冊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5*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早安小冊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設計完稿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裝飾物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稻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適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填充物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泡棉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通路指定展示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未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未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未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總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30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萬內完成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2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64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其他宣傳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非必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B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專屬粉絲專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自行操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abyHome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團購操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團購優惠及抽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ahoo &amp; Pchome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網購操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抽成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愛評網口碑操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試吃駐點媽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北中南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人，薪資支出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圖片 4" descr="81695-03.jpg"/>
          <p:cNvPicPr/>
          <p:nvPr/>
        </p:nvPicPr>
        <p:blipFill>
          <a:blip r:embed="rId1"/>
          <a:srcRect l="0" t="2750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文字方塊 6"/>
          <p:cNvSpPr/>
          <p:nvPr/>
        </p:nvSpPr>
        <p:spPr>
          <a:xfrm>
            <a:off x="1032120" y="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</a:rPr>
              <a:t>陳列及展示之視覺示意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26:21Z</dcterms:created>
  <dc:creator>linda</dc:creator>
  <dc:description/>
  <dc:language>en-US</dc:language>
  <cp:lastModifiedBy>linda</cp:lastModifiedBy>
  <dcterms:modified xsi:type="dcterms:W3CDTF">2015-07-09T12:50:15Z</dcterms:modified>
  <cp:revision>36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