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92AE-D4E5-4EC4-B60B-066D6BBA6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DEB5-15DD-4ACA-934C-17403F71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03E0-9298-4C45-860F-E02DF2B1D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A014-07D1-4C15-9FB3-0BF1F17F5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2DE3-8F0B-4D33-98C7-DCE279D0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B86A-D789-45F5-88FB-8FC9E6DF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F9AB-ED69-43A2-9DC7-BC1A5FEF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5A4D-44EF-4BF5-8777-9E517F04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1A8D-C5BA-49F0-BC8F-BE9A68B6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1413-84C2-4821-A12D-6C4E4BA2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9736-16C6-4E17-949A-A09AB632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5EF3-5240-46DA-B09C-25EECC9C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8C89-2F66-4773-B8EA-26F0D5D3BA4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01D9-0AC4-46B7-8634-2E05C2A49C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lunwen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位论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5880" y="5638680"/>
            <a:ext cx="7256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论文ppt模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lunwe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71880" y="17334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9E10-09D2-406F-B392-8F7C26CADA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dc:language>en-US</dc:language>
  <cp:lastModifiedBy>bianxiaoxiang</cp:lastModifiedBy>
  <dcterms:modified xsi:type="dcterms:W3CDTF">2015-07-06T07:41:30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