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232D-401C-443A-BF31-49EA374C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2B7E-40B5-4818-BA1D-FCF03CF1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CE7-2BA4-42C5-8CD2-D5499C96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CA2-A8C2-42B9-82C0-7D2931C8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D1E7-1732-41B0-8BDA-94F698C4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6C0-9579-4D24-BC56-E3CD113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4F49-8608-48A1-BC09-DE10861D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AF9E-561C-4C34-A0F7-DF7DF0CF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133D-02E4-46C0-BFAD-01802F7F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8C6C-0C9B-420A-9B5D-F553BF42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EB07-1ED0-4EE2-A03C-BF2A0383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026-5D6A-4F1E-B22E-4D9654BE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091C-4C95-437B-B14F-BD18809B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F695-E06D-4527-80E4-0B083AAB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9EBD-B663-4283-9DAE-E6049F1F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5BC-735E-459E-B9F5-820D4F8B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39B5-93C1-408B-A9C6-11F03EC3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49F-4C78-4B0F-A59D-46F0D1A6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54D-9BBD-4BC7-A1F7-B303462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2FB-4509-4C0B-8B35-B230BC81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0A1-46F9-45AB-A419-8C457B81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429-7589-418F-BF13-D8EB8F81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EFB-F4B2-4030-B511-AA69CD5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0B2-89EB-488F-8629-3F106FC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A72-C471-452A-B0E0-A4BAE100BF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D4DA-A452-41E7-94F6-B4093FD4B4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运动健身</a:t>
            </a: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9933ff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Women’s Fitness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Printable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ints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Transition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宋体"/>
              </a:rPr>
              <a:t>Elements Page</a:t>
            </a:r>
            <a:endParaRPr b="0" lang="en-US" sz="4400" spc="-1" strike="noStrike">
              <a:solidFill>
                <a:srgbClr val="9933ff"/>
              </a:solidFill>
              <a:latin typeface="Arial"/>
            </a:endParaRPr>
          </a:p>
        </p:txBody>
      </p:sp>
      <p:pic>
        <p:nvPicPr>
          <p:cNvPr id="90" name="jogging_woman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91" name="jogging_woman_print" descr=""/>
          <p:cNvPicPr/>
          <p:nvPr/>
        </p:nvPicPr>
        <p:blipFill>
          <a:blip r:embed="rId2"/>
          <a:stretch/>
        </p:blipFill>
        <p:spPr>
          <a:xfrm>
            <a:off x="1600200" y="434340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92" name="woman_stretching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2895480" cy="2317680"/>
          </a:xfrm>
          <a:prstGeom prst="rect">
            <a:avLst/>
          </a:prstGeom>
          <a:ln w="0">
            <a:noFill/>
          </a:ln>
        </p:spPr>
      </p:pic>
      <p:pic>
        <p:nvPicPr>
          <p:cNvPr id="93" name="women_jogging" descr=""/>
          <p:cNvPicPr/>
          <p:nvPr/>
        </p:nvPicPr>
        <p:blipFill>
          <a:blip r:embed="rId4"/>
          <a:stretch/>
        </p:blipFill>
        <p:spPr>
          <a:xfrm>
            <a:off x="4648320" y="434340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79640" y="1339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3:27:30Z</dcterms:created>
  <dc:creator>eclipse</dc:creator>
  <dc:description/>
  <dc:language>en-US</dc:language>
  <cp:lastModifiedBy>微软用户</cp:lastModifiedBy>
  <dcterms:modified xsi:type="dcterms:W3CDTF">2015-07-05T06:18:52Z</dcterms:modified>
  <cp:revision>6</cp:revision>
  <dc:subject/>
  <dc:title>Women’s Fitn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