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0EE-C9FB-4308-965C-105C6357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367056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F10-35A5-4150-8CCD-0F932560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6705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8600" y="36705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0D8-D805-432E-96BA-ABC5A873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0600" y="6854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74520" y="6854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36705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0600" y="36705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74520" y="36705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A2C-B060-4E33-B0DD-AA7C0BF6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67D5-7A67-48A9-915C-794F6BBF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6854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DC5A-F412-4879-941E-08C54579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D264-036A-46D8-9A1B-A4EE7FA2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8929-60BA-4036-A5BB-6CE06E69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0428-6CE0-474B-9F48-E18DC58E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10F7-102C-488D-B2D5-FC519839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36705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2C32-C52B-4A98-AEF5-919F515E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6854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1BE-D52B-4480-AA04-1CCA009D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88600" y="36705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95C1-8242-4817-8D2D-7D1F8AE9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67056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7110-36DC-4650-BA60-94C654F3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367056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77BD-F7FC-4B03-80F3-CA192777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36705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88600" y="36705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9720-E164-4A2C-80CE-8D081B34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20600" y="6854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74520" y="6854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36705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20600" y="36705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74520" y="36705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5CCD-605C-451E-A4BE-64820D94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762-476D-40A3-8EC1-6B391E2A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56E-06DF-4F4D-A1B3-E5B211D6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2AFF-6002-4071-AA3D-2F562007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24F-DBD1-402A-900E-2F087037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36705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BE6-BD85-4A39-8F09-BD8B9BF6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8600" y="36705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997-1ADF-48F7-83BB-C9E8DD14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67056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4EFB-C2FB-44E3-AD81-33D8EAD3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6854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Garamond BookCondense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Garamond Book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Garamond BookCondense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Garamond BookCondense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Garamond BookCondense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Garamond BookCondense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3D5F-C946-41C3-98A0-1E75A032F9D1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066320" y="60948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23623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8080"/>
                </a:solidFill>
                <a:latin typeface="Garamond BookCondensed"/>
              </a:rPr>
              <a:t>Click to edit the title text format</a:t>
            </a:r>
            <a:endParaRPr b="1" lang="en-US" sz="8000" spc="-1" strike="noStrike">
              <a:solidFill>
                <a:srgbClr val="808080"/>
              </a:solidFill>
              <a:latin typeface="Garamond Book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01DA-3CE6-4C7F-B23B-4E999FF8EDD2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 BookCondensed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Garamond BookCondensed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Garamond BookCondense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 BookCondensed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Garamond BookCondensed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Garamond BookCondense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 BookCondensed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Garamond BookCondensed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Garamond BookCondense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 BookCondensed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Garamond BookCondensed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Garamond Book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 BookCondensed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Garamond BookCondensed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Garamond Book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 BookCondensed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Garamond Book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hop57233999.taobao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reble_clef" descr=""/>
          <p:cNvPicPr/>
          <p:nvPr/>
        </p:nvPicPr>
        <p:blipFill>
          <a:blip r:embed="rId2"/>
          <a:stretch/>
        </p:blipFill>
        <p:spPr>
          <a:xfrm>
            <a:off x="-1176480" y="-1143000"/>
            <a:ext cx="3919680" cy="8991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362320"/>
            <a:ext cx="82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8080"/>
                </a:solidFill>
                <a:latin typeface="Garamond BookCondensed"/>
                <a:ea typeface="宋体"/>
              </a:rPr>
              <a:t>音乐课课件</a:t>
            </a:r>
            <a:r>
              <a:rPr b="1" lang="zh-CN" sz="6600" spc="-1" strike="noStrike">
                <a:solidFill>
                  <a:srgbClr val="808080"/>
                </a:solidFill>
                <a:latin typeface="Garamond BookCondensed"/>
                <a:ea typeface="宋体"/>
              </a:rPr>
              <a:t>PPT</a:t>
            </a:r>
            <a:r>
              <a:rPr b="1" lang="zh-CN" sz="6600" spc="-1" strike="noStrike">
                <a:solidFill>
                  <a:srgbClr val="808080"/>
                </a:solidFill>
                <a:latin typeface="Garamond BookCondensed"/>
                <a:ea typeface="宋体"/>
              </a:rPr>
              <a:t>模板</a:t>
            </a:r>
            <a:endParaRPr b="1" lang="en-US" sz="6600" spc="-1" strike="noStrike">
              <a:solidFill>
                <a:srgbClr val="808080"/>
              </a:solidFill>
              <a:latin typeface="Garamond BookCondense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15640" y="34290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aramond BookCondensed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Garamond BookCondensed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Garamond Book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emi" descr=""/>
          <p:cNvPicPr/>
          <p:nvPr/>
        </p:nvPicPr>
        <p:blipFill>
          <a:blip r:embed="rId2"/>
          <a:stretch/>
        </p:blipFill>
        <p:spPr>
          <a:xfrm>
            <a:off x="838080" y="571680"/>
            <a:ext cx="8305920" cy="6057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Your Topic Goes Here</a:t>
            </a: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  <a:ea typeface="宋体"/>
              </a:rPr>
              <a:t>Your subtopics go here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pic>
        <p:nvPicPr>
          <p:cNvPr id="89" name="treble_clef" descr=""/>
          <p:cNvPicPr/>
          <p:nvPr/>
        </p:nvPicPr>
        <p:blipFill>
          <a:blip r:embed="rId3"/>
          <a:stretch/>
        </p:blipFill>
        <p:spPr>
          <a:xfrm>
            <a:off x="-1373040" y="-380880"/>
            <a:ext cx="335412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full" descr=""/>
          <p:cNvPicPr/>
          <p:nvPr/>
        </p:nvPicPr>
        <p:blipFill>
          <a:blip r:embed="rId2"/>
          <a:stretch/>
        </p:blipFill>
        <p:spPr>
          <a:xfrm>
            <a:off x="838080" y="571680"/>
            <a:ext cx="8305920" cy="6057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Your Topic Goes Here</a:t>
            </a: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  <a:ea typeface="宋体"/>
              </a:rPr>
              <a:t>Your subtopics go here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pic>
        <p:nvPicPr>
          <p:cNvPr id="93" name="treble_clef" descr=""/>
          <p:cNvPicPr/>
          <p:nvPr/>
        </p:nvPicPr>
        <p:blipFill>
          <a:blip r:embed="rId3"/>
          <a:stretch/>
        </p:blipFill>
        <p:spPr>
          <a:xfrm>
            <a:off x="-1373040" y="-380880"/>
            <a:ext cx="3354120" cy="7696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46200" y="1339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23623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8080"/>
                </a:solidFill>
                <a:latin typeface="Garamond BookCondensed"/>
                <a:ea typeface="宋体"/>
              </a:rPr>
              <a:t>elements</a:t>
            </a:r>
            <a:endParaRPr b="1" lang="en-US" sz="8000" spc="-1" strike="noStrike">
              <a:solidFill>
                <a:srgbClr val="808080"/>
              </a:solidFill>
              <a:latin typeface="Garamond Book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8960" y="32763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  <a:ea typeface="宋体"/>
              </a:rPr>
              <a:t>www.animationfactory.com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pic>
        <p:nvPicPr>
          <p:cNvPr id="97" name="full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98" name="semi" descr=""/>
          <p:cNvPicPr/>
          <p:nvPr/>
        </p:nvPicPr>
        <p:blipFill>
          <a:blip r:embed="rId2"/>
          <a:stretch/>
        </p:blipFill>
        <p:spPr>
          <a:xfrm>
            <a:off x="6172200" y="4572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99" name="sheet_music_qx" descr=""/>
          <p:cNvPicPr/>
          <p:nvPr/>
        </p:nvPicPr>
        <p:blipFill>
          <a:blip r:embed="rId3"/>
          <a:stretch/>
        </p:blipFill>
        <p:spPr>
          <a:xfrm>
            <a:off x="3467160" y="48006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00" name="treble_clef" descr=""/>
          <p:cNvPicPr/>
          <p:nvPr/>
        </p:nvPicPr>
        <p:blipFill>
          <a:blip r:embed="rId4"/>
          <a:stretch/>
        </p:blipFill>
        <p:spPr>
          <a:xfrm>
            <a:off x="0" y="0"/>
            <a:ext cx="1611360" cy="3695760"/>
          </a:xfrm>
          <a:prstGeom prst="rect">
            <a:avLst/>
          </a:prstGeom>
          <a:ln w="0">
            <a:noFill/>
          </a:ln>
        </p:spPr>
      </p:pic>
      <p:pic>
        <p:nvPicPr>
          <p:cNvPr id="101" name="bass_clef" descr=""/>
          <p:cNvPicPr/>
          <p:nvPr/>
        </p:nvPicPr>
        <p:blipFill>
          <a:blip r:embed="rId5"/>
          <a:stretch/>
        </p:blipFill>
        <p:spPr>
          <a:xfrm>
            <a:off x="6905520" y="304920"/>
            <a:ext cx="2238480" cy="2895480"/>
          </a:xfrm>
          <a:prstGeom prst="rect">
            <a:avLst/>
          </a:prstGeom>
          <a:ln w="0">
            <a:noFill/>
          </a:ln>
        </p:spPr>
      </p:pic>
      <p:pic>
        <p:nvPicPr>
          <p:cNvPr id="102" name="notes_fly_out_hg_wht" descr=""/>
          <p:cNvPicPr/>
          <p:nvPr/>
        </p:nvPicPr>
        <p:blipFill>
          <a:blip r:embed="rId6"/>
          <a:stretch/>
        </p:blipFill>
        <p:spPr>
          <a:xfrm>
            <a:off x="1828800" y="53352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1692360" y="4869000"/>
            <a:ext cx="619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  <a:ea typeface="黑体"/>
              </a:rPr>
              <a:t>青苹果出品   必属精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  <a:ea typeface="宋体"/>
              </a:rPr>
              <a:t>http://www.docin.com/cuiyul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ccff"/>
                </a:solidFill>
                <a:latin typeface="Arial"/>
                <a:ea typeface="宋体"/>
              </a:rPr>
              <a:t>淘宝店：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shop57233999.taoba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771640" y="1125360"/>
            <a:ext cx="398484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13:07:09Z</dcterms:created>
  <dc:creator>eclipse</dc:creator>
  <dc:description/>
  <dc:language>en-US</dc:language>
  <cp:lastModifiedBy>微软用户</cp:lastModifiedBy>
  <dcterms:modified xsi:type="dcterms:W3CDTF">2015-07-05T06:58:16Z</dcterms:modified>
  <cp:revision>20</cp:revision>
  <dc:subject/>
  <dc:title>Target Pat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