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98BE-AA91-451C-B23A-CF277AE78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DDB2-0C8C-4EAF-ABCE-4D734979C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DD7A-0330-4D82-98D2-DD449B0B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9EC9-9304-4727-91C1-EE936ECD6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D4FD8-DAAF-414F-B171-CA54388CB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983D-E723-4918-A39F-27260EC2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734A-C4C0-4989-89D2-E8386643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BA0F-7B71-4B51-9A66-74C40144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4D3B1-8621-4FBF-9BFE-5A74A446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3EAE-7B35-4061-936F-B63038E4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661B-D07F-420E-B8B0-1E7F04F1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62EF-9B50-43C3-AC35-C60901E63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3E6B-38AA-4999-93EF-B21C06999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B3ED8-4867-4C29-BC61-FCFC94F92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9268C-FB21-4BA7-BE70-C84C21944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8AE3-A87B-40D8-A433-690151718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57364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995720" y="68580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19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57364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4995720" y="3790440"/>
            <a:ext cx="23061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EE19-344C-4151-ABA5-8356B68C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275A-DAE1-4272-AA12-420FED63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3B25-24EA-44A6-9EE5-8BECB77BA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DF3E-D4F7-4671-BCD0-CC324F6A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16292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FAE9-0642-4C99-AF0B-E380E66A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A618-9262-4B2A-B37B-05E129FD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22480" y="379044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C64D-5105-4DEA-9255-9F54F6FD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1920" y="32760"/>
            <a:ext cx="71629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22480" y="685800"/>
            <a:ext cx="349524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1920" y="3790440"/>
            <a:ext cx="71629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081F-293B-449A-B696-CC6D5BEFA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49089-2706-4C4F-A81A-EE6E3CB6C860}" type="slidenum">
              <a:rPr b="1" lang="en-US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4343400"/>
            <a:ext cx="1601640" cy="251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3885840"/>
            <a:ext cx="70102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A6A7-5B28-49A9-8181-84BAAEECB901}" type="slidenum">
              <a:rPr b="0" lang="en-US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animationfactory.com/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image" Target="../media/image1.jpeg"/><Relationship Id="rId7" Type="http://schemas.openxmlformats.org/officeDocument/2006/relationships/image" Target="../media/image6.gif"/><Relationship Id="rId8" Type="http://schemas.openxmlformats.org/officeDocument/2006/relationships/image" Target="../media/image7.gif"/><Relationship Id="rId9" Type="http://schemas.openxmlformats.org/officeDocument/2006/relationships/image" Target="../media/image2.gif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3885840"/>
            <a:ext cx="70102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音乐</a:t>
            </a: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en-US" sz="4400" spc="-1" strike="noStrike">
                <a:solidFill>
                  <a:srgbClr val="ffffff"/>
                </a:solidFill>
                <a:latin typeface="Impact"/>
                <a:ea typeface="宋体"/>
              </a:rPr>
              <a:t>模板素材</a:t>
            </a:r>
            <a:endParaRPr b="0" lang="en-US" sz="44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440" y="4495320"/>
            <a:ext cx="70102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幻灯片之家 </a:t>
            </a:r>
            <a:r>
              <a:rPr b="1" lang="zh-CN" sz="1800" spc="-1" strike="noStrike">
                <a:solidFill>
                  <a:srgbClr val="ffffff"/>
                </a:solidFill>
                <a:latin typeface="Tahoma"/>
              </a:rPr>
              <a:t>http://www.eeppt.com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16292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Impact"/>
                <a:ea typeface="宋体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7162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Tahoma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8870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rId3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58672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5"/>
          <a:stretch/>
        </p:blipFill>
        <p:spPr>
          <a:xfrm>
            <a:off x="26668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4267080" y="1219320"/>
            <a:ext cx="1447920" cy="1085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7315200" y="2895480"/>
            <a:ext cx="1666800" cy="33339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8"/>
          <a:stretch/>
        </p:blipFill>
        <p:spPr>
          <a:xfrm>
            <a:off x="5181480" y="2895480"/>
            <a:ext cx="1943280" cy="33339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9"/>
          <a:stretch/>
        </p:blipFill>
        <p:spPr>
          <a:xfrm>
            <a:off x="2895480" y="2895480"/>
            <a:ext cx="2124360" cy="3333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755640" y="1343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7:21:11Z</dcterms:created>
  <dc:creator>Administrator</dc:creator>
  <dc:description/>
  <dc:language>en-US</dc:language>
  <cp:lastModifiedBy>微软用户</cp:lastModifiedBy>
  <dcterms:modified xsi:type="dcterms:W3CDTF">2015-07-05T06:58:51Z</dcterms:modified>
  <cp:revision>16</cp:revision>
  <dc:subject/>
  <dc:title>Skylin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