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507-390E-46D8-9F0C-B2143B69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208-BFBC-43EF-8938-A832524B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42A-6925-491E-9C83-FA126340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E55-B4AC-4CF3-90B4-FB845D9A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9029-C37C-4B10-87BB-2E64B399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9F9F-189F-4B9F-8821-E7934F88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9772-4B4F-48D5-851E-DAC88840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234C-155C-4171-863C-00238574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DF22-0E05-4B27-9743-AA771D2B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39FA-6F91-4E21-85E1-C6D0ABE9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9D16-ABE5-41E2-BD30-649830BA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433-0B98-44C1-A5BB-E689DC6A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A71C-FFD6-460C-8472-9D365E18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217A-F339-48E3-8AD4-3345167E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D9A3-3ADE-4E68-BAA0-44557030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506A-5949-44F3-BC2B-4168DD03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2898-0082-4224-BF3A-20DF6C65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5DE-3DE7-4778-8F0D-B0A035E7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120-66CC-4FB2-BED1-F62C5308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FE8F-4FAB-4435-AA1B-72400519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9C0-F012-471F-AADD-2A78F6E4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5C4-A836-4D0B-9F35-FCF8311D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D22-A088-4389-BF72-6EA06E74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60F-2EA3-417D-B4A3-874BC0E4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6BC6-775E-4478-A282-5388D3393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3FE9-288D-4211-847F-1FF7E80CC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i.baidu.com/mahengliang/album/item/0daf28085c40dfc963d986c5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blog.doule.net/user1/91/archives/2005/236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0daf28085c40dfc963d986c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907920"/>
            <a:ext cx="6266160" cy="4869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1193760" y="5223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6064200" y="624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>
            <a:hlinkClick r:id="" action="ppaction://hlinkshowjump?jump=nextslide"/>
          </p:cNvPr>
          <p:cNvSpPr/>
          <p:nvPr/>
        </p:nvSpPr>
        <p:spPr>
          <a:xfrm>
            <a:off x="311040" y="6118200"/>
            <a:ext cx="936720" cy="503280"/>
          </a:xfrm>
          <a:custGeom>
            <a:avLst/>
            <a:gdLst>
              <a:gd name="textAreaLeft" fmla="*/ 31320 w 936720"/>
              <a:gd name="textAreaRight" fmla="*/ 905400 w 936720"/>
              <a:gd name="textAreaTop" fmla="*/ 31320 h 503280"/>
              <a:gd name="textAreaBottom" fmla="*/ 47196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839" y="1350"/>
                </a:lnTo>
                <a:lnTo>
                  <a:pt x="1350" y="135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839" y="20250"/>
                </a:lnTo>
                <a:lnTo>
                  <a:pt x="38839" y="135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839" y="2025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189" h="21600">
                <a:moveTo>
                  <a:pt x="13051" y="3756"/>
                </a:moveTo>
                <a:lnTo>
                  <a:pt x="27138" y="10800"/>
                </a:lnTo>
                <a:lnTo>
                  <a:pt x="13051" y="17844"/>
                </a:lnTo>
                <a:close/>
              </a:path>
            </a:pathLst>
          </a:cu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1116000" y="5734080"/>
            <a:ext cx="1513080" cy="360360"/>
          </a:xfrm>
          <a:prstGeom prst="wedgeRectCallout">
            <a:avLst>
              <a:gd name="adj1" fmla="val -17365"/>
              <a:gd name="adj2" fmla="val 5220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句子赏  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2916360" y="5734080"/>
            <a:ext cx="1366560" cy="358920"/>
          </a:xfrm>
          <a:prstGeom prst="wedgeRectCallout">
            <a:avLst>
              <a:gd name="adj1" fmla="val -24217"/>
              <a:gd name="adj2" fmla="val 477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0"/>
          <p:cNvSpPr/>
          <p:nvPr/>
        </p:nvSpPr>
        <p:spPr>
          <a:xfrm>
            <a:off x="4500720" y="5734080"/>
            <a:ext cx="1296720" cy="360360"/>
          </a:xfrm>
          <a:prstGeom prst="wedgeRectCallout">
            <a:avLst>
              <a:gd name="adj1" fmla="val -37759"/>
              <a:gd name="adj2" fmla="val 359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伟人生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1"/>
          <p:cNvSpPr/>
          <p:nvPr/>
        </p:nvSpPr>
        <p:spPr>
          <a:xfrm>
            <a:off x="6012000" y="5734080"/>
            <a:ext cx="1296720" cy="358920"/>
          </a:xfrm>
          <a:prstGeom prst="wedgeRectCallout">
            <a:avLst>
              <a:gd name="adj1" fmla="val -21115"/>
              <a:gd name="adj2" fmla="val 4734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怀念 的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2484360" y="5877000"/>
            <a:ext cx="7164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5"/>
          <p:cNvSpPr/>
          <p:nvPr/>
        </p:nvSpPr>
        <p:spPr>
          <a:xfrm>
            <a:off x="5580000" y="5877000"/>
            <a:ext cx="14436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7"/>
          <p:cNvSpPr/>
          <p:nvPr/>
        </p:nvSpPr>
        <p:spPr>
          <a:xfrm>
            <a:off x="4140360" y="587700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8"/>
          <p:cNvSpPr/>
          <p:nvPr/>
        </p:nvSpPr>
        <p:spPr>
          <a:xfrm>
            <a:off x="7164360" y="5877000"/>
            <a:ext cx="14436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nt"/>
          <p:cNvSpPr/>
          <p:nvPr/>
        </p:nvSpPr>
        <p:spPr>
          <a:xfrm>
            <a:off x="8028000" y="5661000"/>
            <a:ext cx="512640" cy="576360"/>
          </a:xfrm>
          <a:custGeom>
            <a:avLst/>
            <a:gdLst>
              <a:gd name="textAreaLeft" fmla="*/ 168480 w 512640"/>
              <a:gd name="textAreaRight" fmla="*/ 345240 w 512640"/>
              <a:gd name="textAreaTop" fmla="*/ 269280 h 576360"/>
              <a:gd name="textAreaBottom" fmla="*/ 362160 h 576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3080" y="630864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76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46760" y="26028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夜的工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5076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23680" y="3141720"/>
            <a:ext cx="12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所有的心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装进你心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你的胸前写下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是这样的人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718920" y="4869000"/>
            <a:ext cx="12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所有的爱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握在你手中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你的眼睛诉说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是这样的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196800" y="3213000"/>
            <a:ext cx="114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用多想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用多问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就是这样的人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3105360" y="4869000"/>
            <a:ext cx="86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能不想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能不问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真心有多重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爱有多深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738680" y="83196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所有的伤痛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藏在你身上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你的微笑回答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是这样的人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用多想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用多问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 就是这样的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662800" y="3860640"/>
            <a:ext cx="1250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能不想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能不问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真心有多重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爱有多深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所有的生命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归还世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们在心 里呼唤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是这样的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200412222018307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3809880" cy="2705040"/>
          </a:xfrm>
          <a:prstGeom prst="rect">
            <a:avLst/>
          </a:prstGeom>
          <a:ln w="0">
            <a:noFill/>
          </a:ln>
        </p:spPr>
      </p:pic>
      <p:pic>
        <p:nvPicPr>
          <p:cNvPr id="107" name="9.wma" descr=""/>
          <p:cNvPicPr/>
          <p:nvPr/>
        </p:nvPicPr>
        <p:blipFill>
          <a:blip r:embed="rId4"/>
          <a:stretch/>
        </p:blipFill>
        <p:spPr>
          <a:xfrm>
            <a:off x="7812000" y="3645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08" name="plant"/>
          <p:cNvSpPr/>
          <p:nvPr/>
        </p:nvSpPr>
        <p:spPr>
          <a:xfrm>
            <a:off x="7885080" y="5589720"/>
            <a:ext cx="1089000" cy="792000"/>
          </a:xfrm>
          <a:custGeom>
            <a:avLst/>
            <a:gdLst>
              <a:gd name="textAreaLeft" fmla="*/ 357840 w 1089000"/>
              <a:gd name="textAreaRight" fmla="*/ 733320 w 1089000"/>
              <a:gd name="textAreaTop" fmla="*/ 370080 h 792000"/>
              <a:gd name="textAreaBottom" fmla="*/ 497880 h 792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16659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4000" y="162864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那是一间高大的宫殿式的房子，室内陈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529800" y="2276640"/>
            <a:ext cx="108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张不大写字台，两把小转椅，一盏台灯，如此而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135480" y="162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极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783120" y="162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简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7551360" y="1633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nt"/>
          <p:cNvSpPr/>
          <p:nvPr/>
        </p:nvSpPr>
        <p:spPr>
          <a:xfrm>
            <a:off x="7667640" y="4581360"/>
            <a:ext cx="1008000" cy="1295640"/>
          </a:xfrm>
          <a:custGeom>
            <a:avLst/>
            <a:gdLst>
              <a:gd name="textAreaLeft" fmla="*/ 331200 w 1008000"/>
              <a:gd name="textAreaRight" fmla="*/ 678960 w 1008000"/>
              <a:gd name="textAreaTop" fmla="*/ 605520 h 1295640"/>
              <a:gd name="textAreaBottom" fmla="*/ 814320 h 12956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54064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总理招呼我坐在他的写字台对面，要我陪他审阅我整理的记录稿，其实是备咨询的意思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450560" y="191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一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781080" y="2421000"/>
            <a:ext cx="16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句地审阅，看完一句就用笔在那一句后面画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55640" y="2924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小圆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784680" y="3429000"/>
            <a:ext cx="15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边思索，有时停笔想一想，有时问我一两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679840" y="401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975560" y="29242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不是浏览一遍就算了，而是一边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7164360" y="2421000"/>
            <a:ext cx="1079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1042920" y="2924280"/>
            <a:ext cx="1728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nt"/>
          <p:cNvSpPr/>
          <p:nvPr/>
        </p:nvSpPr>
        <p:spPr>
          <a:xfrm>
            <a:off x="7596360" y="4724280"/>
            <a:ext cx="936360" cy="1225800"/>
          </a:xfrm>
          <a:custGeom>
            <a:avLst/>
            <a:gdLst>
              <a:gd name="textAreaLeft" fmla="*/ 307800 w 936360"/>
              <a:gd name="textAreaRight" fmla="*/ 630720 w 936360"/>
              <a:gd name="textAreaTop" fmla="*/ 572760 h 1225800"/>
              <a:gd name="textAreaBottom" fmla="*/ 770400 h 12258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50920" y="981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夜很静，周总理一句一句地审阅着文件，那不是普通的浏览，他一边看一边思索：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0"/>
          <p:cNvSpPr txBox="1"/>
          <p:nvPr/>
        </p:nvSpPr>
        <p:spPr>
          <a:xfrm>
            <a:off x="250920" y="33336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请同学们写一写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Text Box 29"/>
          <p:cNvSpPr/>
          <p:nvPr/>
        </p:nvSpPr>
        <p:spPr>
          <a:xfrm>
            <a:off x="395280" y="4076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啊，这就是我们中华人民共和国的总理。我看见了他一夜的工作。他每个夜晚都是这样工作的。你们见过这样的总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nt"/>
          <p:cNvSpPr/>
          <p:nvPr/>
        </p:nvSpPr>
        <p:spPr>
          <a:xfrm>
            <a:off x="8172360" y="4941720"/>
            <a:ext cx="585720" cy="1081080"/>
          </a:xfrm>
          <a:custGeom>
            <a:avLst/>
            <a:gdLst>
              <a:gd name="textAreaLeft" fmla="*/ 192600 w 585720"/>
              <a:gd name="textAreaRight" fmla="*/ 394560 w 585720"/>
              <a:gd name="textAreaTop" fmla="*/ 505080 h 1081080"/>
              <a:gd name="textAreaBottom" fmla="*/ 679320 h 1081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20050830195900331"/>
          <p:cNvPicPr/>
          <p:nvPr/>
        </p:nvPicPr>
        <p:blipFill>
          <a:blip r:embed="rId2"/>
          <a:stretch/>
        </p:blipFill>
        <p:spPr>
          <a:xfrm>
            <a:off x="755640" y="981000"/>
            <a:ext cx="7920000" cy="5265720"/>
          </a:xfrm>
          <a:prstGeom prst="rect">
            <a:avLst/>
          </a:prstGeom>
          <a:ln w="0">
            <a:noFill/>
          </a:ln>
        </p:spPr>
      </p:pic>
      <p:sp>
        <p:nvSpPr>
          <p:cNvPr id="137" name="WordArt 8"/>
          <p:cNvSpPr txBox="1"/>
          <p:nvPr/>
        </p:nvSpPr>
        <p:spPr>
          <a:xfrm>
            <a:off x="250920" y="765000"/>
            <a:ext cx="33843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伟人生平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8" name="plant"/>
          <p:cNvSpPr/>
          <p:nvPr/>
        </p:nvSpPr>
        <p:spPr>
          <a:xfrm>
            <a:off x="8028000" y="5589720"/>
            <a:ext cx="585720" cy="647640"/>
          </a:xfrm>
          <a:custGeom>
            <a:avLst/>
            <a:gdLst>
              <a:gd name="textAreaLeft" fmla="*/ 192600 w 585720"/>
              <a:gd name="textAreaRight" fmla="*/ 394560 w 585720"/>
              <a:gd name="textAreaTop" fmla="*/ 302760 h 647640"/>
              <a:gd name="textAreaBottom" fmla="*/ 407160 h 6476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E49-4728-409D-B2E5-6546D54A977A}" type="slidenum">
              <a:t>7</a:t>
            </a:fld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87138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                                        周总理确诊癌症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                                       病情恶化，体重只有三十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斤，仍坚持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                           会见菲律宾总统马科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                                      会见西哈努克亲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                                        会见罗马尼亚党政代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                                      第四次手术前向邓小平同志交待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                                    第五次手术后，总理对妻子说，死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留骨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                                   询问台湾近况，不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钟就昏迷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深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       生前最后一句话：“你们去照顾别的病人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那里更需要你们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上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                总理永远离开了我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179280" y="0"/>
            <a:ext cx="2718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最后的日子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plant"/>
          <p:cNvSpPr/>
          <p:nvPr/>
        </p:nvSpPr>
        <p:spPr>
          <a:xfrm>
            <a:off x="7956720" y="5300640"/>
            <a:ext cx="728640" cy="936720"/>
          </a:xfrm>
          <a:custGeom>
            <a:avLst/>
            <a:gdLst>
              <a:gd name="textAreaLeft" fmla="*/ 239400 w 728640"/>
              <a:gd name="textAreaRight" fmla="*/ 490680 w 728640"/>
              <a:gd name="textAreaTop" fmla="*/ 437760 h 936720"/>
              <a:gd name="textAreaBottom" fmla="*/ 588600 h 936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u=3511588821,411910552&amp;fm=0&amp;gp=16"/>
          <p:cNvPicPr/>
          <p:nvPr/>
        </p:nvPicPr>
        <p:blipFill>
          <a:blip r:embed="rId2"/>
          <a:stretch/>
        </p:blipFill>
        <p:spPr>
          <a:xfrm>
            <a:off x="5292720" y="3429000"/>
            <a:ext cx="4032360" cy="28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780d58efa840b90ffcfa3c24"/>
          <p:cNvPicPr/>
          <p:nvPr/>
        </p:nvPicPr>
        <p:blipFill>
          <a:blip r:embed="rId3"/>
          <a:stretch/>
        </p:blipFill>
        <p:spPr>
          <a:xfrm>
            <a:off x="684360" y="260280"/>
            <a:ext cx="4592520" cy="5832720"/>
          </a:xfrm>
          <a:prstGeom prst="rect">
            <a:avLst/>
          </a:prstGeom>
          <a:ln w="0">
            <a:noFill/>
          </a:ln>
        </p:spPr>
      </p:pic>
      <p:sp>
        <p:nvSpPr>
          <p:cNvPr id="149" name="WordArt 8"/>
          <p:cNvSpPr txBox="1"/>
          <p:nvPr/>
        </p:nvSpPr>
        <p:spPr>
          <a:xfrm rot="5400000">
            <a:off x="5555880" y="2013120"/>
            <a:ext cx="3529080" cy="1176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永远怀念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63086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800080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3:11:46Z</dcterms:created>
  <dc:creator>An</dc:creator>
  <dc:description/>
  <dc:language>en-US</dc:language>
  <cp:lastModifiedBy/>
  <dcterms:modified xsi:type="dcterms:W3CDTF">2015-07-11T09:20:14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