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26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0.gif" ContentType="image/gif"/>
  <Override PartName="/ppt/media/image6.gif" ContentType="image/gif"/>
  <Override PartName="/ppt/media/image29.gif" ContentType="image/gif"/>
  <Override PartName="/ppt/media/image22.jpeg" ContentType="image/jpeg"/>
  <Override PartName="/ppt/media/image9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11.gif" ContentType="image/gif"/>
  <Override PartName="/ppt/media/image14.png" ContentType="image/png"/>
  <Override PartName="/ppt/media/image4.png" ContentType="image/png"/>
  <Override PartName="/ppt/media/image27.png" ContentType="image/png"/>
  <Override PartName="/ppt/media/image17.gif" ContentType="image/gif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1-10-23T13:46:27.563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F73-7C6C-49B5-A34E-2E9A0B56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C5E-8AC4-4C02-885B-0A6ED28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81A-EC05-4545-AA41-A88FA9D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413-675A-4732-BFDF-154C41AD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9B7-2D87-4CDA-B5AB-6A368A9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3D-172D-4466-A442-7A08A92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75B-7CD3-47FC-826E-4E2C2DF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BAF-5E7A-4327-A2D1-5CF91F5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B66-3D3E-40DE-8DDA-DD79C205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06C-CC79-4B29-A507-9E3C041D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C85-C1CF-4C8F-A8D4-7D3AF15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4ED-669B-4F35-BEC9-2078561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1A3-0FE6-4813-B84D-8CD3F5DA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1452600" cy="184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19240" y="206064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爷爷和小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941760" y="18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59280" y="1773360"/>
          <a:ext cx="3384360" cy="338436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</a:tblGrid>
              <a:tr h="17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83220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560680"/>
            <a:ext cx="1876320" cy="581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25760" y="2565360"/>
            <a:ext cx="53352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67280" y="3213000"/>
            <a:ext cx="136188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90920" y="3933720"/>
            <a:ext cx="2809800" cy="51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4600" y="177336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   棵   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   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6040" y="3378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8480" y="48690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  开  伞  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465360" cy="16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34520" y="569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53600" y="549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080" y="1052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MS Gothic"/>
                <a:ea typeface="MS Gothic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4800" y="1128600"/>
            <a:ext cx="8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  <a:ea typeface="MS Gothic"/>
              </a:rPr>
              <a:t>k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29600" y="1182600"/>
            <a:ext cx="121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d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à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5160" y="281160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ɡ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ě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8160" y="2781360"/>
            <a:ext cx="19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MS UI Gothic"/>
                <a:ea typeface="MS UI Gothic"/>
              </a:rPr>
              <a:t>chu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ā</a:t>
            </a:r>
            <a:r>
              <a:rPr b="1" lang="en-US" sz="4400" spc="-1" strike="noStrike">
                <a:solidFill>
                  <a:srgbClr val="660033"/>
                </a:solidFill>
                <a:latin typeface="MS UI Gothic"/>
                <a:ea typeface="MS UI Gothic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34360" y="277164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nu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4320" y="428292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lě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3080" y="428292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kā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1440" y="421164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s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12560" y="42512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8768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72240" y="2695680"/>
            <a:ext cx="4707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   棵   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   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2400" y="3882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508464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  开  伞  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816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560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3066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981000"/>
            <a:ext cx="489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听音举卡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651640" y="3429000"/>
            <a:ext cx="2981160" cy="261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22720" y="27082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弟弟来到一棵小树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8440" y="34592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爸爸给爷爷打电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77520" y="42512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穿好衣服打开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2720" y="51148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妈妈有一把漂亮的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836640"/>
            <a:ext cx="3168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捉迷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4941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5877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400000">
            <a:off x="-288000" y="288828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0"/>
                </a:gradFill>
                <a:latin typeface="宋体"/>
              </a:rPr>
              <a:t>我会写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71640" y="126828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938680" y="1231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78000" y="2637000"/>
          <a:ext cx="3222720" cy="3165480"/>
        </p:xfrm>
        <a:graphic>
          <a:graphicData uri="http://schemas.openxmlformats.org/drawingml/2006/table">
            <a:tbl>
              <a:tblPr/>
              <a:tblGrid>
                <a:gridCol w="1704960"/>
                <a:gridCol w="15177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3573360"/>
            <a:ext cx="176220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3479760"/>
            <a:ext cx="1314360" cy="1533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75240" y="3871800"/>
            <a:ext cx="42840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948200" y="4121280"/>
            <a:ext cx="847800" cy="676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941760" y="1773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71640" y="1268280"/>
          <a:ext cx="3456000" cy="33847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</a:tblGrid>
              <a:tr h="17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63800" y="2044800"/>
            <a:ext cx="1600200" cy="44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19640" y="2665440"/>
            <a:ext cx="216216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635280" y="1989000"/>
            <a:ext cx="79056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500720" y="2021040"/>
            <a:ext cx="647640" cy="21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A03-62E4-415E-BFBE-3B2BA8D470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910440" y="1773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87640" y="1628640"/>
          <a:ext cx="3311640" cy="309564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238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708360" y="2421000"/>
            <a:ext cx="1962360" cy="1571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157640" y="2565360"/>
            <a:ext cx="48564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649760" y="2637000"/>
            <a:ext cx="714240" cy="79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995640" y="3500280"/>
            <a:ext cx="1390680" cy="27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02:10Z</dcterms:created>
  <dc:creator>An</dc:creator>
  <dc:description/>
  <dc:language>en-US</dc:language>
  <cp:lastModifiedBy/>
  <dcterms:modified xsi:type="dcterms:W3CDTF">2015-07-11T09:39:5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