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8E60-0B00-405F-BBF3-916A2994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3A7-C590-4CBA-9FEF-73AB9F46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F056-000E-490A-B194-9B82051F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EE12-E7C4-42C7-840D-38B7595B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898-32BE-4F67-9E4F-B7C434FE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4A3-AF42-4C4F-AAF8-2CBB8EF8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4B91-3E88-489F-AF16-00FBB573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0BE6-8C76-40E0-BDB5-38B170F9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A696-C71A-4F30-B2C9-9DC2B6AD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CD0D-1D2B-4ACD-AC94-5B0BCD9F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516E-9E9B-4798-A98E-541A628F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C93-9017-4B27-A9F8-1A5A7B35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F2C8-E466-494E-B2DA-3340BC958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730600" y="5013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rcRect l="10309" t="0" r="7244" b="3842"/>
          <a:stretch/>
        </p:blipFill>
        <p:spPr>
          <a:xfrm>
            <a:off x="2081160" y="2133720"/>
            <a:ext cx="4942080" cy="38322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1887480" y="141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0600" y="1052640"/>
            <a:ext cx="37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走遍天下书为侣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582560" y="981000"/>
            <a:ext cx="65822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娱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乐  　一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盒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　犹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趟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背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诵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侣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零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编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某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种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75BD-A1A8-4D9F-8D1E-500868CACD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900000" y="476280"/>
            <a:ext cx="741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你总能从一本书中发现新东西，不管你看过多少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我愿意坐在自己的船里，一遍又一遍地读那本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一本你喜爱的书就是一位朋友，也是一处你随时想去就去的故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042920" y="595440"/>
            <a:ext cx="7489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这有什么关系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你不会因为以前见过你有朋友就不愿再见到他们了吧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你不会因为熟悉家中的一切就弃家而去吧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8720" y="609300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23:12:42Z</dcterms:created>
  <dc:creator>Administrator</dc:creator>
  <dc:description>第一PPT模板网-WWW.1PPT.COM</dc:description>
  <dc:language>en-US</dc:language>
  <cp:lastModifiedBy>USER</cp:lastModifiedBy>
  <dcterms:modified xsi:type="dcterms:W3CDTF">2015-07-10T13:19:00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