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B6A3B-8D2F-4EA0-937F-02B9F9CBD0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5B9C4-923F-4206-A73A-64171706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502AC-84E6-4707-B092-40250446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2A5BC-9B32-46C9-B1EE-2339C7668E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B7799-36B0-4623-88B8-2B65F5C0E2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3F7B9-804A-4766-A509-C2191548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E204A-6391-4FE9-BADC-5195B563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0D285-40B7-4553-88EF-87CE2A08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D85AA-3262-43FE-B04F-D71D9C15A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-914400" algn="ctr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5E67E-9E18-42B4-9921-431F801F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C002C-FCD2-4B95-AE6D-3CAD0957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D3E27-9762-41A8-AC46-FE7558A9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0D069-12C8-40FC-A858-C33C9A2E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C7621-7C03-4E62-9178-99C1BD99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56E50-171C-4363-90BF-3B25E473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4530B-9A9D-4BE2-9ACC-EE27C4ED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0BD89-AB3C-4A60-BE00-2F13BCBCE5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E878A-254C-4772-9E6B-99319B6C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C945C-4DF4-4723-8F63-BD711DD3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7F119-B7F7-443C-ADAC-30446DA38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-914400" algn="ctr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72CF9-338E-4F72-BADE-A51FBA64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B1D2C-E885-4EA2-AC6E-2DD11FE3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EB73B-C754-44BE-B21A-2D696C2B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13481-F16A-4CB2-9002-F3669B0D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D5A3-7512-451C-B394-340D0DCA1A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84BE-663C-49D4-8126-F1EF358334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努力提高自身素质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做好企业教育工作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PPT</a:t>
            </a:r>
            <a:r>
              <a:rPr b="1" lang="zh-CN" sz="28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263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  <a:ea typeface="楷体_GB2312"/>
              </a:rPr>
              <a:t>XXXXXXX</a:t>
            </a:r>
            <a:r>
              <a:rPr b="1" lang="zh-CN" sz="3200" spc="-1" strike="noStrike">
                <a:solidFill>
                  <a:srgbClr val="0066ff"/>
                </a:solidFill>
                <a:latin typeface="Tahoma"/>
                <a:ea typeface="楷体_GB2312"/>
              </a:rPr>
              <a:t>教育科     </a:t>
            </a: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  <a:ea typeface="楷体_GB2312"/>
              </a:rPr>
              <a:t>                                     </a:t>
            </a:r>
            <a:r>
              <a:rPr b="1" lang="en-US" sz="3200" spc="-1" strike="noStrike">
                <a:solidFill>
                  <a:srgbClr val="0066ff"/>
                </a:solidFill>
                <a:latin typeface="Tahoma"/>
                <a:ea typeface="楷体_GB2312"/>
              </a:rPr>
              <a:t>XXX</a:t>
            </a: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F78B3-36FE-4614-8C2B-07C8029019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努力提高自身素质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做好企业教育工作</a:t>
            </a:r>
            <a:endParaRPr b="1" lang="en-US" sz="28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任务落实后，通过天天记载、月月评比、年的总评来决定奖惩，这样做既增强了员工的学习积极性，又提高了员工“企业发展我发展，我与企业共兴衰”的整体意识。这三个观念是我从事企业教育的一贯宗旨，其中服务是目的，竞争是手段，效益则是服务好坏的体现。 </a:t>
            </a: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56924-CFA9-4565-96AC-84C0D54997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努力提高自身素质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做好企业教育工作</a:t>
            </a:r>
            <a:endParaRPr b="1" lang="en-US" sz="28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一、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黑体"/>
              </a:rPr>
              <a:t>积极创造条件，做好三件事情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。</a:t>
            </a: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0066ff"/>
                </a:solidFill>
                <a:latin typeface="Tahoma"/>
                <a:ea typeface="楷体_GB2312"/>
              </a:rPr>
              <a:t>第一是培训规划要科学化，即培训规划要做到与单位的生产发展规划和年度生产计划同步，并且做到培训任务与生产任务同时下达；同时培训规划要与我市的企业发展</a:t>
            </a: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 。</a:t>
            </a: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B8414-A004-431A-BC97-35975D9F9B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努力提高自身素质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做好企业教育工作</a:t>
            </a:r>
            <a:endParaRPr b="1" lang="en-US" sz="28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ahoma"/>
                <a:ea typeface="楷体_GB2312"/>
              </a:rPr>
              <a:t>同步，能体现时代精神；再之，培训规划要与培训对象同步，要考虑到学员的知识水平和接受能力；此外还要考虑到培训规模的大小、培训人数的多少、培训时间的长短以及培训形式的选择是否得当等。</a:t>
            </a: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97589-A852-4301-BCFF-209E70422A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努力提高自身素质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做好企业教育工作</a:t>
            </a:r>
            <a:endParaRPr b="1" lang="en-US" sz="28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ahoma"/>
                <a:ea typeface="楷体_GB2312"/>
              </a:rPr>
              <a:t>第二是培训目标规范化。每次培训我都认真制定并选用好各类培训标准，主要是岗位培训标准，这是搞好培训最重要的基础工作，也是目前职工培训向纵深发展的要求，是培训规范化的主要标志。岗位培训标准的规范化→职工素质规范化→岗位职务规范化→企业管理的规范化。</a:t>
            </a: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BAAA7-81EF-493C-816C-B0880E24FF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</a:rPr>
              <a:t>使用规范说明</a:t>
            </a:r>
            <a:endParaRPr b="1" lang="en-US" sz="28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1" lang="en-US" sz="1500" spc="-1" strike="noStrike">
              <a:solidFill>
                <a:srgbClr val="0066ff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ff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66ff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66ff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66ff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500" spc="-1" strike="noStrike">
              <a:solidFill>
                <a:srgbClr val="0066ff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ff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66ff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66ff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66ff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66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1" lang="en-US" sz="1500" spc="-1" strike="noStrike">
              <a:solidFill>
                <a:srgbClr val="0066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66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0066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0066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0066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0066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0066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0066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0066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0066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0066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0066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0066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66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66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66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66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66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66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66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9946A-F4E2-44C3-BF3D-9F956D4196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努力提高自身素质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做好企业教育工作</a:t>
            </a:r>
            <a:endParaRPr b="1" lang="en-US" sz="28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ahoma"/>
                <a:ea typeface="楷体_GB2312"/>
              </a:rPr>
              <a:t>第三是培训制度法规化，就是说我们的培训制度要具有法律效应，成为一种不容违犯的法规。以防一些职工不去遵守培训制度，三天打鱼，两天晒网。</a:t>
            </a: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3AA08-9A6C-4412-9890-86DBC0B731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努力提高自身素质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做好企业教育工作</a:t>
            </a:r>
            <a:endParaRPr b="1" lang="en-US" sz="28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三、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黑体"/>
              </a:rPr>
              <a:t>面对现实，狠抓企业员工的创造教育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。</a:t>
            </a: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0066ff"/>
                </a:solidFill>
                <a:latin typeface="Tahoma"/>
                <a:ea typeface="楷体_GB2312"/>
              </a:rPr>
              <a:t>一个企业的兴旺与发展直接取决于员工的创新能力，劳动力素质与科技创新能力已经成为制约发展竞争的一大因素。俗话说，没有疲软的市场，只有疲软的产品。对企业员工开展创造教育已经成为我们培训的一项重要任务。</a:t>
            </a: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2ACA3-E229-4D32-B732-2B50F28A99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努力提高自身素质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做好企业教育工作</a:t>
            </a:r>
            <a:endParaRPr b="1" lang="en-US" sz="28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ahoma"/>
                <a:ea typeface="楷体_GB2312"/>
              </a:rPr>
              <a:t>我在教学上把激发员工“自我实现的创造性”作为最主要的教学目标之一。为提高企业的创新素质，培植员工的创造能力，我不惜花大量时间来调查每一个员工的自身素质，因为创造力并非人皆有之。</a:t>
            </a: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46F25-93E3-4258-B804-4FE02315A0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努力提高自身素质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做好企业教育工作</a:t>
            </a:r>
            <a:endParaRPr b="1" lang="en-US" sz="28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ahoma"/>
                <a:ea typeface="楷体_GB2312"/>
              </a:rPr>
              <a:t>美国著名心理学家斯坦伯格认为：“人的创造力是智力、知识、思维风格、人格、动机和环境这六个因素相互作用的结果。”他认为，智力是人的创造力的重要来源，知识是创造力产生的重要条件，思维风格关系到对自己掌握的知识和智力的运用和驾驭，而人格品质则使创造力发展的重要保证，动机则是创造力形成的动力源。</a:t>
            </a: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DE5E8-ED8C-44A4-BA68-A20118B410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努力提高自身素质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做好企业教育工作</a:t>
            </a:r>
            <a:endParaRPr b="1" lang="en-US" sz="28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就是说创造力因人而异，作为一个企业教育工作者，抓好直接与创造能力有关的教育活动，培育创新精神、创造意识十分关键。</a:t>
            </a: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7C9E3-F56F-450F-BAF1-C2898413D3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努力提高自身素质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做好企业教育工作</a:t>
            </a:r>
            <a:endParaRPr b="1" lang="en-US" sz="28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ahoma"/>
                <a:ea typeface="楷体_GB2312"/>
              </a:rPr>
              <a:t>蓟县是一个农业大县，以特色农产品为主要生产原料的乡镇企业越来越占主导地位，成为国民经济的重要支柱。乡镇企业的发展，为转移农村富余劳动力，增加农民收入，巩固、壮大集体经济作出了重要贡献；随着乡镇企业的发展，职工队伍中“三低一少”（管理水平低、文化水平低、技术水平低和专业技术人员少）的状况与快速发展的社会需求极不适应。</a:t>
            </a:r>
            <a:r>
              <a:rPr b="1" lang="en-US" sz="2800" spc="-1" strike="noStrike">
                <a:solidFill>
                  <a:srgbClr val="0066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10114-FD57-45D6-B502-7B647D3A1B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努力提高自身素质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做好企业教育工作</a:t>
            </a:r>
            <a:endParaRPr b="1" lang="en-US" sz="28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ahoma"/>
                <a:ea typeface="楷体_GB2312"/>
              </a:rPr>
              <a:t>在教学中，我时刻注意启发学员敢于质疑、敢于异想天开，不迷信、不守旧，调动他们的学习主动性、进取心，要敢于否定过去，超越自我，培养员工良好的思想品质和不畏困难的勇气，积极引导他们掌握创造的方法，把学到的知识和生产实践很好地结合起来。目前在我的学员当中已经有</a:t>
            </a:r>
            <a:r>
              <a:rPr b="1" lang="en-US" sz="3200" spc="-1" strike="noStrike">
                <a:solidFill>
                  <a:srgbClr val="0066ff"/>
                </a:solidFill>
                <a:latin typeface="Tahoma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66ff"/>
                </a:solidFill>
                <a:latin typeface="Tahoma"/>
                <a:ea typeface="楷体_GB2312"/>
              </a:rPr>
              <a:t>位成为企业的技术骨干。</a:t>
            </a: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85ABF-3334-4880-AD4D-0C6F7A54E0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努力提高自身素质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做好企业教育工作</a:t>
            </a:r>
            <a:endParaRPr b="1" lang="en-US" sz="28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ahoma"/>
                <a:ea typeface="楷体_GB2312"/>
              </a:rPr>
              <a:t>通过几年的努力，工作有了一点成绩，这是大家支持的结果，更是各级领导关心的结果，今后我一定要更加做好这项工作，不断总结经验、克服缺点，精益求精，为我县的企业教育工作健康向前发展贡献自己的力量。</a:t>
            </a: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CF0A3-7633-40FA-BEED-239D5B7241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努力提高自身素质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做好企业教育工作</a:t>
            </a:r>
            <a:endParaRPr b="1" lang="en-US" sz="28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ahoma"/>
                <a:ea typeface="楷体_GB2312"/>
              </a:rPr>
              <a:t>据</a:t>
            </a:r>
            <a:r>
              <a:rPr b="1" lang="en-US" sz="3200" spc="-1" strike="noStrike">
                <a:solidFill>
                  <a:srgbClr val="0066ff"/>
                </a:solidFill>
                <a:latin typeface="Tahoma"/>
                <a:ea typeface="楷体_GB2312"/>
              </a:rPr>
              <a:t>1999</a:t>
            </a:r>
            <a:r>
              <a:rPr b="1" lang="zh-CN" sz="3200" spc="-1" strike="noStrike">
                <a:solidFill>
                  <a:srgbClr val="0066ff"/>
                </a:solidFill>
                <a:latin typeface="Tahoma"/>
                <a:ea typeface="楷体_GB2312"/>
              </a:rPr>
              <a:t>年调查，乡镇企业全体职工中大专以上学历的仅占</a:t>
            </a:r>
            <a:r>
              <a:rPr b="1" lang="en-US" sz="3200" spc="-1" strike="noStrike">
                <a:solidFill>
                  <a:srgbClr val="0066ff"/>
                </a:solidFill>
                <a:latin typeface="Tahoma"/>
                <a:ea typeface="楷体_GB2312"/>
              </a:rPr>
              <a:t>2.3%,</a:t>
            </a:r>
            <a:r>
              <a:rPr b="1" lang="zh-CN" sz="3200" spc="-1" strike="noStrike">
                <a:solidFill>
                  <a:srgbClr val="0066ff"/>
                </a:solidFill>
                <a:latin typeface="Tahoma"/>
                <a:ea typeface="楷体_GB2312"/>
              </a:rPr>
              <a:t>中专学历的仅占</a:t>
            </a:r>
            <a:r>
              <a:rPr b="1" lang="en-US" sz="3200" spc="-1" strike="noStrike">
                <a:solidFill>
                  <a:srgbClr val="0066ff"/>
                </a:solidFill>
                <a:latin typeface="Tahoma"/>
                <a:ea typeface="楷体_GB2312"/>
              </a:rPr>
              <a:t>3.7%</a:t>
            </a:r>
            <a:r>
              <a:rPr b="1" lang="zh-CN" sz="3200" spc="-1" strike="noStrike">
                <a:solidFill>
                  <a:srgbClr val="0066ff"/>
                </a:solidFill>
                <a:latin typeface="Tahoma"/>
                <a:ea typeface="楷体_GB2312"/>
              </a:rPr>
              <a:t>，高中学历的占</a:t>
            </a:r>
            <a:r>
              <a:rPr b="1" lang="en-US" sz="3200" spc="-1" strike="noStrike">
                <a:solidFill>
                  <a:srgbClr val="0066ff"/>
                </a:solidFill>
                <a:latin typeface="Tahoma"/>
                <a:ea typeface="楷体_GB2312"/>
              </a:rPr>
              <a:t>20%,</a:t>
            </a:r>
            <a:r>
              <a:rPr b="1" lang="zh-CN" sz="3200" spc="-1" strike="noStrike">
                <a:solidFill>
                  <a:srgbClr val="0066ff"/>
                </a:solidFill>
                <a:latin typeface="Tahoma"/>
                <a:ea typeface="楷体_GB2312"/>
              </a:rPr>
              <a:t>初中及初中以下学历的占</a:t>
            </a:r>
            <a:r>
              <a:rPr b="1" lang="en-US" sz="3200" spc="-1" strike="noStrike">
                <a:solidFill>
                  <a:srgbClr val="0066ff"/>
                </a:solidFill>
                <a:latin typeface="Tahoma"/>
                <a:ea typeface="楷体_GB2312"/>
              </a:rPr>
              <a:t>70%</a:t>
            </a:r>
            <a:r>
              <a:rPr b="1" lang="zh-CN" sz="3200" spc="-1" strike="noStrike">
                <a:solidFill>
                  <a:srgbClr val="0066ff"/>
                </a:solidFill>
                <a:latin typeface="Tahoma"/>
                <a:ea typeface="楷体_GB2312"/>
              </a:rPr>
              <a:t>多，专业技术人员中有技术职务的仅占全体职工的</a:t>
            </a:r>
            <a:r>
              <a:rPr b="1" lang="en-US" sz="3200" spc="-1" strike="noStrike">
                <a:solidFill>
                  <a:srgbClr val="0066ff"/>
                </a:solidFill>
                <a:latin typeface="Tahoma"/>
                <a:ea typeface="楷体_GB2312"/>
              </a:rPr>
              <a:t>2.4%</a:t>
            </a:r>
            <a:r>
              <a:rPr b="1" lang="zh-CN" sz="3200" spc="-1" strike="noStrike">
                <a:solidFill>
                  <a:srgbClr val="0066ff"/>
                </a:solidFill>
                <a:latin typeface="Tahoma"/>
                <a:ea typeface="楷体_GB2312"/>
              </a:rPr>
              <a:t>。为使企业由传统的劳动密集型向现代科技密集型方向发展，为尽快提高乡镇企业职工素质，县委、县政府提出了“科教兴县”的战略方针。</a:t>
            </a: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5A926-E47A-48E7-93FA-BB131DDC66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努力提高自身素质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做好企业教育工作</a:t>
            </a:r>
            <a:endParaRPr b="1" lang="en-US" sz="28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ahoma"/>
                <a:ea typeface="楷体_GB2312"/>
              </a:rPr>
              <a:t>十分重视培养和造就专门人才和科技队伍，由县教委成人教育科主抓此项培训工作。我作为培训小组的一员，深感责任重大，意义深远。开始有点力不从心，经过大家的帮助和在实际工作中的磨练，逐渐摸索出一点适合本地区乡镇企业员工教育培训的拙见，供大家参考并予以指正。</a:t>
            </a: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15EFE-AB12-495A-A34D-63DDCA0DB9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努力提高自身素质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做好企业教育工作</a:t>
            </a:r>
            <a:endParaRPr b="1" lang="en-US" sz="28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黑体"/>
              </a:rPr>
              <a:t>一、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黑体"/>
              </a:rPr>
              <a:t>搞好教学管理，树立三个观念。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ahoma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  <a:ea typeface="楷体_GB2312"/>
              </a:rPr>
              <a:t>众所周知，抓职工教育管理，不能不抓教学管理，因为教学管理是提高教学质量的主要手段。由于我国企业职工教育起步较晚，在开创局面之际，还来不及把教学管理提上重要议事日程。现在，随着经济改革的不断深入，职工教育也发展到了以岗位培训为重点的新阶段。为保证职工教育事业的健康发展，加强教学管理是职工教育向纵深发展的需要，是当务之急。</a:t>
            </a:r>
            <a:r>
              <a:rPr b="1" lang="en-US" sz="2800" spc="-1" strike="noStrike">
                <a:solidFill>
                  <a:srgbClr val="0066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B0DCA-6AA3-4DCB-AEC0-CC62ED4142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努力提高自身素质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做好企业教育工作</a:t>
            </a:r>
            <a:endParaRPr b="1" lang="en-US" sz="28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针对我县乡镇企业员工的群体特殊性，我采取了灵活多样的教学管理方法，尽力做到人尽其才，各尽所能，尽量扩大职工教学的涉及面，除基本技能而外，还从社会学、经济学、心理学、教育学等各个方面去研究探讨。尤其是思想上要树立三个观念：</a:t>
            </a: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7F5EF-98AE-4659-8BEA-1BA4116C59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努力提高自身素质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做好企业教育工作</a:t>
            </a:r>
            <a:endParaRPr b="1" lang="en-US" sz="28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ahoma"/>
                <a:ea typeface="楷体_GB2312"/>
              </a:rPr>
              <a:t>一是服务观念，即教育为生产服务的观念。每学期初我都要认真搞好办班前的调查，从职工队伍现状、设备情况、生产长远和近期规划到人才预测、生产预测等；还要搞好教学过程中的实习实验，即技术操作教学环节，采取培训——练兵——比武一体化的教学方法；最后还要进行跟踪考察，接受信息反馈。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CF480-86FA-46CA-8921-6034E71C79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努力提高自身素质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做好企业教育工作</a:t>
            </a:r>
            <a:endParaRPr b="1" lang="en-US" sz="28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ahoma"/>
                <a:ea typeface="楷体_GB2312"/>
              </a:rPr>
              <a:t>二是效益观念。这一点在培训中至关重要，生产要讲效益，教育也要讲效益，主要体现在个人方面和生产方面，即员工本身的思想政治、技术业务、文化素养以及知识转化为生产力的能量的多少，进而看到生产的促进力有多大。所谓教无直接有效的为生产服务，就表现在这里。</a:t>
            </a: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07C3F-D286-4737-BE00-7D4CD955B1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努力提高自身素质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做好企业教育工作</a:t>
            </a:r>
            <a:endParaRPr b="1" lang="en-US" sz="28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ahoma"/>
                <a:ea typeface="楷体_GB2312"/>
              </a:rPr>
              <a:t>三是竞争观念，竞争是一中行之有效的激励手段。通过竞争，可以出人才，出经验，出效益。近年来，不少企业在职工的教育培训方面运用了竞争机制，取得了可喜的成绩。我在教学中也因之为鉴，例如，将整个教学任务落实到车间、班组，车间班组教学点再落实到人。</a:t>
            </a: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F8849-13C5-4D86-97B6-E8E65A501E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4:04:59Z</dcterms:created>
  <dc:creator/>
  <dc:description/>
  <cp:keywords>自身素质 企业 教育工作</cp:keywords>
  <dc:language>en-US</dc:language>
  <cp:lastModifiedBy/>
  <dcterms:modified xsi:type="dcterms:W3CDTF">2015-07-11T14:45:5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