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DD0-EF6A-4DF3-9B78-CFC4D688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21E-1208-400D-85E1-E7E325E2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93A-1C14-46FE-AE65-7C10F077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A9E-46F2-4B72-BC4B-082FC231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D45-95C7-45B6-B4B1-8B5341A1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B6C-6606-4510-9BB5-18DF22B7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041-402C-4B79-9A67-CE65F1BB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D43-61A1-4D48-ACFF-1D9D5BD1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F715-047F-49CC-9A09-7CE07FC4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3D9-64A8-4132-B9A0-E1C6EAC8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0C69-CD27-4D5A-8231-B53B9D6D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8BF-DA00-4E2C-BEA2-F80259B4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E824-CC90-431D-909B-1F38B67F6D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ouse.focus.cn/photoshow/136/855196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ouse.focus.cn/photoshow/136/855243.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house.focus.cn/photoshow/136/855227.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house.focus.cn/photoshow/136/855198.html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house.focus.cn/photoshow/136/855191.html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house.focus.cn/photoshow/136/855214.html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house.focus.cn/photoshow/136/855190.html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://house.focus.cn/photoshow/136/855188.html" TargetMode="Externa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house.focus.cn/photoshow/136/855240.html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house.focus.cn/photoshow/136/855219.html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house.focus.cn/photoshow/136/855201.html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05968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Arial"/>
                <a:ea typeface="华文新魏"/>
              </a:rPr>
              <a:t>走近</a:t>
            </a:r>
            <a:r>
              <a:rPr b="0" lang="zh-CN" sz="6600" spc="-1" strike="noStrike">
                <a:solidFill>
                  <a:srgbClr val="ffff99"/>
                </a:solidFill>
                <a:latin typeface="Arial"/>
                <a:ea typeface="华文新魏"/>
              </a:rPr>
              <a:t>地理环境与家居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作者：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××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时间：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××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BD15072_" descr=""/>
          <p:cNvPicPr/>
          <p:nvPr/>
        </p:nvPicPr>
        <p:blipFill>
          <a:blip r:embed="rId1"/>
          <a:stretch/>
        </p:blipFill>
        <p:spPr>
          <a:xfrm>
            <a:off x="1752480" y="3124080"/>
            <a:ext cx="6858000" cy="1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QV7k37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789360"/>
            <a:ext cx="2592720" cy="1700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云南民居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干栏式竹楼是滇南傣、佤、苗、景颇、哈尼、布朗等少数民族的主要住宅形式。滇南气候炎热潮湿多雨，竹楼下部架空，以利通风隔潮，多用作碾米场、贮藏室及杂屋；上层前部有宽廊和晒台后部为堂和卧室；屋顶为歇山式，坡度陡，出檐深远，可遮阳挡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2" descr=""/>
          <p:cNvPicPr/>
          <p:nvPr/>
        </p:nvPicPr>
        <p:blipFill>
          <a:blip r:embed="rId3"/>
          <a:stretch/>
        </p:blipFill>
        <p:spPr>
          <a:xfrm>
            <a:off x="4784760" y="1700280"/>
            <a:ext cx="2666880" cy="1665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1557360"/>
            <a:ext cx="4176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SLypsLd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990720"/>
            <a:ext cx="3810240" cy="2550960"/>
          </a:xfrm>
          <a:prstGeom prst="rect">
            <a:avLst/>
          </a:prstGeom>
          <a:ln w="0">
            <a:noFill/>
          </a:ln>
        </p:spPr>
      </p:pic>
      <p:pic>
        <p:nvPicPr>
          <p:cNvPr id="69" name="LLv9FvMe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2840" y="3789360"/>
            <a:ext cx="3809880" cy="2303640"/>
          </a:xfrm>
          <a:prstGeom prst="rect">
            <a:avLst/>
          </a:prstGeom>
          <a:ln w="0">
            <a:noFill/>
          </a:ln>
        </p:spPr>
      </p:pic>
      <p:pic>
        <p:nvPicPr>
          <p:cNvPr id="70" name="MCeWPE2F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143000" y="3809880"/>
            <a:ext cx="3505320" cy="2316240"/>
          </a:xfrm>
          <a:prstGeom prst="rect">
            <a:avLst/>
          </a:prstGeom>
          <a:ln w="0">
            <a:noFill/>
          </a:ln>
        </p:spPr>
      </p:pic>
      <p:pic>
        <p:nvPicPr>
          <p:cNvPr id="71" name="eLspZ3Mh" descr="">
            <a:hlinkClick r:id="rId6"/>
          </p:cNvPr>
          <p:cNvPicPr/>
          <p:nvPr/>
        </p:nvPicPr>
        <p:blipFill>
          <a:blip r:embed="rId7"/>
          <a:srcRect l="8649" t="0" r="0" b="0"/>
          <a:stretch/>
        </p:blipFill>
        <p:spPr>
          <a:xfrm>
            <a:off x="4946760" y="476280"/>
            <a:ext cx="3968640" cy="2495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42920" y="62341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幼圆"/>
              </a:rPr>
              <a:t>浙江民居（上图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88760" y="4084560"/>
            <a:ext cx="115524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幼圆"/>
              </a:rPr>
              <a:t>湖南民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30481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幼圆"/>
                <a:ea typeface="幼圆"/>
              </a:rPr>
              <a:t>上海民居 </a:t>
            </a:r>
            <a:r>
              <a:rPr b="1" lang="en-US" sz="3200" spc="-1" strike="noStrike">
                <a:solidFill>
                  <a:srgbClr val="ff00ff"/>
                </a:solidFill>
                <a:latin typeface="幼圆"/>
                <a:ea typeface="幼圆"/>
              </a:rPr>
              <a:t>(</a:t>
            </a:r>
            <a:r>
              <a:rPr b="1" lang="zh-CN" sz="3200" spc="-1" strike="noStrike">
                <a:solidFill>
                  <a:srgbClr val="ff00ff"/>
                </a:solidFill>
                <a:latin typeface="幼圆"/>
                <a:ea typeface="幼圆"/>
              </a:rPr>
              <a:t>上图</a:t>
            </a:r>
            <a:r>
              <a:rPr b="1" lang="en-US" sz="3200" spc="-1" strike="noStrike">
                <a:solidFill>
                  <a:srgbClr val="ff00ff"/>
                </a:solidFill>
                <a:latin typeface="幼圆"/>
                <a:ea typeface="幼圆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8080" y="260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ff"/>
                </a:solidFill>
                <a:latin typeface="Times New Roman"/>
                <a:ea typeface="幼圆"/>
              </a:rPr>
              <a:t>福建民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 rot="5400000">
            <a:off x="-1946520" y="2743200"/>
            <a:ext cx="4647960" cy="755640"/>
          </a:xfrm>
          <a:prstGeom prst="rect">
            <a:avLst/>
          </a:prstGeom>
        </p:spPr>
        <p:txBody>
          <a:bodyPr wrap="none" lIns="91800" rIns="91800" anchor="ctr" anchorCtr="1" vert="eaVert">
            <a:prstTxWarp prst="textWave4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黑体"/>
              </a:rPr>
              <a:t>图片欣赏</a:t>
            </a:r>
            <a:endParaRPr b="1" lang="en-US" sz="7200" spc="-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k2EeeSnZ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54160" y="404640"/>
            <a:ext cx="3886200" cy="2665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3880" y="2895480"/>
            <a:ext cx="1676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5240" y="0"/>
            <a:ext cx="262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安徽民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Hqjhu6ij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0920" y="404640"/>
            <a:ext cx="3962160" cy="2587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580000" y="0"/>
            <a:ext cx="236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东北民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sOclnmxX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357720"/>
            <a:ext cx="4038480" cy="2971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6461280"/>
            <a:ext cx="2484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四川民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vnHLO7PY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32360" y="3429000"/>
            <a:ext cx="3960720" cy="2894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10080" y="6324480"/>
            <a:ext cx="31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西藏民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fftBef8y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1989000"/>
            <a:ext cx="2971800" cy="1986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03640" y="3500280"/>
            <a:ext cx="270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内蒙古民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nrPDXWxk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84360" y="836640"/>
            <a:ext cx="3429000" cy="2241360"/>
          </a:xfrm>
          <a:prstGeom prst="rect">
            <a:avLst/>
          </a:prstGeom>
          <a:ln w="0">
            <a:noFill/>
          </a:ln>
        </p:spPr>
      </p:pic>
      <p:pic>
        <p:nvPicPr>
          <p:cNvPr id="89" name="UzlpAbj8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933720"/>
            <a:ext cx="3456000" cy="2498760"/>
          </a:xfrm>
          <a:prstGeom prst="rect">
            <a:avLst/>
          </a:prstGeom>
          <a:ln w="0">
            <a:noFill/>
          </a:ln>
        </p:spPr>
      </p:pic>
      <p:pic>
        <p:nvPicPr>
          <p:cNvPr id="90" name="bQrdc6mD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48360" y="3933720"/>
            <a:ext cx="3456000" cy="2519640"/>
          </a:xfrm>
          <a:prstGeom prst="rect">
            <a:avLst/>
          </a:prstGeom>
          <a:ln w="0">
            <a:noFill/>
          </a:ln>
        </p:spPr>
      </p:pic>
      <p:pic>
        <p:nvPicPr>
          <p:cNvPr id="91" name="Nk9Vn3fD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19640" y="765000"/>
            <a:ext cx="3240000" cy="2459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87280" y="3429000"/>
            <a:ext cx="236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宁夏民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260280"/>
            <a:ext cx="243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广西民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3840" y="189000"/>
            <a:ext cx="2667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陕北民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1200" y="3357720"/>
            <a:ext cx="794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台湾民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272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谢               谢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民居式样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55280" y="1557000"/>
            <a:ext cx="7777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人认为家一定要依山靠水，面向朝阳，但也有人认为，家一定要远离丘陵。然而，地理环境是多姿多彩的，各地域的地势不同，也造就了各式各样的家居设计，而中国住宅的家居设计更是中国地理与文化的产物，具有鲜明的民族风格与时代特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那么，现在让我们来探索一下地理环境对家居设计的影响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Arial"/>
              </a:rPr>
              <a:t>民居的地理性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Arial"/>
              </a:rPr>
              <a:t>布朗民居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布朗族民间建筑形式。多为干栏式竹楼，分上下两层，楼下关牲畜，放碓臼，楼上住人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1" descr=""/>
          <p:cNvPicPr/>
          <p:nvPr/>
        </p:nvPicPr>
        <p:blipFill>
          <a:blip r:embed="rId1"/>
          <a:stretch/>
        </p:blipFill>
        <p:spPr>
          <a:xfrm>
            <a:off x="5940360" y="1784520"/>
            <a:ext cx="2817720" cy="47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朝鲜族民居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乡下常见的一般有草房和瓦房两种形式。多面向南或东南、西南，有院落。屋顶多四个斜面构成，主室上盖为大“人”字形，两翼斜坡较小，用谷草或灰瓦片覆盖。每套房屋正面开一扇或四扇门，同时开窗。后面一般亦设门和窗。内分为寝室、厨房等。有的在正房盖厢房，作为住房和仓库。室内用土砖或平埋的片石铺成平炕。进屋脱鞋，席炕而坐。室外屋基离地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60—70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2" descr=""/>
          <p:cNvPicPr/>
          <p:nvPr/>
        </p:nvPicPr>
        <p:blipFill>
          <a:blip r:embed="rId1"/>
          <a:stretch/>
        </p:blipFill>
        <p:spPr>
          <a:xfrm>
            <a:off x="5979960" y="1776240"/>
            <a:ext cx="2695680" cy="4172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达斡尔民居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1"/>
          <a:stretch/>
        </p:blipFill>
        <p:spPr>
          <a:xfrm rot="1326600">
            <a:off x="5867280" y="4365360"/>
            <a:ext cx="2872080" cy="2084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360" y="1773360"/>
            <a:ext cx="820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达斡尔人喜依山傍水而居。民居大多向南，三间或五间不等。中间为厨房，锅台内侧接烘炕。两侧为居室，居室有“凹”形炕，开南窗、西窗。仓房多为木制阁楼，离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米左右，通风干燥，宜于谷物贮藏。房顶“人”字形草冠，上有木构框架，室内棚顶多为柳编“人”字形顶盖，居室与厨房间有墙与隔扇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民居的地理比较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人们有意识地改变环境的过程中，人与环境的关系从统一性关系逐渐发展为对象性关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Arial"/>
              </a:rPr>
              <a:t>地理环境与家居设计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福建民居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闽西南地区的客空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幼圆"/>
              </a:rPr>
              <a:t>土楼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是一种特殊农村住宅。土楼外形有方、圆之别，酷似宠大碉堡，其外墙用土、石灰、沙、糯米等夯实，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米，可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层高；由外向内，屋顶层层下跌，共三环，主体建筑居中心；房间总数可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余间，十几家甚至几十家人共居一楼。福建是东南沿海的“山国”，境内山地丘陵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％以上，地形复杂，历史上匪盗现象较为严重，中原汉族迁居此地后，为御匪盗防械斗，同族数百人筑土楼而居所，故形同要塞的土楼，防御功能突出。此外，福建地处东南沿海地震带，气候暖热多雨，坚固的土楼既能防震防潮又可保暖隔热，可谓一举数得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1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832040" cy="20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25:10Z</dcterms:created>
  <dc:creator/>
  <dc:description/>
  <cp:keywords>地理环境 家居</cp:keywords>
  <dc:language>en-US</dc:language>
  <cp:lastModifiedBy/>
  <dcterms:modified xsi:type="dcterms:W3CDTF">2015-07-09T13:26:2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