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9D42-C136-4B08-8547-6E38DB9C8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8AC4-EB13-4BD1-B5FA-02ED09AD3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0018-7924-4451-B4C9-F4BC78E92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3B2E-3A14-4940-A61C-C97DE3BF8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9E04-427B-48FF-9E4E-30FC30411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A213-FC41-4F14-97BB-9CA1784A0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E21D-6227-4B93-827D-A3176AE87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C5F0-692E-4667-841A-4D9DE6985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7428-5400-403C-981C-CF295F517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3A46-BE3B-4E7C-8817-D6361CC7B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FD9C-1D7C-478D-9DB4-5F82153B3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0A3D-D2A9-4B7F-A282-9DCFC674B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8E2C-D266-4F98-88FB-3701227BD0C8}" type="slidenum">
              <a:rPr b="0" lang="en-US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"/>
          <p:cNvSpPr/>
          <p:nvPr/>
        </p:nvSpPr>
        <p:spPr>
          <a:xfrm>
            <a:off x="-9360" y="0"/>
            <a:ext cx="9181800" cy="6891480"/>
          </a:xfrm>
          <a:custGeom>
            <a:avLst/>
            <a:gdLst/>
            <a:ahLst/>
            <a:rect l="l" t="t" r="r" b="b"/>
            <a:pathLst>
              <a:path w="5784" h="4341">
                <a:moveTo>
                  <a:pt x="6" y="0"/>
                </a:moveTo>
                <a:lnTo>
                  <a:pt x="0" y="2941"/>
                </a:lnTo>
                <a:cubicBezTo>
                  <a:pt x="1122" y="3547"/>
                  <a:pt x="4681" y="4341"/>
                  <a:pt x="5784" y="4171"/>
                </a:cubicBezTo>
                <a:lnTo>
                  <a:pt x="5761" y="2"/>
                </a:lnTo>
                <a:lnTo>
                  <a:pt x="6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"/>
          <p:cNvSpPr/>
          <p:nvPr/>
        </p:nvSpPr>
        <p:spPr>
          <a:xfrm>
            <a:off x="0" y="5950080"/>
            <a:ext cx="3924360" cy="67608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5516640"/>
            <a:ext cx="8550360" cy="89856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"/>
          <p:cNvSpPr/>
          <p:nvPr/>
        </p:nvSpPr>
        <p:spPr>
          <a:xfrm>
            <a:off x="2843280" y="5950080"/>
            <a:ext cx="6327720" cy="62064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">
            <a:hlinkClick r:id="rId3"/>
          </p:cNvPr>
          <p:cNvSpPr/>
          <p:nvPr/>
        </p:nvSpPr>
        <p:spPr>
          <a:xfrm>
            <a:off x="42480" y="6523200"/>
            <a:ext cx="2129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69696"/>
                </a:solidFill>
                <a:latin typeface="Gulim"/>
              </a:rPr>
              <a:t>Copyright © by ARTCOM PT All rights reserved.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"/>
          <p:cNvSpPr/>
          <p:nvPr/>
        </p:nvSpPr>
        <p:spPr>
          <a:xfrm>
            <a:off x="-9360" y="6553080"/>
            <a:ext cx="91440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"/>
          <p:cNvSpPr/>
          <p:nvPr/>
        </p:nvSpPr>
        <p:spPr>
          <a:xfrm>
            <a:off x="6134040" y="492120"/>
            <a:ext cx="30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51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9360" y="0"/>
            <a:ext cx="916272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"/>
          <p:cNvSpPr/>
          <p:nvPr/>
        </p:nvSpPr>
        <p:spPr>
          <a:xfrm>
            <a:off x="-36360" y="3429000"/>
            <a:ext cx="346068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-com.co.kr/online/ppt_gallery_1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63080" cy="4873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9360" y="0"/>
            <a:ext cx="916272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"/>
          <p:cNvSpPr/>
          <p:nvPr/>
        </p:nvSpPr>
        <p:spPr>
          <a:xfrm>
            <a:off x="-36360" y="3429000"/>
            <a:ext cx="346068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6310440"/>
            <a:ext cx="185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80808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">
            <a:hlinkClick r:id="rId2"/>
          </p:cNvPr>
          <p:cNvSpPr/>
          <p:nvPr/>
        </p:nvSpPr>
        <p:spPr>
          <a:xfrm>
            <a:off x="2921040" y="4235400"/>
            <a:ext cx="330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4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"/>
          <p:cNvSpPr/>
          <p:nvPr/>
        </p:nvSpPr>
        <p:spPr>
          <a:xfrm>
            <a:off x="1476360" y="2349360"/>
            <a:ext cx="6310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紫色飘逸艺术风格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1CCE-4FA9-4101-B170-88CC74C70F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0560" y="197172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"/>
          <p:cNvSpPr/>
          <p:nvPr/>
        </p:nvSpPr>
        <p:spPr>
          <a:xfrm>
            <a:off x="178560" y="287280"/>
            <a:ext cx="53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PowerPoint Template_Sub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2DCB-5A5B-4EEC-AF88-78509BB14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37:18Z</dcterms:created>
  <dc:creator/>
  <dc:description/>
  <dc:language>en-US</dc:language>
  <cp:lastModifiedBy/>
  <dcterms:modified xsi:type="dcterms:W3CDTF">2015-07-09T10:56:1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