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5F0-D380-4786-B139-5EBCED07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543-DC27-4AE4-9ED2-29BA6EC7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41B-E87A-4C20-8040-16143827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689-6301-42A8-8C8D-50C8CC25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6B4-F021-43ED-8DE1-EF53B61C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A44-D42B-4B3D-97AF-F503CFB9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5C2-1CEF-47C8-A985-C191ACA9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621-7AF3-49AA-9AD7-077A3200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514-1F1A-45DE-9AD5-E7D92B11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6E4-79F7-48CA-9347-E79F53E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0F5-2D81-432A-8659-B538096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9A4-02E4-4D8A-B767-808ECB7C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8F5F-6FA2-4696-B987-E55F7A1105F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522D-E04F-4AA0-98B1-2059F97C11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yingxiao/" TargetMode="Externa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5" descr=""/>
          <p:cNvPicPr/>
          <p:nvPr/>
        </p:nvPicPr>
        <p:blipFill>
          <a:blip r:embed="rId1"/>
          <a:stretch/>
        </p:blipFill>
        <p:spPr>
          <a:xfrm>
            <a:off x="0" y="15840"/>
            <a:ext cx="912636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497960" y="771480"/>
            <a:ext cx="31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主题活动策划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17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介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0" name="Picture 2" descr=""/>
          <p:cNvPicPr/>
          <p:nvPr/>
        </p:nvPicPr>
        <p:blipFill>
          <a:blip r:embed="rId1"/>
          <a:srcRect l="38506" t="480" r="16018" b="0"/>
          <a:stretch/>
        </p:blipFill>
        <p:spPr>
          <a:xfrm>
            <a:off x="6804000" y="1027080"/>
            <a:ext cx="1568520" cy="358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rcRect l="32777" t="19054" r="7972" b="28326"/>
          <a:stretch/>
        </p:blipFill>
        <p:spPr>
          <a:xfrm>
            <a:off x="3529080" y="1779480"/>
            <a:ext cx="2133360" cy="1895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1488960" y="2438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内包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610240" y="3664080"/>
            <a:ext cx="6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情话”贴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5727240" y="4094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粉末包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肘形连接符 9"/>
          <p:cNvCxnSpPr/>
          <p:nvPr/>
        </p:nvCxnSpPr>
        <p:spPr>
          <a:xfrm>
            <a:off x="5076720" y="3663720"/>
            <a:ext cx="432720" cy="138600"/>
          </a:xfrm>
          <a:prstGeom prst="bentConnector3">
            <a:avLst>
              <a:gd name="adj1" fmla="val 49958"/>
            </a:avLst>
          </a:prstGeom>
          <a:ln w="9360">
            <a:solidFill>
              <a:srgbClr val="4f81bd"/>
            </a:solidFill>
            <a:miter/>
          </a:ln>
        </p:spPr>
      </p:cxnSp>
      <p:cxnSp>
        <p:nvCxnSpPr>
          <p:cNvPr id="126" name="肘形连接符 13"/>
          <p:cNvCxnSpPr/>
          <p:nvPr/>
        </p:nvCxnSpPr>
        <p:spPr>
          <a:xfrm rot="10800000">
            <a:off x="6404040" y="4231440"/>
            <a:ext cx="255960" cy="138960"/>
          </a:xfrm>
          <a:prstGeom prst="bentConnector3">
            <a:avLst>
              <a:gd name="adj1" fmla="val 50000"/>
            </a:avLst>
          </a:prstGeom>
          <a:ln w="9360">
            <a:solidFill>
              <a:srgbClr val="4f81b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28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定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TextBox 9"/>
          <p:cNvSpPr/>
          <p:nvPr/>
        </p:nvSpPr>
        <p:spPr>
          <a:xfrm>
            <a:off x="1612800" y="1554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受众群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04960" y="1562040"/>
            <a:ext cx="36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岁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岁年轻群体  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特别是这三类人群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98800" y="2282760"/>
            <a:ext cx="1919880" cy="642600"/>
            <a:chOff x="3898800" y="2282760"/>
            <a:chExt cx="1919880" cy="642600"/>
          </a:xfrm>
        </p:grpSpPr>
        <p:sp>
          <p:nvSpPr>
            <p:cNvPr id="134" name="TextBox 11"/>
            <p:cNvSpPr/>
            <p:nvPr/>
          </p:nvSpPr>
          <p:spPr>
            <a:xfrm>
              <a:off x="4677840" y="25239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暧昧（待告白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15"/>
            <p:cNvSpPr/>
            <p:nvPr/>
          </p:nvSpPr>
          <p:spPr>
            <a:xfrm>
              <a:off x="3898800" y="2282760"/>
              <a:ext cx="7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1</a:t>
              </a:r>
              <a:r>
                <a:rPr b="0" lang="zh-CN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09960" y="2862360"/>
            <a:ext cx="1908720" cy="642600"/>
            <a:chOff x="3909960" y="2862360"/>
            <a:chExt cx="1908720" cy="642600"/>
          </a:xfrm>
        </p:grpSpPr>
        <p:sp>
          <p:nvSpPr>
            <p:cNvPr id="137" name="TextBox 12"/>
            <p:cNvSpPr/>
            <p:nvPr/>
          </p:nvSpPr>
          <p:spPr>
            <a:xfrm>
              <a:off x="4677840" y="31068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情侣（小夫妻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16"/>
            <p:cNvSpPr/>
            <p:nvPr/>
          </p:nvSpPr>
          <p:spPr>
            <a:xfrm>
              <a:off x="3909960" y="2862360"/>
              <a:ext cx="7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2</a:t>
              </a:r>
              <a:r>
                <a:rPr b="0" lang="zh-CN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98800" y="3483000"/>
            <a:ext cx="1956240" cy="642600"/>
            <a:chOff x="3898800" y="3483000"/>
            <a:chExt cx="1956240" cy="642600"/>
          </a:xfrm>
        </p:grpSpPr>
        <p:sp>
          <p:nvSpPr>
            <p:cNvPr id="140" name="TextBox 13"/>
            <p:cNvSpPr/>
            <p:nvPr/>
          </p:nvSpPr>
          <p:spPr>
            <a:xfrm>
              <a:off x="4714200" y="36925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闺蜜（姐妹淘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7"/>
            <p:cNvSpPr/>
            <p:nvPr/>
          </p:nvSpPr>
          <p:spPr>
            <a:xfrm>
              <a:off x="3898800" y="3483000"/>
              <a:ext cx="7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3</a:t>
              </a:r>
              <a:r>
                <a:rPr b="0" lang="zh-CN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43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定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6" name="Picture 2" descr=""/>
          <p:cNvPicPr/>
          <p:nvPr/>
        </p:nvPicPr>
        <p:blipFill>
          <a:blip r:embed="rId1"/>
          <a:srcRect l="11837" t="0" r="0" b="11252"/>
          <a:stretch/>
        </p:blipFill>
        <p:spPr>
          <a:xfrm>
            <a:off x="2752560" y="1563840"/>
            <a:ext cx="5877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TextBox 7"/>
          <p:cNvSpPr/>
          <p:nvPr/>
        </p:nvSpPr>
        <p:spPr>
          <a:xfrm>
            <a:off x="1397160" y="1563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形象代言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1081800" y="2117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柯震东     陈妍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54680" y="4406760"/>
            <a:ext cx="19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代言费用预估：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00,OOORMB/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0"/>
          <p:cNvSpPr/>
          <p:nvPr/>
        </p:nvSpPr>
        <p:spPr>
          <a:xfrm rot="19805400">
            <a:off x="3302280" y="1321200"/>
            <a:ext cx="729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94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电影热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 rot="19776000">
            <a:off x="4451400" y="1221480"/>
            <a:ext cx="729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2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形象符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 rot="19716000">
            <a:off x="5494320" y="1151280"/>
            <a:ext cx="729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84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剧情延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 rot="19537200">
            <a:off x="6616080" y="1132200"/>
            <a:ext cx="729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464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内地首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55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定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TextBox 7"/>
          <p:cNvSpPr/>
          <p:nvPr/>
        </p:nvSpPr>
        <p:spPr>
          <a:xfrm>
            <a:off x="1417680" y="1708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同类产品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753000" y="1749600"/>
            <a:ext cx="1952640" cy="482400"/>
            <a:chOff x="3753000" y="1749600"/>
            <a:chExt cx="1952640" cy="482400"/>
          </a:xfrm>
        </p:grpSpPr>
        <p:sp>
          <p:nvSpPr>
            <p:cNvPr id="160" name="TextBox 8"/>
            <p:cNvSpPr/>
            <p:nvPr/>
          </p:nvSpPr>
          <p:spPr>
            <a:xfrm>
              <a:off x="4606200" y="1805040"/>
              <a:ext cx="109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张海山锐线体简"/>
                  <a:ea typeface="张海山锐线体简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张海山锐线体简"/>
                  <a:ea typeface="张海山锐线体简"/>
                </a:rPr>
                <a:t>优乐美 奶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Picture 2" descr=""/>
            <p:cNvPicPr/>
            <p:nvPr/>
          </p:nvPicPr>
          <p:blipFill>
            <a:blip r:embed="rId1"/>
            <a:stretch/>
          </p:blipFill>
          <p:spPr>
            <a:xfrm>
              <a:off x="3753000" y="1749600"/>
              <a:ext cx="56844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851280" y="2714760"/>
            <a:ext cx="1782000" cy="369720"/>
            <a:chOff x="3851280" y="2714760"/>
            <a:chExt cx="1782000" cy="369720"/>
          </a:xfrm>
        </p:grpSpPr>
        <p:sp>
          <p:nvSpPr>
            <p:cNvPr id="163" name="TextBox 9"/>
            <p:cNvSpPr/>
            <p:nvPr/>
          </p:nvSpPr>
          <p:spPr>
            <a:xfrm>
              <a:off x="4707360" y="271476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张海山锐线体简"/>
                  <a:ea typeface="张海山锐线体简"/>
                </a:rPr>
                <a:t>香飘飘 奶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Picture 3" descr=""/>
            <p:cNvPicPr/>
            <p:nvPr/>
          </p:nvPicPr>
          <p:blipFill>
            <a:blip r:embed="rId2"/>
            <a:stretch/>
          </p:blipFill>
          <p:spPr>
            <a:xfrm>
              <a:off x="3851280" y="2752560"/>
              <a:ext cx="48456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3851280" y="3579840"/>
            <a:ext cx="1795680" cy="368280"/>
            <a:chOff x="3851280" y="3579840"/>
            <a:chExt cx="1795680" cy="368280"/>
          </a:xfrm>
        </p:grpSpPr>
        <p:sp>
          <p:nvSpPr>
            <p:cNvPr id="166" name="TextBox 10"/>
            <p:cNvSpPr/>
            <p:nvPr/>
          </p:nvSpPr>
          <p:spPr>
            <a:xfrm>
              <a:off x="4643280" y="3579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张海山锐线体简"/>
                  <a:ea typeface="张海山锐线体简"/>
                </a:rPr>
                <a:t>立顿迷香鸳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7" name="Picture 4" descr=""/>
            <p:cNvPicPr/>
            <p:nvPr/>
          </p:nvPicPr>
          <p:blipFill>
            <a:blip r:embed="rId3"/>
            <a:srcRect l="3176" t="19977" r="22460" b="24423"/>
            <a:stretch/>
          </p:blipFill>
          <p:spPr>
            <a:xfrm>
              <a:off x="3851280" y="3579840"/>
              <a:ext cx="464400" cy="34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96680" y="619200"/>
            <a:ext cx="1900440" cy="657360"/>
            <a:chOff x="796680" y="619200"/>
            <a:chExt cx="1900440" cy="657360"/>
          </a:xfrm>
        </p:grpSpPr>
        <p:sp>
          <p:nvSpPr>
            <p:cNvPr id="169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定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6"/>
            <p:cNvSpPr/>
            <p:nvPr/>
          </p:nvSpPr>
          <p:spPr>
            <a:xfrm>
              <a:off x="2199240" y="103032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TextBox 1"/>
          <p:cNvSpPr/>
          <p:nvPr/>
        </p:nvSpPr>
        <p:spPr>
          <a:xfrm>
            <a:off x="1365120" y="1419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竞争优势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4537800" y="2752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427560" y="1371600"/>
            <a:ext cx="568080" cy="480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rcRect l="20929" t="13081" r="20113" b="4593"/>
          <a:stretch/>
        </p:blipFill>
        <p:spPr>
          <a:xfrm>
            <a:off x="6254640" y="1371600"/>
            <a:ext cx="676440" cy="5097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1445040" y="22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比口味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1445040" y="297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比包装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1490760" y="3700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比广告语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6"/>
          <p:cNvSpPr/>
          <p:nvPr/>
        </p:nvSpPr>
        <p:spPr>
          <a:xfrm>
            <a:off x="3573720" y="2297160"/>
            <a:ext cx="50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原味、香芋、咖啡、麦香、巧克力、草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6473160" y="2297160"/>
            <a:ext cx="30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港式咖啡、丝袜奶茶、浓情鸳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12"/>
          <p:cNvSpPr/>
          <p:nvPr/>
        </p:nvSpPr>
        <p:spPr>
          <a:xfrm rot="19924800">
            <a:off x="4284360" y="1834920"/>
            <a:ext cx="760320" cy="7603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主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142040" y="1647360"/>
            <a:ext cx="1046520" cy="1043640"/>
            <a:chOff x="7142040" y="1647360"/>
            <a:chExt cx="1046520" cy="1043640"/>
          </a:xfrm>
        </p:grpSpPr>
        <p:sp>
          <p:nvSpPr>
            <p:cNvPr id="183" name="椭圆 19"/>
            <p:cNvSpPr/>
            <p:nvPr/>
          </p:nvSpPr>
          <p:spPr>
            <a:xfrm rot="19924800">
              <a:off x="7277040" y="1784160"/>
              <a:ext cx="776520" cy="769680"/>
            </a:xfrm>
            <a:prstGeom prst="ellips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5"/>
            <p:cNvSpPr/>
            <p:nvPr/>
          </p:nvSpPr>
          <p:spPr>
            <a:xfrm rot="20489400">
              <a:off x="7262280" y="20048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+1&gt;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extBox 20"/>
          <p:cNvSpPr/>
          <p:nvPr/>
        </p:nvSpPr>
        <p:spPr>
          <a:xfrm>
            <a:off x="3172320" y="37306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是我的优乐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6193440" y="3730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4"/>
          <p:cNvSpPr/>
          <p:nvPr/>
        </p:nvSpPr>
        <p:spPr>
          <a:xfrm>
            <a:off x="1490760" y="443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比代言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3327120" y="44355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周杰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6305760" y="44355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柯震东   陈妍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3"/>
          <a:stretch/>
        </p:blipFill>
        <p:spPr>
          <a:xfrm>
            <a:off x="3249720" y="2778120"/>
            <a:ext cx="753840" cy="75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tretch/>
        </p:blipFill>
        <p:spPr>
          <a:xfrm>
            <a:off x="6413400" y="2844720"/>
            <a:ext cx="66060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椭圆 29"/>
          <p:cNvSpPr/>
          <p:nvPr/>
        </p:nvSpPr>
        <p:spPr>
          <a:xfrm rot="19924800">
            <a:off x="3770280" y="2774880"/>
            <a:ext cx="760320" cy="76212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普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30"/>
          <p:cNvSpPr/>
          <p:nvPr/>
        </p:nvSpPr>
        <p:spPr>
          <a:xfrm rot="19924800">
            <a:off x="6975360" y="2793600"/>
            <a:ext cx="762120" cy="76032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简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椭圆 31"/>
          <p:cNvSpPr/>
          <p:nvPr/>
        </p:nvSpPr>
        <p:spPr>
          <a:xfrm rot="19924800">
            <a:off x="4251240" y="3540240"/>
            <a:ext cx="762120" cy="76176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浪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33"/>
          <p:cNvSpPr/>
          <p:nvPr/>
        </p:nvSpPr>
        <p:spPr>
          <a:xfrm rot="19924800">
            <a:off x="7477200" y="3666600"/>
            <a:ext cx="761760" cy="76068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更浪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34"/>
          <p:cNvSpPr/>
          <p:nvPr/>
        </p:nvSpPr>
        <p:spPr>
          <a:xfrm rot="19924800">
            <a:off x="3736800" y="4248000"/>
            <a:ext cx="762120" cy="7621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强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35"/>
          <p:cNvSpPr/>
          <p:nvPr/>
        </p:nvSpPr>
        <p:spPr>
          <a:xfrm rot="19924800">
            <a:off x="6822720" y="4254120"/>
            <a:ext cx="760320" cy="7603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清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03280" y="300312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一场爱的密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一次爱的旅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预约你的情人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250920" y="7002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主题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2711520" y="14907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爱要大声说出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椭圆 4"/>
          <p:cNvSpPr/>
          <p:nvPr/>
        </p:nvSpPr>
        <p:spPr>
          <a:xfrm>
            <a:off x="4511520" y="239220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331640" y="1923840"/>
            <a:ext cx="70563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本次主题活动也是品牌的揭晓阶段，围绕“爱要大声说出来”分为三个小部分进行。每个部分都有一部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分钟的微电影。因为是悬念式活动，因此，每个阶段都有一个小主题。前两部微电影分两个阶段在网上发布。最后一部分则留在现场晚会上首映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整个品牌揭晓期将从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012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全面启动，直至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晚会结束后才暂告段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"/>
          <p:cNvSpPr/>
          <p:nvPr/>
        </p:nvSpPr>
        <p:spPr>
          <a:xfrm>
            <a:off x="539640" y="90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主题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43760" y="3670200"/>
            <a:ext cx="22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前期：一场爱的密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452040" y="3665520"/>
            <a:ext cx="22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中期：一次爱的旅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6626160" y="3684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后期：预约你的情人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3"/>
          <p:cNvSpPr/>
          <p:nvPr/>
        </p:nvSpPr>
        <p:spPr>
          <a:xfrm>
            <a:off x="783720" y="5349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一场爱的密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 rot="610800">
            <a:off x="-4680" y="2760480"/>
            <a:ext cx="1957320" cy="1306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 rot="21368400">
            <a:off x="1058760" y="1620360"/>
            <a:ext cx="1784520" cy="267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 rot="507000">
            <a:off x="2517480" y="939600"/>
            <a:ext cx="2181240" cy="32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8" descr=""/>
          <p:cNvPicPr/>
          <p:nvPr/>
        </p:nvPicPr>
        <p:blipFill>
          <a:blip r:embed="rId4"/>
          <a:stretch/>
        </p:blipFill>
        <p:spPr>
          <a:xfrm rot="21434400">
            <a:off x="3854160" y="139680"/>
            <a:ext cx="2147760" cy="321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Box 4"/>
          <p:cNvSpPr/>
          <p:nvPr/>
        </p:nvSpPr>
        <p:spPr>
          <a:xfrm>
            <a:off x="5796000" y="3784680"/>
            <a:ext cx="29350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简介：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男主角不停地做着一些令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人匪夷所思的事。电影气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氛紧张，节奏快。最后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个镜头是站在悬崖上的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主角回头若有所思地看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8358840" y="1166760"/>
            <a:ext cx="9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电影：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场爱的密谋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7"/>
          <p:cNvSpPr/>
          <p:nvPr/>
        </p:nvSpPr>
        <p:spPr>
          <a:xfrm>
            <a:off x="7451640" y="0"/>
            <a:ext cx="1800" cy="2597040"/>
          </a:xfrm>
          <a:prstGeom prst="line">
            <a:avLst/>
          </a:prstGeom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接连接符 11"/>
          <p:cNvSpPr/>
          <p:nvPr/>
        </p:nvSpPr>
        <p:spPr>
          <a:xfrm>
            <a:off x="0" y="4156200"/>
            <a:ext cx="971640" cy="1965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接连接符 13"/>
          <p:cNvSpPr/>
          <p:nvPr/>
        </p:nvSpPr>
        <p:spPr>
          <a:xfrm>
            <a:off x="971640" y="4352760"/>
            <a:ext cx="71280" cy="324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15"/>
          <p:cNvSpPr/>
          <p:nvPr/>
        </p:nvSpPr>
        <p:spPr>
          <a:xfrm flipV="1">
            <a:off x="1042920" y="4352760"/>
            <a:ext cx="2016360" cy="324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接连接符 17"/>
          <p:cNvSpPr/>
          <p:nvPr/>
        </p:nvSpPr>
        <p:spPr>
          <a:xfrm>
            <a:off x="3060720" y="4352760"/>
            <a:ext cx="1655640" cy="324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19"/>
          <p:cNvSpPr/>
          <p:nvPr/>
        </p:nvSpPr>
        <p:spPr>
          <a:xfrm>
            <a:off x="4716360" y="3784680"/>
            <a:ext cx="0" cy="8920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接连接符 21"/>
          <p:cNvSpPr/>
          <p:nvPr/>
        </p:nvSpPr>
        <p:spPr>
          <a:xfrm flipV="1">
            <a:off x="4716360" y="3219480"/>
            <a:ext cx="1800360" cy="5652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接连接符 25"/>
          <p:cNvSpPr/>
          <p:nvPr/>
        </p:nvSpPr>
        <p:spPr>
          <a:xfrm>
            <a:off x="6300720" y="2597040"/>
            <a:ext cx="216000" cy="622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7184160" y="69840"/>
            <a:ext cx="94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首播时间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500"/>
                            </p:stCondLst>
                            <p:childTnLst>
                              <p:par>
                                <p:cTn id="8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7500"/>
                            </p:stCondLst>
                            <p:childTnLst>
                              <p:par>
                                <p:cTn id="8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500"/>
                            </p:stCondLst>
                            <p:childTnLst>
                              <p:par>
                                <p:cTn id="9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801360" y="482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一次爱的旅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-7920" y="1303200"/>
            <a:ext cx="2408400" cy="160812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 rot="1620600">
            <a:off x="1242720" y="2012760"/>
            <a:ext cx="2693880" cy="179676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 rot="797400">
            <a:off x="3333240" y="2015640"/>
            <a:ext cx="1729080" cy="259092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  <p:pic>
        <p:nvPicPr>
          <p:cNvPr id="227" name="Picture 9" descr=""/>
          <p:cNvPicPr/>
          <p:nvPr/>
        </p:nvPicPr>
        <p:blipFill>
          <a:blip r:embed="rId4"/>
          <a:stretch/>
        </p:blipFill>
        <p:spPr>
          <a:xfrm rot="20804400">
            <a:off x="4858920" y="2489040"/>
            <a:ext cx="3036960" cy="160200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  <p:sp>
        <p:nvSpPr>
          <p:cNvPr id="228" name="TextBox 9"/>
          <p:cNvSpPr/>
          <p:nvPr/>
        </p:nvSpPr>
        <p:spPr>
          <a:xfrm>
            <a:off x="8789040" y="266760"/>
            <a:ext cx="9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电影：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次爱的这旅程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5688000" y="426960"/>
            <a:ext cx="1780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简介：女主角突然出现，并与男主角共同渡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美好的一天。电影采用慢节奏，并用大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量美景响应男女主角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最后一个镜头男主角终于鼓起勇气要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起女生的手，但是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4"/>
          <p:cNvSpPr/>
          <p:nvPr/>
        </p:nvSpPr>
        <p:spPr>
          <a:xfrm>
            <a:off x="8244000" y="0"/>
            <a:ext cx="1440" cy="170820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6"/>
          <p:cNvSpPr/>
          <p:nvPr/>
        </p:nvSpPr>
        <p:spPr>
          <a:xfrm flipH="1">
            <a:off x="5651280" y="1708200"/>
            <a:ext cx="2592360" cy="55872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"/>
          <p:cNvSpPr/>
          <p:nvPr/>
        </p:nvSpPr>
        <p:spPr>
          <a:xfrm>
            <a:off x="-7920" y="3311640"/>
            <a:ext cx="99072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11"/>
          <p:cNvSpPr/>
          <p:nvPr/>
        </p:nvSpPr>
        <p:spPr>
          <a:xfrm>
            <a:off x="981000" y="3311640"/>
            <a:ext cx="1935360" cy="101124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接连接符 13"/>
          <p:cNvSpPr/>
          <p:nvPr/>
        </p:nvSpPr>
        <p:spPr>
          <a:xfrm>
            <a:off x="2916360" y="4322880"/>
            <a:ext cx="0" cy="19836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接连接符 15"/>
          <p:cNvSpPr/>
          <p:nvPr/>
        </p:nvSpPr>
        <p:spPr>
          <a:xfrm>
            <a:off x="2916360" y="4521240"/>
            <a:ext cx="2014560" cy="49860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接连接符 20"/>
          <p:cNvSpPr/>
          <p:nvPr/>
        </p:nvSpPr>
        <p:spPr>
          <a:xfrm flipH="1">
            <a:off x="4930920" y="4770360"/>
            <a:ext cx="72720" cy="24948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直接连接符 23"/>
          <p:cNvSpPr/>
          <p:nvPr/>
        </p:nvSpPr>
        <p:spPr>
          <a:xfrm flipV="1">
            <a:off x="5003640" y="4156200"/>
            <a:ext cx="2448000" cy="61416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5"/>
          <p:cNvSpPr/>
          <p:nvPr/>
        </p:nvSpPr>
        <p:spPr>
          <a:xfrm rot="20748600">
            <a:off x="7333920" y="4078800"/>
            <a:ext cx="80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首播时间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500"/>
                            </p:stCondLst>
                            <p:childTnLst>
                              <p:par>
                                <p:cTn id="9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000"/>
                            </p:stCondLst>
                            <p:childTnLst>
                              <p:par>
                                <p:cTn id="9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0"/>
                            </p:stCondLst>
                            <p:childTnLst>
                              <p:par>
                                <p:cTn id="9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000"/>
                            </p:stCondLst>
                            <p:childTnLst>
                              <p:par>
                                <p:cTn id="9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3"/>
          <p:cNvSpPr/>
          <p:nvPr/>
        </p:nvSpPr>
        <p:spPr>
          <a:xfrm>
            <a:off x="801360" y="482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一次爱的旅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rcRect l="22236" t="0" r="0" b="0"/>
          <a:stretch/>
        </p:blipFill>
        <p:spPr>
          <a:xfrm>
            <a:off x="6156360" y="1492200"/>
            <a:ext cx="2592360" cy="22226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4"/>
          <p:cNvSpPr/>
          <p:nvPr/>
        </p:nvSpPr>
        <p:spPr>
          <a:xfrm>
            <a:off x="463680" y="1695600"/>
            <a:ext cx="56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第二部微电影播出后，将在官网同时启动“密谋活动”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密谋活动”城市：  北京    大连    杭州    成都   厦门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将由男主角录制号召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VCR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征集参与“密谋”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密谋活动”的时间和地点都将对外保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只有报名参与密谋的人才知道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我们将对报名者进行筛选和了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接连接符 6"/>
          <p:cNvSpPr/>
          <p:nvPr/>
        </p:nvSpPr>
        <p:spPr>
          <a:xfrm>
            <a:off x="463680" y="1523880"/>
            <a:ext cx="547668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8"/>
          <p:cNvSpPr/>
          <p:nvPr/>
        </p:nvSpPr>
        <p:spPr>
          <a:xfrm>
            <a:off x="463680" y="3714840"/>
            <a:ext cx="54766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87840" y="2284200"/>
            <a:ext cx="45720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。关于产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二。主题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三。品牌推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03640" y="1203120"/>
            <a:ext cx="20145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8"/>
          <p:cNvSpPr/>
          <p:nvPr/>
        </p:nvSpPr>
        <p:spPr>
          <a:xfrm flipH="1">
            <a:off x="4930560" y="1851120"/>
            <a:ext cx="433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3"/>
          <p:cNvSpPr/>
          <p:nvPr/>
        </p:nvSpPr>
        <p:spPr>
          <a:xfrm>
            <a:off x="1351440" y="581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预约你的情人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237320" y="14018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密谋活动城市 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之   </a:t>
            </a:r>
            <a:r>
              <a:rPr b="1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厦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995640" y="2363760"/>
            <a:ext cx="2506680" cy="210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7" name="Picture 3" descr=""/>
          <p:cNvPicPr/>
          <p:nvPr/>
        </p:nvPicPr>
        <p:blipFill>
          <a:blip r:embed="rId2"/>
          <a:srcRect l="10907" t="16637" r="9836" b="5279"/>
          <a:stretch/>
        </p:blipFill>
        <p:spPr>
          <a:xfrm>
            <a:off x="6661080" y="3032280"/>
            <a:ext cx="2210040" cy="143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1963800" y="2595600"/>
            <a:ext cx="1666800" cy="1873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49" name="直接连接符 6"/>
          <p:cNvSpPr/>
          <p:nvPr/>
        </p:nvSpPr>
        <p:spPr>
          <a:xfrm>
            <a:off x="466560" y="4803840"/>
            <a:ext cx="849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接连接符 9"/>
          <p:cNvSpPr/>
          <p:nvPr/>
        </p:nvSpPr>
        <p:spPr>
          <a:xfrm>
            <a:off x="7596360" y="12384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7371000" y="1238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火车站世贸商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564000" y="700200"/>
            <a:ext cx="5425920" cy="39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53" name="矩形 4"/>
          <p:cNvSpPr/>
          <p:nvPr/>
        </p:nvSpPr>
        <p:spPr>
          <a:xfrm>
            <a:off x="1351440" y="581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预约你的情人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934360" y="25884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晚会现场布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接连接符 7"/>
          <p:cNvSpPr/>
          <p:nvPr/>
        </p:nvSpPr>
        <p:spPr>
          <a:xfrm>
            <a:off x="2916360" y="0"/>
            <a:ext cx="0" cy="307656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1794960" y="4011480"/>
            <a:ext cx="136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亮点：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米杯子彩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杯子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10"/>
          <p:cNvSpPr/>
          <p:nvPr/>
        </p:nvSpPr>
        <p:spPr>
          <a:xfrm>
            <a:off x="682560" y="4660920"/>
            <a:ext cx="223200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"/>
          <p:cNvSpPr/>
          <p:nvPr/>
        </p:nvSpPr>
        <p:spPr>
          <a:xfrm>
            <a:off x="1351440" y="581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预约你的情人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226040" y="1779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活动流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6368400" y="1793880"/>
            <a:ext cx="166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微电影回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主持人热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爱情故事视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微电影结局片全国首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代言人号召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VC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快闪献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密谋上演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告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爱的孔明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心形 5"/>
          <p:cNvSpPr/>
          <p:nvPr/>
        </p:nvSpPr>
        <p:spPr>
          <a:xfrm>
            <a:off x="2857680" y="1378080"/>
            <a:ext cx="398160" cy="226800"/>
          </a:xfrm>
          <a:custGeom>
            <a:avLst/>
            <a:gdLst>
              <a:gd name="textAreaLeft" fmla="*/ 93600 w 398160"/>
              <a:gd name="textAreaRight" fmla="*/ 304560 w 398160"/>
              <a:gd name="textAreaTop" fmla="*/ 26640 h 226800"/>
              <a:gd name="textAreaBottom" fmla="*/ 142200 h 226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心形 7"/>
          <p:cNvSpPr/>
          <p:nvPr/>
        </p:nvSpPr>
        <p:spPr>
          <a:xfrm>
            <a:off x="3094200" y="1378080"/>
            <a:ext cx="398160" cy="226800"/>
          </a:xfrm>
          <a:custGeom>
            <a:avLst/>
            <a:gdLst>
              <a:gd name="textAreaLeft" fmla="*/ 93600 w 398160"/>
              <a:gd name="textAreaRight" fmla="*/ 304560 w 398160"/>
              <a:gd name="textAreaTop" fmla="*/ 26640 h 226800"/>
              <a:gd name="textAreaBottom" fmla="*/ 142200 h 226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直接箭头连接符 8"/>
          <p:cNvCxnSpPr/>
          <p:nvPr/>
        </p:nvCxnSpPr>
        <p:spPr>
          <a:xfrm>
            <a:off x="3492360" y="1491840"/>
            <a:ext cx="4825440" cy="1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1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708360" y="2427120"/>
            <a:ext cx="51847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品牌启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品牌宣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线上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539640" y="90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品牌推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3"/>
          <p:cNvSpPr/>
          <p:nvPr/>
        </p:nvSpPr>
        <p:spPr>
          <a:xfrm>
            <a:off x="687600" y="849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品牌启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1403280" y="185112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由于品牌揭晓是悬念式活动，产品亮相与市场曝光度都还不够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因此我们在活动结束后的第一天，也就是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年的情人节正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在全国范围内启动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侬我侬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这个品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届时，各大网站、电视台、杂志、广播都将展开一系列的攻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宣传，借着节日火力先打响第一炮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2"/>
          <p:cNvSpPr/>
          <p:nvPr/>
        </p:nvSpPr>
        <p:spPr>
          <a:xfrm>
            <a:off x="1206360" y="1635120"/>
            <a:ext cx="12049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4"/>
          <p:cNvSpPr/>
          <p:nvPr/>
        </p:nvSpPr>
        <p:spPr>
          <a:xfrm>
            <a:off x="1206360" y="1635120"/>
            <a:ext cx="0" cy="5763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6"/>
          <p:cNvSpPr/>
          <p:nvPr/>
        </p:nvSpPr>
        <p:spPr>
          <a:xfrm>
            <a:off x="7956720" y="3403440"/>
            <a:ext cx="0" cy="385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8"/>
          <p:cNvSpPr/>
          <p:nvPr/>
        </p:nvSpPr>
        <p:spPr>
          <a:xfrm flipH="1">
            <a:off x="7020000" y="3792600"/>
            <a:ext cx="936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273" name="直接连接符 5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6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品牌宣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7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5724360" y="458640"/>
            <a:ext cx="3006720" cy="4372200"/>
          </a:xfrm>
          <a:prstGeom prst="rect">
            <a:avLst/>
          </a:prstGeom>
          <a:ln w="0">
            <a:noFill/>
          </a:ln>
        </p:spPr>
      </p:pic>
      <p:sp>
        <p:nvSpPr>
          <p:cNvPr id="277" name="直接连接符 9"/>
          <p:cNvSpPr/>
          <p:nvPr/>
        </p:nvSpPr>
        <p:spPr>
          <a:xfrm>
            <a:off x="5219640" y="0"/>
            <a:ext cx="0" cy="29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4356000" y="3365640"/>
            <a:ext cx="1008000" cy="1465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52360" y="3367080"/>
            <a:ext cx="36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假装没在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其实早已偷偷算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今天一共笑了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6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这种感觉就好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啡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奶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苦涩的味蕾上跳动甜甜的幸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2494080" y="1449360"/>
            <a:ext cx="13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系列海报之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暗恋篇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8"/>
          <p:cNvSpPr/>
          <p:nvPr/>
        </p:nvSpPr>
        <p:spPr>
          <a:xfrm>
            <a:off x="3059280" y="268200"/>
            <a:ext cx="3168360" cy="465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283" name="直接连接符 4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5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品牌宣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6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TextBox 7"/>
          <p:cNvSpPr/>
          <p:nvPr/>
        </p:nvSpPr>
        <p:spPr>
          <a:xfrm>
            <a:off x="1341360" y="15238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系列海报之</a:t>
            </a:r>
            <a:r>
              <a:rPr b="0" lang="en-US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情侣篇</a:t>
            </a:r>
            <a:r>
              <a:rPr b="0" lang="en-US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3059280" y="392040"/>
            <a:ext cx="307152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矩形 9"/>
          <p:cNvSpPr/>
          <p:nvPr/>
        </p:nvSpPr>
        <p:spPr>
          <a:xfrm>
            <a:off x="1547640" y="2709720"/>
            <a:ext cx="1511640" cy="222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643040" y="2792520"/>
            <a:ext cx="1416240" cy="20574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2"/>
          <p:cNvSpPr/>
          <p:nvPr/>
        </p:nvSpPr>
        <p:spPr>
          <a:xfrm>
            <a:off x="6659640" y="1962000"/>
            <a:ext cx="2233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用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50%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喜欢自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用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50%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喜欢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好好喜欢自己才有资格更好地喜欢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啡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奶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给你最好的我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3"/>
          <a:srcRect l="41786" t="36395" r="41076" b="37440"/>
          <a:stretch/>
        </p:blipFill>
        <p:spPr>
          <a:xfrm>
            <a:off x="6745320" y="1386000"/>
            <a:ext cx="43488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3059280" y="184320"/>
            <a:ext cx="3313080" cy="48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Box 3"/>
          <p:cNvSpPr/>
          <p:nvPr/>
        </p:nvSpPr>
        <p:spPr>
          <a:xfrm>
            <a:off x="6659640" y="1801800"/>
            <a:ext cx="2089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起哭 一起笑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起疯 一起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我愿与你分享所有的美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姐妹大过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295" name="直接连接符 6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7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品牌宣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Box 8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TextBox 9"/>
          <p:cNvSpPr/>
          <p:nvPr/>
        </p:nvSpPr>
        <p:spPr>
          <a:xfrm>
            <a:off x="1341360" y="15238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系列海报之</a:t>
            </a:r>
            <a:r>
              <a:rPr b="0" lang="en-US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闺蜜篇</a:t>
            </a:r>
            <a:r>
              <a:rPr b="0" lang="en-US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2"/>
          <a:srcRect l="45273" t="30073" r="16632" b="59245"/>
          <a:stretch/>
        </p:blipFill>
        <p:spPr>
          <a:xfrm>
            <a:off x="6443640" y="4286160"/>
            <a:ext cx="2700360" cy="540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3"/>
          <a:stretch/>
        </p:blipFill>
        <p:spPr>
          <a:xfrm>
            <a:off x="1476360" y="3030480"/>
            <a:ext cx="133812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0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108000" y="484200"/>
            <a:ext cx="8351640" cy="4022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79280" y="563400"/>
            <a:ext cx="2675160" cy="3889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2916360" y="569880"/>
            <a:ext cx="2681280" cy="3882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3"/>
          <a:stretch/>
        </p:blipFill>
        <p:spPr>
          <a:xfrm>
            <a:off x="5678640" y="569880"/>
            <a:ext cx="26715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306" name="直接连接符 4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7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品牌宣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8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TextBox 7"/>
          <p:cNvSpPr/>
          <p:nvPr/>
        </p:nvSpPr>
        <p:spPr>
          <a:xfrm>
            <a:off x="1125720" y="142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投放媒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2066760" y="2066760"/>
            <a:ext cx="17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电视广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网络广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杂志广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4898880" y="142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预备投资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5796000" y="2066760"/>
            <a:ext cx="17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06</a:t>
            </a: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 2"/>
          <p:cNvSpPr/>
          <p:nvPr/>
        </p:nvSpPr>
        <p:spPr>
          <a:xfrm>
            <a:off x="4643280" y="4011480"/>
            <a:ext cx="417672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48000" y="2066400"/>
            <a:ext cx="489600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产品选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产品介绍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产品定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39640" y="90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关于产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4149720"/>
            <a:ext cx="677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营销策划方案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moban/yingxia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315" name="直接连接符 4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矩形 5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线上活动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Box 6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TextBox 1"/>
          <p:cNvSpPr/>
          <p:nvPr/>
        </p:nvSpPr>
        <p:spPr>
          <a:xfrm>
            <a:off x="1908360" y="1595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爱要大胆晒出来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3782520" y="1595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新浪微博照片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2"/>
          <p:cNvSpPr/>
          <p:nvPr/>
        </p:nvSpPr>
        <p:spPr>
          <a:xfrm>
            <a:off x="1531800" y="2355840"/>
            <a:ext cx="71406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接连接符 5"/>
          <p:cNvSpPr/>
          <p:nvPr/>
        </p:nvSpPr>
        <p:spPr>
          <a:xfrm>
            <a:off x="241200" y="4732200"/>
            <a:ext cx="84312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1081080" y="43498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新浪微博首页横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47920" y="2505240"/>
            <a:ext cx="6324480" cy="2106360"/>
            <a:chOff x="2347920" y="2505240"/>
            <a:chExt cx="6324480" cy="2106360"/>
          </a:xfrm>
        </p:grpSpPr>
        <p:grpSp>
          <p:nvGrpSpPr>
            <p:cNvPr id="324" name=""/>
            <p:cNvGrpSpPr/>
            <p:nvPr/>
          </p:nvGrpSpPr>
          <p:grpSpPr>
            <a:xfrm>
              <a:off x="2347920" y="2505240"/>
              <a:ext cx="6324480" cy="2106360"/>
              <a:chOff x="2347920" y="2505240"/>
              <a:chExt cx="6324480" cy="2106360"/>
            </a:xfrm>
          </p:grpSpPr>
          <p:pic>
            <p:nvPicPr>
              <p:cNvPr id="32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7920" y="2505240"/>
                <a:ext cx="6324480" cy="21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Box 7"/>
              <p:cNvSpPr/>
              <p:nvPr/>
            </p:nvSpPr>
            <p:spPr>
              <a:xfrm>
                <a:off x="5442120" y="4349880"/>
                <a:ext cx="185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详情点击你侬我侬官方网站   </a:t>
                </a:r>
                <a:r>
                  <a:rPr b="0" lang="en-US" sz="8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www.nnwn.co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7" name="Picture 10" descr=""/>
            <p:cNvPicPr/>
            <p:nvPr/>
          </p:nvPicPr>
          <p:blipFill>
            <a:blip r:embed="rId2"/>
            <a:stretch/>
          </p:blipFill>
          <p:spPr>
            <a:xfrm>
              <a:off x="2699640" y="3024360"/>
              <a:ext cx="496800" cy="331200"/>
            </a:xfrm>
            <a:prstGeom prst="rect">
              <a:avLst/>
            </a:prstGeom>
            <a:ln w="25560">
              <a:solidFill>
                <a:srgbClr val="4bacc6"/>
              </a:solidFill>
              <a:miter/>
            </a:ln>
          </p:spPr>
        </p:pic>
        <p:pic>
          <p:nvPicPr>
            <p:cNvPr id="328" name="Picture 9" descr=""/>
            <p:cNvPicPr/>
            <p:nvPr/>
          </p:nvPicPr>
          <p:blipFill>
            <a:blip r:embed="rId3"/>
            <a:stretch/>
          </p:blipFill>
          <p:spPr>
            <a:xfrm rot="20609400">
              <a:off x="3080880" y="2802960"/>
              <a:ext cx="555840" cy="416880"/>
            </a:xfrm>
            <a:prstGeom prst="rect">
              <a:avLst/>
            </a:prstGeom>
            <a:ln w="25560">
              <a:solidFill>
                <a:srgbClr val="4bacc6"/>
              </a:solidFill>
              <a:miter/>
            </a:ln>
          </p:spPr>
        </p:pic>
        <p:pic>
          <p:nvPicPr>
            <p:cNvPr id="329" name="Picture 11" descr=""/>
            <p:cNvPicPr/>
            <p:nvPr/>
          </p:nvPicPr>
          <p:blipFill>
            <a:blip r:embed="rId4"/>
            <a:srcRect l="5098" t="7953" r="10627" b="15433"/>
            <a:stretch/>
          </p:blipFill>
          <p:spPr>
            <a:xfrm rot="991200">
              <a:off x="3520080" y="3014280"/>
              <a:ext cx="493200" cy="350280"/>
            </a:xfrm>
            <a:prstGeom prst="rect">
              <a:avLst/>
            </a:prstGeom>
            <a:ln w="25560">
              <a:solidFill>
                <a:srgbClr val="4bacc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331" name="直接连接符 4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5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线上活动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TextBox 6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" name="TextBox 14"/>
          <p:cNvSpPr/>
          <p:nvPr/>
        </p:nvSpPr>
        <p:spPr>
          <a:xfrm>
            <a:off x="1908360" y="1595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爱要勇敢写出来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3782520" y="1595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腾讯空间情话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 2"/>
          <p:cNvSpPr/>
          <p:nvPr/>
        </p:nvSpPr>
        <p:spPr>
          <a:xfrm>
            <a:off x="2014560" y="2211480"/>
            <a:ext cx="6770520" cy="144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直接连接符 5"/>
          <p:cNvSpPr/>
          <p:nvPr/>
        </p:nvSpPr>
        <p:spPr>
          <a:xfrm>
            <a:off x="682560" y="4732200"/>
            <a:ext cx="810108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446480" y="4321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腾讯空间横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82920" y="2333520"/>
            <a:ext cx="6289560" cy="2254320"/>
            <a:chOff x="2482920" y="2333520"/>
            <a:chExt cx="6289560" cy="2254320"/>
          </a:xfrm>
        </p:grpSpPr>
        <p:pic>
          <p:nvPicPr>
            <p:cNvPr id="340" name="Picture 4" descr=""/>
            <p:cNvPicPr/>
            <p:nvPr/>
          </p:nvPicPr>
          <p:blipFill>
            <a:blip r:embed="rId1"/>
            <a:stretch/>
          </p:blipFill>
          <p:spPr>
            <a:xfrm>
              <a:off x="2482920" y="2333520"/>
              <a:ext cx="6289560" cy="2254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1" name="TextBox 13"/>
            <p:cNvSpPr/>
            <p:nvPr/>
          </p:nvSpPr>
          <p:spPr>
            <a:xfrm>
              <a:off x="4854600" y="4335480"/>
              <a:ext cx="185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详情点击你侬我侬官方网站   </a:t>
              </a:r>
              <a:r>
                <a:rPr b="0" lang="en-US" sz="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www.nnw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3"/>
          <p:cNvSpPr/>
          <p:nvPr/>
        </p:nvSpPr>
        <p:spPr>
          <a:xfrm>
            <a:off x="539640" y="90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总投预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995640" y="2355840"/>
            <a:ext cx="4572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。产品预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二。活动预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三。推广预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3B9-2E4D-46B0-8AF5-F11DE87DDE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5"/>
          <p:cNvSpPr/>
          <p:nvPr/>
        </p:nvSpPr>
        <p:spPr>
          <a:xfrm>
            <a:off x="568080" y="58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产品预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1042560" y="1287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按千杯成本算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1173240" y="179532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外包装：大杯身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小杯身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绳子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杯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2429280" y="2898720"/>
            <a:ext cx="33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内包装：咖啡粉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丝袜奶茶粉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情话贴纸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吸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2078640" y="234648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0   +   200  +  10 +  30   =490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3689280" y="3368520"/>
            <a:ext cx="45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0 +          250   +       5     +     15  =520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1041480" y="4227480"/>
            <a:ext cx="314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前期产品投入：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2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万杯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(1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万对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)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                          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约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20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，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000RM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7884360" y="87480"/>
            <a:ext cx="14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成杯小计：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010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元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千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4646880" y="4267080"/>
            <a:ext cx="21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产品代言费：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15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万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/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年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/2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 16"/>
          <p:cNvSpPr/>
          <p:nvPr/>
        </p:nvSpPr>
        <p:spPr>
          <a:xfrm>
            <a:off x="7723080" y="3781440"/>
            <a:ext cx="1060560" cy="105876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7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5"/>
          <p:cNvSpPr/>
          <p:nvPr/>
        </p:nvSpPr>
        <p:spPr>
          <a:xfrm>
            <a:off x="568080" y="58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活动预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118880" y="1557360"/>
            <a:ext cx="30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电影投资：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  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（包括投放媒介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优酷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716400" y="20271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活动现场：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2740320" y="202896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现场布置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（包括彩喷，舞美，杯子气球，杯子灯罩，杯子娃娃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1886760" y="298440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场地租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2874960" y="2500200"/>
            <a:ext cx="25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人员费用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（包括主持人，工作人员，快闪领舞，娃娃里的人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 rot="20871000">
            <a:off x="7074720" y="1754640"/>
            <a:ext cx="1027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32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约</a:t>
            </a:r>
            <a:r>
              <a:rPr b="0" lang="en-US" sz="1800" spc="-1" strike="noStrike">
                <a:solidFill>
                  <a:srgbClr val="ff4f25"/>
                </a:solidFill>
                <a:latin typeface="Calibri"/>
              </a:rPr>
              <a:t>6320</a:t>
            </a: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4"/>
          <p:cNvSpPr/>
          <p:nvPr/>
        </p:nvSpPr>
        <p:spPr>
          <a:xfrm rot="20871000">
            <a:off x="6441480" y="2387520"/>
            <a:ext cx="1027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32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约</a:t>
            </a:r>
            <a:r>
              <a:rPr b="0" lang="en-US" sz="1800" spc="-1" strike="noStrike">
                <a:solidFill>
                  <a:srgbClr val="ff4f25"/>
                </a:solidFill>
                <a:latin typeface="Calibri"/>
              </a:rPr>
              <a:t>4500</a:t>
            </a: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5"/>
          <p:cNvSpPr/>
          <p:nvPr/>
        </p:nvSpPr>
        <p:spPr>
          <a:xfrm rot="20871000">
            <a:off x="3093120" y="2883240"/>
            <a:ext cx="1027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32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约</a:t>
            </a:r>
            <a:r>
              <a:rPr b="0" lang="en-US" sz="1800" spc="-1" strike="noStrike">
                <a:solidFill>
                  <a:srgbClr val="ff4f25"/>
                </a:solidFill>
                <a:latin typeface="Calibri"/>
              </a:rPr>
              <a:t>5000</a:t>
            </a: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2012400" y="374976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活动费用小计：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1582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椭圆 17"/>
          <p:cNvSpPr/>
          <p:nvPr/>
        </p:nvSpPr>
        <p:spPr>
          <a:xfrm>
            <a:off x="7462800" y="3516480"/>
            <a:ext cx="1141560" cy="11412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5"/>
          <p:cNvSpPr/>
          <p:nvPr/>
        </p:nvSpPr>
        <p:spPr>
          <a:xfrm>
            <a:off x="568080" y="58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推广预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7"/>
          <p:cNvSpPr/>
          <p:nvPr/>
        </p:nvSpPr>
        <p:spPr>
          <a:xfrm>
            <a:off x="1461600" y="1492200"/>
            <a:ext cx="24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品牌宣传：电视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杂志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=218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1384200" y="2212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线上活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2638440" y="2217600"/>
            <a:ext cx="26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网络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云南三日游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对）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=78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椭圆 10"/>
          <p:cNvSpPr/>
          <p:nvPr/>
        </p:nvSpPr>
        <p:spPr>
          <a:xfrm>
            <a:off x="7308720" y="3363840"/>
            <a:ext cx="1150920" cy="115092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96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2297520" y="1851120"/>
            <a:ext cx="38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78200" y="555120"/>
            <a:ext cx="30193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产品选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4720" y="2211120"/>
            <a:ext cx="2735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选择或创造一类产品，适合暗恋或暧昧人群。符合其主题“爱要大声说出来”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054440" y="320040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关键词：暗恋</a:t>
            </a:r>
            <a:r>
              <a:rPr b="0" lang="en-US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665680" y="213516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指一方对另一方心存爱意或好感没有表白，通常是一种没有回报的爱，甚至被要求付出。暗恋者通常比其他恋爱来的痛苦，但暗恋方也通常在其过程中体会到无穷快乐与单方面的甜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361480" y="1643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暗   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052680" y="3724200"/>
            <a:ext cx="17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关键词：痛苦   甜蜜</a:t>
            </a:r>
            <a:r>
              <a:rPr b="0" lang="en-US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932760" y="16430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教学活动要求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10"/>
          <p:cNvSpPr/>
          <p:nvPr/>
        </p:nvSpPr>
        <p:spPr>
          <a:xfrm flipH="1">
            <a:off x="2123640" y="9874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2212560" y="10288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Part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62" name="直接连接符 5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选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8"/>
          <p:cNvSpPr/>
          <p:nvPr/>
        </p:nvSpPr>
        <p:spPr>
          <a:xfrm>
            <a:off x="879120" y="235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暗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直接箭头连接符 10"/>
          <p:cNvCxnSpPr/>
          <p:nvPr/>
        </p:nvCxnSpPr>
        <p:spPr>
          <a:xfrm flipV="1">
            <a:off x="1609200" y="2298240"/>
            <a:ext cx="864360" cy="28800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7" name="直接箭头连接符 12"/>
          <p:cNvCxnSpPr/>
          <p:nvPr/>
        </p:nvCxnSpPr>
        <p:spPr>
          <a:xfrm>
            <a:off x="1609200" y="2585880"/>
            <a:ext cx="864360" cy="3178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8" name="TextBox 15"/>
          <p:cNvSpPr/>
          <p:nvPr/>
        </p:nvSpPr>
        <p:spPr>
          <a:xfrm>
            <a:off x="2648880" y="2114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痛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2648880" y="2755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甜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直接箭头连接符 18"/>
          <p:cNvCxnSpPr/>
          <p:nvPr/>
        </p:nvCxnSpPr>
        <p:spPr>
          <a:xfrm>
            <a:off x="3130560" y="2278080"/>
            <a:ext cx="505440" cy="21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1" name="直接箭头连接符 19"/>
          <p:cNvCxnSpPr/>
          <p:nvPr/>
        </p:nvCxnSpPr>
        <p:spPr>
          <a:xfrm>
            <a:off x="3130560" y="2939760"/>
            <a:ext cx="505440" cy="1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" name="TextBox 20"/>
          <p:cNvSpPr/>
          <p:nvPr/>
        </p:nvSpPr>
        <p:spPr>
          <a:xfrm>
            <a:off x="3795480" y="211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3795480" y="2787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直接箭头连接符 23"/>
          <p:cNvCxnSpPr/>
          <p:nvPr/>
        </p:nvCxnSpPr>
        <p:spPr>
          <a:xfrm>
            <a:off x="4210200" y="2278080"/>
            <a:ext cx="506880" cy="21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直接箭头连接符 24"/>
          <p:cNvCxnSpPr/>
          <p:nvPr/>
        </p:nvCxnSpPr>
        <p:spPr>
          <a:xfrm>
            <a:off x="4210200" y="2939760"/>
            <a:ext cx="506880" cy="1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6" name="TextBox 25"/>
          <p:cNvSpPr/>
          <p:nvPr/>
        </p:nvSpPr>
        <p:spPr>
          <a:xfrm>
            <a:off x="4973040" y="2768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奶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4952520" y="2109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28"/>
          <p:cNvCxnSpPr/>
          <p:nvPr/>
        </p:nvCxnSpPr>
        <p:spPr>
          <a:xfrm>
            <a:off x="5506920" y="2293560"/>
            <a:ext cx="721440" cy="2926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9" name="直接箭头连接符 30"/>
          <p:cNvCxnSpPr/>
          <p:nvPr/>
        </p:nvCxnSpPr>
        <p:spPr>
          <a:xfrm flipV="1">
            <a:off x="5525640" y="2585160"/>
            <a:ext cx="702360" cy="3675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421320" y="2316240"/>
            <a:ext cx="387360" cy="539640"/>
          </a:xfrm>
          <a:prstGeom prst="rect">
            <a:avLst/>
          </a:prstGeom>
          <a:ln w="0">
            <a:noFill/>
          </a:ln>
        </p:spPr>
      </p:pic>
      <p:cxnSp>
        <p:nvCxnSpPr>
          <p:cNvPr id="81" name="直接箭头连接符 33"/>
          <p:cNvCxnSpPr/>
          <p:nvPr/>
        </p:nvCxnSpPr>
        <p:spPr>
          <a:xfrm>
            <a:off x="6948000" y="2585520"/>
            <a:ext cx="577080" cy="25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2" name="TextBox 34"/>
          <p:cNvSpPr/>
          <p:nvPr/>
        </p:nvSpPr>
        <p:spPr>
          <a:xfrm>
            <a:off x="7934400" y="20113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鸳 鸯 奶 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0440" y="1708200"/>
            <a:ext cx="19429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鸳鸯奶茶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242712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鸳鸯奶茶是香港特产饮品，常见于香港的茶餐厅。制法是混合了</a:t>
            </a:r>
            <a:r>
              <a:rPr b="1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半的咖啡</a:t>
            </a: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半的丝袜奶茶</a:t>
            </a: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，同时集合有咖啡的香味，和奶茶的浓滑。饮用者可以自行加糖，也可以叫店里事先加入炼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86" name="直接连接符 5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矩形 6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选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7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90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介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7"/>
          <p:cNvSpPr/>
          <p:nvPr/>
        </p:nvSpPr>
        <p:spPr>
          <a:xfrm>
            <a:off x="1282680" y="1779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名称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2526120" y="177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侬我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271880" y="32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广告语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3543120" y="32511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2376360" y="2163600"/>
            <a:ext cx="592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侬我侬，忒煞情多；情多处，热如火；把一块泥，捻一个你，塑一个我，将咱两个一齐打碎，用水调和；再捻一个你，再塑一个我。我泥中有你，你泥中有我；我与你生同一个衾，死同一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出处：管道升</a:t>
            </a:r>
            <a:r>
              <a:rPr b="0" lang="en-US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《</a:t>
            </a:r>
            <a:r>
              <a:rPr b="0" lang="zh-CN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我侬词</a:t>
            </a:r>
            <a:r>
              <a:rPr b="0" lang="en-US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》 </a:t>
            </a:r>
            <a:r>
              <a:rPr b="0" lang="zh-CN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元代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99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介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7"/>
          <p:cNvSpPr/>
          <p:nvPr/>
        </p:nvSpPr>
        <p:spPr>
          <a:xfrm>
            <a:off x="3195000" y="149220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8" descr=""/>
          <p:cNvPicPr/>
          <p:nvPr/>
        </p:nvPicPr>
        <p:blipFill>
          <a:blip r:embed="rId1"/>
          <a:stretch/>
        </p:blipFill>
        <p:spPr>
          <a:xfrm>
            <a:off x="4572000" y="1492200"/>
            <a:ext cx="4379760" cy="2735280"/>
          </a:xfrm>
          <a:prstGeom prst="rect">
            <a:avLst/>
          </a:prstGeom>
          <a:ln w="0">
            <a:noFill/>
          </a:ln>
        </p:spPr>
      </p:pic>
      <p:sp>
        <p:nvSpPr>
          <p:cNvPr id="104" name="直接连接符 10"/>
          <p:cNvSpPr/>
          <p:nvPr/>
        </p:nvSpPr>
        <p:spPr>
          <a:xfrm>
            <a:off x="3419640" y="1419120"/>
            <a:ext cx="5724360" cy="0"/>
          </a:xfrm>
          <a:prstGeom prst="line">
            <a:avLst/>
          </a:prstGeom>
          <a:ln w="9360">
            <a:solidFill>
              <a:srgbClr val="9537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11"/>
          <p:cNvSpPr/>
          <p:nvPr/>
        </p:nvSpPr>
        <p:spPr>
          <a:xfrm>
            <a:off x="1835280" y="4300560"/>
            <a:ext cx="7308720" cy="1440"/>
          </a:xfrm>
          <a:prstGeom prst="line">
            <a:avLst/>
          </a:prstGeom>
          <a:ln w="9360">
            <a:solidFill>
              <a:srgbClr val="9537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18760" y="360036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LOGO</a:t>
            </a: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的主体为一大一小的白色简笔杯子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小杯靠着大杯表现出小鸟依人的样子，给人以浪漫气息；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杯子下方是产品名称和产品类别，底色为磨纱咖咖啡色，符合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形象。</a:t>
            </a:r>
            <a:r>
              <a:rPr b="0" lang="en-US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LOGO</a:t>
            </a: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虽然只有两种颜色，但已良好诠释了产品特性和品牌路线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08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介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271" descr=""/>
          <p:cNvPicPr/>
          <p:nvPr/>
        </p:nvPicPr>
        <p:blipFill>
          <a:blip r:embed="rId1"/>
          <a:stretch/>
        </p:blipFill>
        <p:spPr>
          <a:xfrm>
            <a:off x="34920" y="1419120"/>
            <a:ext cx="5400720" cy="2521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076"/>
          <p:cNvSpPr/>
          <p:nvPr/>
        </p:nvSpPr>
        <p:spPr>
          <a:xfrm>
            <a:off x="5810400" y="1419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外包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077"/>
          <p:cNvSpPr/>
          <p:nvPr/>
        </p:nvSpPr>
        <p:spPr>
          <a:xfrm>
            <a:off x="5727600" y="1920960"/>
            <a:ext cx="179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规格：高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2cm  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最长直径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纸质：磨纱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81"/>
          <p:cNvSpPr/>
          <p:nvPr/>
        </p:nvSpPr>
        <p:spPr>
          <a:xfrm>
            <a:off x="6573600" y="2800440"/>
            <a:ext cx="787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蓝一粉两杯为一对，杯子清新简约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大一小更有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有精美麻绳将两杯绑在一起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不采用其它袋质外包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3079"/>
          <p:cNvSpPr/>
          <p:nvPr/>
        </p:nvSpPr>
        <p:spPr>
          <a:xfrm>
            <a:off x="5651640" y="2571840"/>
            <a:ext cx="32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06:36:00Z</dcterms:created>
  <dc:creator>Mok，</dc:creator>
  <dc:description/>
  <dc:language>en-US</dc:language>
  <cp:lastModifiedBy>a</cp:lastModifiedBy>
  <dcterms:modified xsi:type="dcterms:W3CDTF">2015-07-11T15:21:31Z</dcterms:modified>
  <cp:revision>1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