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EC71-6D68-4E64-9796-97F3D84C1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D745-E7B4-43D5-A6B2-84BB3865C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5226-722B-4F21-B95C-E74181BC6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2258-6D82-48E2-9565-5FADCD574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EE16-47E2-41E7-83CF-4670B21D5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A1F8-166B-4C28-9D3F-8F9360C49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0C68-C5D4-43CA-B033-66E910F87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326B-F5B1-4DF8-8875-70C1D49D6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C0C1-9D51-4AFC-B27E-2DE5B5749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8885-8B4E-467F-8A7F-EDDBAF7BE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E9CD-01D5-465B-81F5-3794487C9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72A1-F0D3-49A4-8A7B-88FA91B56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F5129-489D-4EFF-A1AB-49ADD100B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hyperlink" Target="http://www.1ppt.com/moban/" TargetMode="External"/><Relationship Id="rId4" Type="http://schemas.openxmlformats.org/officeDocument/2006/relationships/hyperlink" Target="http://www.1ppt.com/hangye/" TargetMode="External"/><Relationship Id="rId5" Type="http://schemas.openxmlformats.org/officeDocument/2006/relationships/hyperlink" Target="http://www.1ppt.com/jieri/" TargetMode="External"/><Relationship Id="rId6" Type="http://schemas.openxmlformats.org/officeDocument/2006/relationships/hyperlink" Target="http://www.1ppt.com/sucai/" TargetMode="External"/><Relationship Id="rId7" Type="http://schemas.openxmlformats.org/officeDocument/2006/relationships/hyperlink" Target="http://www.1ppt.com/beijing/" TargetMode="External"/><Relationship Id="rId8" Type="http://schemas.openxmlformats.org/officeDocument/2006/relationships/hyperlink" Target="http://www.1ppt.com/tubiao/" TargetMode="External"/><Relationship Id="rId9" Type="http://schemas.openxmlformats.org/officeDocument/2006/relationships/hyperlink" Target="http://www.1ppt.com/xiazai/" TargetMode="External"/><Relationship Id="rId10" Type="http://schemas.openxmlformats.org/officeDocument/2006/relationships/hyperlink" Target="http://www.1ppt.com/powerpoint/" TargetMode="External"/><Relationship Id="rId11" Type="http://schemas.openxmlformats.org/officeDocument/2006/relationships/hyperlink" Target="http://www.1ppt.com/word/" TargetMode="External"/><Relationship Id="rId12" Type="http://schemas.openxmlformats.org/officeDocument/2006/relationships/hyperlink" Target="http://www.1ppt.com/excel/" TargetMode="External"/><Relationship Id="rId13" Type="http://schemas.openxmlformats.org/officeDocument/2006/relationships/hyperlink" Target="http://www.1ppt.com/ziliao/" TargetMode="External"/><Relationship Id="rId14" Type="http://schemas.openxmlformats.org/officeDocument/2006/relationships/hyperlink" Target="http://www.1ppt.com/kejian/" TargetMode="External"/><Relationship Id="rId15" Type="http://schemas.openxmlformats.org/officeDocument/2006/relationships/hyperlink" Target="http://www.1ppt.com/fanwen/" TargetMode="External"/><Relationship Id="rId16" Type="http://schemas.openxmlformats.org/officeDocument/2006/relationships/hyperlink" Target="http://www.1ppt.com/shiti/" TargetMode="External"/><Relationship Id="rId17" Type="http://schemas.openxmlformats.org/officeDocument/2006/relationships/hyperlink" Target="http://www.1ppt.com/jiaoan/" TargetMode="External"/><Relationship Id="rId18" Type="http://schemas.openxmlformats.org/officeDocument/2006/relationships/image" Target="../media/image4.png"/><Relationship Id="rId19" Type="http://schemas.openxmlformats.org/officeDocument/2006/relationships/image" Target="../media/image5.png"/><Relationship Id="rId20" Type="http://schemas.openxmlformats.org/officeDocument/2006/relationships/image" Target="../media/image6.png"/><Relationship Id="rId21" Type="http://schemas.openxmlformats.org/officeDocument/2006/relationships/hyperlink" Target="http://www.eeppt.com" TargetMode="External"/><Relationship Id="rId2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2"/>
          <p:cNvSpPr/>
          <p:nvPr/>
        </p:nvSpPr>
        <p:spPr>
          <a:xfrm>
            <a:off x="1085400" y="3807720"/>
            <a:ext cx="6069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汉仪行楷简"/>
                <a:ea typeface="汉仪行楷简"/>
              </a:rPr>
              <a:t>姓名</a:t>
            </a:r>
            <a:r>
              <a:rPr b="0" lang="en-US" sz="2800" spc="-1" strike="noStrike">
                <a:solidFill>
                  <a:srgbClr val="7f7f7f"/>
                </a:solidFill>
                <a:latin typeface="汉仪行楷简"/>
                <a:ea typeface="汉仪行楷简"/>
              </a:rPr>
              <a:t>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851280" y="234936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25320" y="1270080"/>
            <a:ext cx="311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我介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通用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0" descr=""/>
          <p:cNvPicPr/>
          <p:nvPr/>
        </p:nvPicPr>
        <p:blipFill>
          <a:blip r:embed="rId2"/>
          <a:stretch/>
        </p:blipFill>
        <p:spPr>
          <a:xfrm>
            <a:off x="3564000" y="795240"/>
            <a:ext cx="5056200" cy="5081760"/>
          </a:xfrm>
          <a:prstGeom prst="rect">
            <a:avLst/>
          </a:prstGeom>
          <a:ln w="0">
            <a:noFill/>
          </a:ln>
        </p:spPr>
      </p:pic>
      <p:grpSp>
        <p:nvGrpSpPr>
          <p:cNvPr id="45" name="组合 2"/>
          <p:cNvGrpSpPr/>
          <p:nvPr/>
        </p:nvGrpSpPr>
        <p:grpSpPr>
          <a:xfrm>
            <a:off x="0" y="0"/>
            <a:ext cx="9144000" cy="1574640"/>
            <a:chOff x="0" y="0"/>
            <a:chExt cx="9144000" cy="1574640"/>
          </a:xfrm>
        </p:grpSpPr>
        <p:sp>
          <p:nvSpPr>
            <p:cNvPr id="46" name="矩形 14"/>
            <p:cNvSpPr/>
            <p:nvPr/>
          </p:nvSpPr>
          <p:spPr>
            <a:xfrm>
              <a:off x="5076000" y="715320"/>
              <a:ext cx="648000" cy="14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模板下载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3"/>
                </a:rPr>
                <a:t>www.1ppt.com/moban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行业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模板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4"/>
                </a:rPr>
                <a:t>www.1ppt.com/hangye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节日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模板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5"/>
                </a:rPr>
                <a:t>www.1ppt.com/jieri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     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素材下载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6"/>
                </a:rPr>
                <a:t>www.1ppt.com/sucai/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背景图片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7"/>
                </a:rPr>
                <a:t>www.1ppt.com/beijing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图表下载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8"/>
                </a:rPr>
                <a:t>www.1ppt.com/tubiao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优秀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下载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9"/>
                </a:rPr>
                <a:t>www.1ppt.com/xiazai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  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教程： 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10"/>
                </a:rPr>
                <a:t>www.1ppt.com/powerpoint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Word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教程： 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11"/>
                </a:rPr>
                <a:t>www.1ppt.com/word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        Excel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教程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12"/>
                </a:rPr>
                <a:t>www.1ppt.com/excel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资料下载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13"/>
                </a:rPr>
                <a:t>www.1ppt.com/ziliao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          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课件下载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14"/>
                </a:rPr>
                <a:t>www.1ppt.com/kejian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范文下载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15"/>
                </a:rPr>
                <a:t>www.1ppt.com/fanwen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       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试卷下载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16"/>
                </a:rPr>
                <a:t>www.1ppt.com/shiti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教案下载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17"/>
                </a:rPr>
                <a:t>www.1ppt.com/jiaoan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" name="Picture 4" descr=""/>
            <p:cNvPicPr/>
            <p:nvPr/>
          </p:nvPicPr>
          <p:blipFill>
            <a:blip r:embed="rId18"/>
            <a:stretch/>
          </p:blipFill>
          <p:spPr>
            <a:xfrm>
              <a:off x="0" y="0"/>
              <a:ext cx="9144000" cy="157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" name="Group 18"/>
          <p:cNvGrpSpPr/>
          <p:nvPr/>
        </p:nvGrpSpPr>
        <p:grpSpPr>
          <a:xfrm>
            <a:off x="1023840" y="404640"/>
            <a:ext cx="2031840" cy="2502000"/>
            <a:chOff x="1023840" y="404640"/>
            <a:chExt cx="2031840" cy="2502000"/>
          </a:xfrm>
        </p:grpSpPr>
        <p:pic>
          <p:nvPicPr>
            <p:cNvPr id="49" name="Picture 10" descr=""/>
            <p:cNvPicPr/>
            <p:nvPr/>
          </p:nvPicPr>
          <p:blipFill>
            <a:blip r:embed="rId19"/>
            <a:stretch/>
          </p:blipFill>
          <p:spPr>
            <a:xfrm>
              <a:off x="1023840" y="404640"/>
              <a:ext cx="2031840" cy="250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12" descr=""/>
            <p:cNvPicPr/>
            <p:nvPr/>
          </p:nvPicPr>
          <p:blipFill>
            <a:blip r:embed="rId20"/>
            <a:stretch/>
          </p:blipFill>
          <p:spPr>
            <a:xfrm>
              <a:off x="1239840" y="620640"/>
              <a:ext cx="1584360" cy="2031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Text Box 13"/>
          <p:cNvSpPr/>
          <p:nvPr/>
        </p:nvSpPr>
        <p:spPr>
          <a:xfrm>
            <a:off x="324000" y="2930400"/>
            <a:ext cx="955440" cy="17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姓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学校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专业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电话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4"/>
          <p:cNvSpPr/>
          <p:nvPr/>
        </p:nvSpPr>
        <p:spPr>
          <a:xfrm>
            <a:off x="1044720" y="3284640"/>
            <a:ext cx="230508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5"/>
          <p:cNvSpPr/>
          <p:nvPr/>
        </p:nvSpPr>
        <p:spPr>
          <a:xfrm>
            <a:off x="1044720" y="3716280"/>
            <a:ext cx="230508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6"/>
          <p:cNvSpPr/>
          <p:nvPr/>
        </p:nvSpPr>
        <p:spPr>
          <a:xfrm>
            <a:off x="1044720" y="4149720"/>
            <a:ext cx="230508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7"/>
          <p:cNvSpPr/>
          <p:nvPr/>
        </p:nvSpPr>
        <p:spPr>
          <a:xfrm>
            <a:off x="1044720" y="4653000"/>
            <a:ext cx="230508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1"/>
          <p:cNvSpPr/>
          <p:nvPr/>
        </p:nvSpPr>
        <p:spPr>
          <a:xfrm>
            <a:off x="3851280" y="1773360"/>
            <a:ext cx="453708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尊敬的各位领导，老师，亲爱的同学们，大家晚上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今天很荣幸能够参加这样一个很有意义的活动。在大家看过刚才的视频之后，大家应该会对我有了一个初步的认识，在此，我向大家介绍一下自己，我是来自计算机学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级的刘婧。我虽然学习工科，但我确深深的爱上了艺术，在我很小的时候就孕育着对艺术的热情，直到大学，我将我小小的梦想逐渐放大，走上了理工大的舞台，从此开始我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台梦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1341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9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1344-0DBA-4DE6-9AEC-B31F96A90F7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574640"/>
          </a:xfrm>
          <a:prstGeom prst="rect">
            <a:avLst/>
          </a:prstGeom>
          <a:ln w="0">
            <a:noFill/>
          </a:ln>
        </p:spPr>
      </p:pic>
      <p:pic>
        <p:nvPicPr>
          <p:cNvPr id="62" name="矩形 4" descr=""/>
          <p:cNvPicPr/>
          <p:nvPr/>
        </p:nvPicPr>
        <p:blipFill>
          <a:blip r:embed="rId3"/>
          <a:stretch/>
        </p:blipFill>
        <p:spPr>
          <a:xfrm>
            <a:off x="2498760" y="2255760"/>
            <a:ext cx="4852800" cy="16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6T13:54:32Z</dcterms:created>
  <dc:creator>admin</dc:creator>
  <dc:description/>
  <dc:language>en-US</dc:language>
  <cp:lastModifiedBy>lenovo</cp:lastModifiedBy>
  <dcterms:modified xsi:type="dcterms:W3CDTF">2015-07-11T14:37:48Z</dcterms:modified>
  <cp:revision>9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