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EE6-2EFA-47AC-BAD6-431DE98A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FA2-2DCF-4126-84F6-24E5C3A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1AA-0A16-47E8-9E56-F35F6A43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8F8-C9EA-48BC-90CD-84AC973F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6436-0E2B-4848-A76C-E527F0CD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528D-A8E6-4129-890F-6CBE4FA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0A7E-83A9-4E58-A79B-5FB6226B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166-580D-4BC4-8291-F82144F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887F-B43C-47A5-9C98-1FD0C1C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978E-D793-4537-A830-E4D72B6F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B965-0AC0-4BC8-9E88-B6E38D6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93F-F970-4054-8AD6-499D1BEF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021F-C997-426B-976E-2461C73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CBB4-35A5-45D6-AF90-C24B6EB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06E-091F-4B80-8C60-0FC5D182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1546-456E-4D7A-AAD5-D420E271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7A8-15B5-4C7F-B68B-ECF19635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E52-36CF-433C-99CF-D08A49A7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AE1-1835-4133-886A-BC416BCC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12B-FB14-4E6F-8E28-A7718677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545-0A8D-45BD-B677-1B48BB0F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3BA-7624-456B-ADAB-A555178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CB0-8EAF-4042-9BBB-6B1AB92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F1D-B466-49F0-B20E-DB807E2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11160"/>
            <a:ext cx="10686240" cy="7440120"/>
            <a:chOff x="-1542240" y="-11160"/>
            <a:chExt cx="10686240" cy="7440120"/>
          </a:xfrm>
        </p:grpSpPr>
        <p:sp>
          <p:nvSpPr>
            <p:cNvPr id="1" name=""/>
            <p:cNvSpPr/>
            <p:nvPr/>
          </p:nvSpPr>
          <p:spPr>
            <a:xfrm>
              <a:off x="2590920" y="648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4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92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48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21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4400">
              <a:off x="-1562040" y="16671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4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4400">
              <a:off x="2950200" y="1387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324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5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6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6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6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6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41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3920" y="613008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08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676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08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2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3D3-DB04-49F4-A76C-177C9967E0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1520" y="-24480"/>
            <a:ext cx="10696680" cy="6895080"/>
            <a:chOff x="-1541520" y="-24480"/>
            <a:chExt cx="10696680" cy="6895080"/>
          </a:xfrm>
        </p:grpSpPr>
        <p:sp>
          <p:nvSpPr>
            <p:cNvPr id="70" name=""/>
            <p:cNvSpPr/>
            <p:nvPr/>
          </p:nvSpPr>
          <p:spPr>
            <a:xfrm>
              <a:off x="2590920" y="-6120"/>
              <a:ext cx="27572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9360"/>
              <a:ext cx="27576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4680"/>
              <a:ext cx="276084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2600"/>
              <a:ext cx="33019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516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6800"/>
              <a:ext cx="403740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9200"/>
              <a:ext cx="556272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4400">
              <a:off x="-1560960" y="1652400"/>
              <a:ext cx="55609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480" y="1450080"/>
              <a:ext cx="5705640" cy="275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4400">
              <a:off x="2950560" y="1374120"/>
              <a:ext cx="556236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9360"/>
              <a:ext cx="17290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7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8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8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8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8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952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83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9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6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5000" y="3783960"/>
              <a:ext cx="164088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57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172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57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88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360"/>
              <a:ext cx="9144000" cy="9140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440"/>
              <a:ext cx="9144000" cy="1447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20440"/>
              <a:ext cx="3240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E6F-5F57-48C0-957A-2C5F78BC2E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Arial"/>
              <a:buChar char="l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Arial"/>
              <a:buChar char="l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Arial"/>
              <a:buChar char="l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152388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中学生心理健康   与辅导专题</a:t>
            </a:r>
            <a:r>
              <a:rPr b="0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PP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533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运作状态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6002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校级领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成立机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家庭、社会协同合作组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429000"/>
            <a:ext cx="4419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建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开设心育课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咨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科渗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举办心理健康讲座、黑板报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65760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17524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组织领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具体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3623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352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运作状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380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工作绩效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144792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问题的发生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学生心理问题引发严重事件的比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问题检出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441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康复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康复程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发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毕业生追踪调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1148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360 h 1523880"/>
              <a:gd name="textAreaBottom" fmla="*/ 1406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1"/>
                  <a:pt x="10800" y="5322"/>
                </a:cubicBezTo>
                <a:lnTo>
                  <a:pt x="10800" y="5635"/>
                </a:lnTo>
                <a:cubicBezTo>
                  <a:pt x="10800" y="8296"/>
                  <a:pt x="5400" y="10957"/>
                  <a:pt x="0" y="10957"/>
                </a:cubicBezTo>
                <a:cubicBezTo>
                  <a:pt x="5400" y="10957"/>
                  <a:pt x="10800" y="13618"/>
                  <a:pt x="10800" y="16279"/>
                </a:cubicBezTo>
                <a:lnTo>
                  <a:pt x="10800" y="16278"/>
                </a:lnTo>
                <a:cubicBezTo>
                  <a:pt x="10800" y="18939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765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8280 h 1447560"/>
              <a:gd name="textAreaBottom" fmla="*/ 134928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45"/>
                  <a:pt x="10800" y="4689"/>
                </a:cubicBezTo>
                <a:lnTo>
                  <a:pt x="10800" y="6111"/>
                </a:lnTo>
                <a:cubicBezTo>
                  <a:pt x="10800" y="8456"/>
                  <a:pt x="5400" y="10800"/>
                  <a:pt x="0" y="10800"/>
                </a:cubicBezTo>
                <a:cubicBezTo>
                  <a:pt x="5400" y="10800"/>
                  <a:pt x="10800" y="13145"/>
                  <a:pt x="10800" y="15489"/>
                </a:cubicBezTo>
                <a:lnTo>
                  <a:pt x="10800" y="16911"/>
                </a:lnTo>
                <a:cubicBezTo>
                  <a:pt x="10800" y="19256"/>
                  <a:pt x="16200" y="21600"/>
                  <a:pt x="21600" y="2160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总体心理健康水平评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学生心理的康复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286000"/>
            <a:ext cx="228600" cy="2819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133920" y="2590920"/>
            <a:ext cx="91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作绩效评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457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基本条件的评估指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17524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专职教师人数及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兼职教师人数及水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每年接受培训的教师人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038480"/>
            <a:ext cx="4419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投入资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仪器设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文献材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1911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19051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资队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648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资金与设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心理健康教育的基本条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380880"/>
            <a:ext cx="8458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如果不是传媒的及时披露，人们很难想象这样的暴行竟会发生在校园内，发生在我们一向尊为人类灵魂工程师的老师身上。根源在哪里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一是历史根源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中国传统私塾教育的影响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师道尊严”、“一日为师，终身为父”观念根深蒂固，教师高高在上，即使错了，也不容学生反齿。这种遗毒一旦遇到适宜的土壤就会发生教师暴力事件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二是现实原因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由于我国现行的教育体制弊端，不仅学校．教师、学生、家长，而且全社会都围着高考指挥棒转，即使老师错了，有的家长明知有违良心，有悖公理，但迫于无奈，保能打掉门牙肚里咽，还有的家长缺乏法制观念，客观上助长了老师的暴力行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三是社会因素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长期以来，对学生管教严一点，处罚重一点，甚至非打即骂现象，社会上也是认同的，对老师体罚学生持宽容态度，为教师开脱。最常听到是什么“小孩子不好，不能怪老师”、“老师也是出于好心”、“老师恨铁不成钢”等等，而对教师暴力，学校往往态度暖昧和护短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457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95880" y="61722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ea typeface="华文新魏"/>
              </a:rPr>
              <a:t>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四是教师素质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教师是教书育人的，他们的心理素质和心理健康尤为重要。如果教师自身缺乏健康心理，怎么能培养出心理健康的学生？如果教师本身性格多疑怪癖，情绪喜怒无常，对学生赏罚无度、冷漠无情、又怎么能使学生的心态平衡、情绪正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可以说，心理不健康的教师对学生身心造成的危害，决不亚于其教学能力低下对学生学业所产生的影响。对教师而言，教学任务重，升学压力大，工作超负荷等因素，均可使他们精神负担加重，身心疾病增加。因为教师也不是不食人间烟火的神仙，他们也有自己的喜怒哀乐和现实问题，如果工作和生活中的各种问题长期得不到解决，由此而产生的不良情绪长期得不到释放，日积月累，恶劣情绪最终会以“零存整缺”的形式突破心理承受的极限而爆发。如婚姻生活不美满、不良情绪无处排泄，教师便选择了相对而言的弱势群体作为发泄的突破口，以寻求某种心理平衡，这种避强欺弱的意识和行为，反映出思维的偏差和心态的扭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比较中学心理健康教育、咨询辅导模式和发展教育模式的异同。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你认为学校教育对中学生的心理发展有什么影响，学校中哪些因素会对学生起主要作用。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在中学开展心理健康教育应具备哪些条件？ （字数要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右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题目以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ORD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文档形式发到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XXX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电子信箱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3808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思考题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725560" y="228600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师联系电话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905120" y="1752480"/>
            <a:ext cx="55623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仿宋"/>
              </a:rPr>
              <a:t>再见！</a:t>
            </a:r>
            <a:endParaRPr b="0" lang="en-US" sz="6600" spc="-1" strike="noStrike">
              <a:ln w="936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仿宋"/>
              <a:ea typeface="华文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990720"/>
            <a:ext cx="533520" cy="5181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87640 h 5181480"/>
              <a:gd name="textAreaBottom" fmla="*/ 489384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6"/>
                  <a:pt x="10800" y="3832"/>
                </a:cubicBezTo>
                <a:lnTo>
                  <a:pt x="10800" y="6968"/>
                </a:lnTo>
                <a:cubicBezTo>
                  <a:pt x="10800" y="8884"/>
                  <a:pt x="5400" y="10800"/>
                  <a:pt x="0" y="10800"/>
                </a:cubicBezTo>
                <a:cubicBezTo>
                  <a:pt x="5400" y="10800"/>
                  <a:pt x="10800" y="12716"/>
                  <a:pt x="10800" y="14632"/>
                </a:cubicBezTo>
                <a:lnTo>
                  <a:pt x="10800" y="17768"/>
                </a:lnTo>
                <a:cubicBezTo>
                  <a:pt x="10800" y="19684"/>
                  <a:pt x="16200" y="21600"/>
                  <a:pt x="2160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9400" y="914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两种模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中存在的主要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5360" y="4343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发展趋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5561280"/>
            <a:ext cx="716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效果评估指标体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029400" y="1981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心理健康教育的几种做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63080" y="281952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五个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一、中学心理健康教育的两种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1143000"/>
          <a:ext cx="8763120" cy="5715000"/>
        </p:xfrm>
        <a:graphic>
          <a:graphicData uri="http://schemas.openxmlformats.org/drawingml/2006/table">
            <a:tbl>
              <a:tblPr/>
              <a:tblGrid>
                <a:gridCol w="1800360"/>
                <a:gridCol w="3520800"/>
                <a:gridCol w="34419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咨询辅导模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发展教育模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专业教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班主任或任课教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目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健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发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对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少数学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体学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途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个别咨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团体辅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策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被动等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主动教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工作方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移情、释放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疏导、解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上课、班会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讲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384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二、中学心理健康教育的几种做法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咨询辅导模式的几种做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开设心理咨询室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通过测评建立心理档案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书信、电话咨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7692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发展教育模式的几种做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心理健康专题讲座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心理活动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学科渗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04200"/>
            <a:ext cx="8915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三、现行中学心理健康教育中存在的</a:t>
            </a:r>
            <a:br>
              <a:rPr sz="4000"/>
            </a:b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主要问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一：忽视教师的心理健康；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案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二：忽视环境和氛围对学生心理健康教育的重要性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三：忽视家庭对影响学生心理健康的重要性；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卢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ce157"/>
                </a:solidFill>
                <a:latin typeface="Arial"/>
              </a:rPr>
              <a:t>问题之四：缺乏足够的师资。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Arial"/>
                <a:ea typeface="华文行楷"/>
              </a:rPr>
              <a:t>美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四、中学心理健康教育的发展趋势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心育课程化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全面实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②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系统实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③</a:t>
            </a:r>
            <a:r>
              <a:rPr b="0" lang="zh-CN" sz="2800" spc="-1" strike="noStrike">
                <a:solidFill>
                  <a:srgbClr val="cc3300"/>
                </a:solidFill>
                <a:latin typeface="华文行楷"/>
                <a:ea typeface="华文行楷"/>
              </a:rPr>
              <a:t>只有推广心育的课程化，才能保证心育的规范实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66ffff"/>
                </a:solidFill>
                <a:latin typeface="华文新魏"/>
                <a:ea typeface="华文新魏"/>
              </a:rPr>
              <a:t>心育课是一门全新的课程，它不同于其他任何一门学科课程而具有自己独特的特点。它不要求学生掌握一门文化科学知识，而是直接影响和干预学生的现实心理状态，通过师生间、学生间的沟通和分享，达到心理转变和改善的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以科研带动心育实践、以心育实践促进科研的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步提高趋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①</a:t>
            </a:r>
            <a:r>
              <a:rPr b="0" lang="zh-CN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学生（初中生、高中生）心理健康水平及其影响因素的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②</a:t>
            </a:r>
            <a:r>
              <a:rPr b="0" lang="zh-CN" sz="2800" spc="-1" strike="noStrike">
                <a:solidFill>
                  <a:srgbClr val="66ffff"/>
                </a:solidFill>
                <a:latin typeface="华文行楷"/>
                <a:ea typeface="华文行楷"/>
              </a:rPr>
              <a:t>青少年生活事件量表的编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③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不同心理健康水平学生防御机制的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④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心育活动课影响学生心理健康水平的实验研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⑤</a:t>
            </a:r>
            <a:r>
              <a:rPr b="0" lang="zh-CN" sz="2800" spc="-1" strike="noStrike">
                <a:solidFill>
                  <a:srgbClr val="f98d43"/>
                </a:solidFill>
                <a:latin typeface="华文行楷"/>
                <a:ea typeface="华文行楷"/>
              </a:rPr>
              <a:t>学校心理辅导体系的理论构建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⑥ </a:t>
            </a: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N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封（初中生、高中生）求询信分析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⑦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考试焦虑的心理辅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⑧</a:t>
            </a:r>
            <a:r>
              <a:rPr b="0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学生挫折承受力的调查和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1696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有权之士、有识之士、有志之士相结合的趋势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66ffff"/>
                </a:solidFill>
                <a:latin typeface="华文新魏"/>
                <a:ea typeface="华文新魏"/>
              </a:rPr>
              <a:t>有权之士指教委行政官员、学校校长；有识之士指专业研究人员；有志之士指有兴趣致力于心理健康教育的一线教师。只有让这三种人士结合起来，心理健康教育活动才有可能有效地开展，这是一条有中国特色的组织路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教育主管部门对心理健康教育的高度重视，给予一些政策上的支持，将推动学校心理健康教育工作的展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9ce157"/>
                </a:solidFill>
                <a:latin typeface="华文新魏"/>
                <a:ea typeface="华文新魏"/>
              </a:rPr>
              <a:t>高校科研人员的参与是保证心育活动科学开展的关键。科研人员不仅要设计心育活动的内容，参与心理咨询活动，更重要的是培训一线教师的心理学专业知识和技能，使得心理健康教育能够得到规范化发展，这是保证心育活动质量的重中之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98d43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五、中学心理健康教育的效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评估指标体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209680"/>
            <a:ext cx="4724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运作状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工作绩效评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心理健康教育的基本条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251460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指标系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0:17Z</dcterms:created>
  <dc:creator/>
  <dc:description/>
  <cp:keywords>中学生 心理健康</cp:keywords>
  <dc:language>en-US</dc:language>
  <cp:lastModifiedBy/>
  <dcterms:modified xsi:type="dcterms:W3CDTF">2015-07-09T13:22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