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28B-4442-49F5-A24E-CF20D207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42D-4FEB-4870-AB62-4E8876CB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0D3-FAF7-4CA9-A849-C010EE99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FD6-60F8-4E5A-8048-3C703BC6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CFCD-2D84-4C72-AD25-15132FB7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2DF0-D3F7-4DFE-A068-3AC9D647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13E1-7174-4446-8559-662608A7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62B8-1A45-4779-920C-121CF24F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C37-A046-485A-869A-DACA0DA2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7B28-4CA3-40D2-970C-D7B3FB85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B5B-E54E-4ABC-A545-2810A52F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730-2F13-4D0A-B480-3E5B7DE8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6B3E-EDCA-44FD-A9F8-BE0A009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7883-AE1E-4421-B62A-6E0B392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232C-580E-4FB1-936B-61B0BC40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85C3-A0FE-4A7D-A037-C572C94D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6978-49B6-4E00-ABDD-FBB8FB49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CD4-3D78-498C-9139-8013D024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C57-5807-4ED4-9013-B42B062A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D61-813A-4581-96FB-1B06A8B3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569-F768-4AD0-BDFD-2361F0A4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A30-4396-41B4-99C8-1D0C273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162-89B3-4E11-A6E6-A02B81B3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D1C-3A64-4E42-9621-3F40601D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86A6-7F10-4A02-814A-85F8D18BF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2040" y="2710080"/>
              <a:ext cx="5871960" cy="41479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9837-E5D1-485D-B6DE-07E15760C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组织行为学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314136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第三章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组织发展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组织发展理论的提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面临的挑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发展的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组织适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个人适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89880" y="413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cc66"/>
                </a:solidFill>
                <a:latin typeface="Arial"/>
              </a:rPr>
              <a:t>第四章   现代企业组织发展趋势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与外部环境联系的企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们对组织理论认识的深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一个机械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一个有机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一个与环境相联系的人格化的有机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关于组织的定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社会实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有明确的目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有精心设计的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有协调的活动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与外部环境相联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2960" y="512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是管理的载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将工作分成不同的部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配工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配资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协调结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2895480"/>
          <a:ext cx="1719000" cy="36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17190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的作用——组织存在的原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汇聚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放大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人与组织的交换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4038480"/>
          <a:ext cx="2819520" cy="20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2819520" cy="20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织内的角色分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决策角色（领导人员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际角色（管理人员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技能角色（操作人员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前     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织内的角色分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与领导的区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 Right  Thing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领导的功能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 Things  Righ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管理的功能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第一章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组织导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一、古典组织理论的三位奠基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工时与动作研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工作细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对工人培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与工人合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在工人与管理者之间划清责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8024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5146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880-0558-42C0-A3AC-40FB4764C6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第二章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组织设计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组织设计思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织的评价标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组织的效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组织的效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员工的满意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8496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31813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04:39Z</dcterms:created>
  <dc:creator/>
  <dc:description/>
  <cp:keywords>组织 行为学</cp:keywords>
  <dc:language>en-US</dc:language>
  <cp:lastModifiedBy/>
  <dcterms:modified xsi:type="dcterms:W3CDTF">2015-07-11T14:45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