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0193-92F3-4A38-B06F-6DFF44F7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1D2-3C3E-4DB7-9C9A-E6DFF870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4D8D-76A6-4E07-880C-CFEDFDB5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AD40-20F1-4E14-A5DE-7C9688122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ABDE-7932-41AB-8610-7E3900BD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D0CC-0A91-426A-8AE5-9F83EF37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22C0-FB5E-4C20-BCD1-13957D03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4D76-2533-45F6-A1C5-ECA0DEA9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DE76-8652-4151-81F7-4746171B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AB16-870B-4E8D-918A-23BF6E44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174B-000E-4565-89DD-427CFD60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4EC7-F089-4279-A99A-E182BCE6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92ED-8B6C-46B4-98BF-F15CF16EB31C}" type="slidenum">
              <a:rPr b="0" lang="en-US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xing.wav" TargetMode="External"/><Relationship Id="rId4" Type="http://schemas.openxmlformats.org/officeDocument/2006/relationships/hyperlink" Target="xing.wav" TargetMode="External"/><Relationship Id="rId5" Type="http://schemas.openxmlformats.org/officeDocument/2006/relationships/hyperlink" Target="xing.wav" TargetMode="External"/><Relationship Id="rId6" Type="http://schemas.openxmlformats.org/officeDocument/2006/relationships/hyperlink" Target="xing.wav" TargetMode="External"/><Relationship Id="rId7" Type="http://schemas.openxmlformats.org/officeDocument/2006/relationships/hyperlink" Target="ping.wav" TargetMode="External"/><Relationship Id="rId8" Type="http://schemas.openxmlformats.org/officeDocument/2006/relationships/hyperlink" Target="ping.wav" TargetMode="External"/><Relationship Id="rId9" Type="http://schemas.openxmlformats.org/officeDocument/2006/relationships/hyperlink" Target="ping.wav" TargetMode="External"/><Relationship Id="rId10" Type="http://schemas.openxmlformats.org/officeDocument/2006/relationships/hyperlink" Target="ping.wav" TargetMode="External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ding.wav" TargetMode="External"/><Relationship Id="rId4" Type="http://schemas.openxmlformats.org/officeDocument/2006/relationships/hyperlink" Target="ding.wav" TargetMode="External"/><Relationship Id="rId5" Type="http://schemas.openxmlformats.org/officeDocument/2006/relationships/hyperlink" Target="ding.wav" TargetMode="External"/><Relationship Id="rId6" Type="http://schemas.openxmlformats.org/officeDocument/2006/relationships/hyperlink" Target="ding.wav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hyperlink" Target="addm_01.wav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69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06"/>
          <p:cNvPicPr/>
          <p:nvPr/>
        </p:nvPicPr>
        <p:blipFill>
          <a:blip r:embed="rId3"/>
          <a:stretch/>
        </p:blipFill>
        <p:spPr>
          <a:xfrm>
            <a:off x="2478240" y="1523880"/>
            <a:ext cx="399888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72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07"/>
          <p:cNvPicPr/>
          <p:nvPr/>
        </p:nvPicPr>
        <p:blipFill>
          <a:blip r:embed="rId3"/>
          <a:stretch/>
        </p:blipFill>
        <p:spPr>
          <a:xfrm>
            <a:off x="685800" y="1857240"/>
            <a:ext cx="7620120" cy="385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76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3048120" y="2155680"/>
            <a:ext cx="3809880" cy="71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阿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德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早起要旅行，                 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乘坐飞船是新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型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。                 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起飞时间还未到，                 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可视电话传真情。                 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电话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屏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上见外 婆 ，                 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聊起畅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销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新车型。                 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581280" y="1725480"/>
            <a:ext cx="335304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宋体"/>
                <a:ea typeface="宋体"/>
              </a:rPr>
              <a:t>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é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宋体"/>
                <a:ea typeface="宋体"/>
              </a:rPr>
              <a:t>        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宋体"/>
                <a:ea typeface="宋体"/>
                <a:hlinkClick r:id="rId3"/>
              </a:rPr>
              <a:t>x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  <a:hlinkClick r:id="rId4"/>
              </a:rPr>
              <a:t>í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宋体"/>
                <a:ea typeface="宋体"/>
                <a:hlinkClick r:id="rId5"/>
              </a:rPr>
              <a:t>n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6"/>
              </a:rPr>
              <a:t>g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宋体"/>
                <a:ea typeface="宋体"/>
                <a:hlinkClick r:id="rId7"/>
              </a:rPr>
              <a:t>p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  <a:hlinkClick r:id="rId8"/>
              </a:rPr>
              <a:t>í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宋体"/>
                <a:ea typeface="宋体"/>
                <a:hlinkClick r:id="rId9"/>
              </a:rPr>
              <a:t>n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10"/>
              </a:rPr>
              <a:t>g</a:t>
            </a:r>
            <a:r>
              <a:rPr b="1" lang="en-US" sz="2800" spc="-1" strike="noStrike">
                <a:solidFill>
                  <a:srgbClr val="800080"/>
                </a:solidFill>
                <a:latin typeface="宋体"/>
                <a:ea typeface="宋体"/>
              </a:rPr>
              <a:t>       p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ó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800080"/>
                </a:solidFill>
                <a:latin typeface="宋体"/>
                <a:ea typeface="宋体"/>
              </a:rPr>
              <a:t>xiāo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54880" y="1477800"/>
            <a:ext cx="203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0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读读认认 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81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2895480" y="2301840"/>
            <a:ext cx="4419720" cy="52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预  订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新车无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污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染，                 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动力来自太阳能。                 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飞船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呜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呜长鸣声，                 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阿德落地未成行。                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原来未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系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安全带，               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大叫一声梦惊醒。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895480" y="1905120"/>
            <a:ext cx="373392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y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ù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楷体_GB2312"/>
                <a:hlinkClick r:id="rId3"/>
              </a:rPr>
              <a:t>d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ì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n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  <a:hlinkClick r:id="rId6"/>
              </a:rPr>
              <a:t>g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      wū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    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wū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      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j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ì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154880" y="1477800"/>
            <a:ext cx="203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0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读读认认 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86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2514600" y="3119400"/>
            <a:ext cx="4648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一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段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距离    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喽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743200" y="2743200"/>
            <a:ext cx="3886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宋体"/>
              </a:rPr>
              <a:t>du</a:t>
            </a:r>
            <a:r>
              <a:rPr b="1" lang="en-US" sz="2400" spc="-1" strike="noStrike">
                <a:solidFill>
                  <a:srgbClr val="800080"/>
                </a:solidFill>
                <a:latin typeface="Century Gothic"/>
                <a:ea typeface="宋体"/>
              </a:rPr>
              <a:t>à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宋体"/>
              </a:rPr>
              <a:t>n           lou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1154880" y="1477800"/>
            <a:ext cx="203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0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读读认认 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91" name="Picture 12" descr="小学语文(记叙文）03"/>
          <p:cNvPicPr/>
          <p:nvPr/>
        </p:nvPicPr>
        <p:blipFill>
          <a:blip r:embed="rId2"/>
          <a:stretch/>
        </p:blipFill>
        <p:spPr>
          <a:xfrm>
            <a:off x="990720" y="96372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4"/>
          <p:cNvSpPr/>
          <p:nvPr/>
        </p:nvSpPr>
        <p:spPr>
          <a:xfrm>
            <a:off x="685800" y="152388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80008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读读想想 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1066680" y="2286000"/>
            <a:ext cx="7696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从哪个自然段看出是一场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梦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？ 阿德梦见了什么？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94" name="Text Box 27"/>
          <p:cNvSpPr/>
          <p:nvPr/>
        </p:nvSpPr>
        <p:spPr>
          <a:xfrm>
            <a:off x="1066680" y="3475080"/>
            <a:ext cx="74678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随连环画逐段读课文，想想课文中说的事，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哪些与现实不一样？课文中哪些新科技给你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留下很深的印象？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95" name="Text Box 28"/>
          <p:cNvSpPr/>
          <p:nvPr/>
        </p:nvSpPr>
        <p:spPr>
          <a:xfrm>
            <a:off x="1066680" y="5257800"/>
            <a:ext cx="64771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从阿德的梦中，你想到了什么？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6093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楷体_GB2312"/>
                <a:hlinkClick r:id="rId3"/>
              </a:rPr>
              <a:t>ppt课件模板</a:t>
            </a:r>
            <a:r>
              <a:rPr b="1" lang="en-US" sz="1800" spc="-1" strike="noStrike">
                <a:solidFill>
                  <a:srgbClr val="800080"/>
                </a:solidFill>
                <a:latin typeface="楷体_GB2312"/>
              </a:rPr>
              <a:t>http://www.eeppt.com/moban/kejian/</a:t>
            </a:r>
            <a:endParaRPr b="1" lang="en-US" sz="1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98" name="Picture 9" descr="小学语文(记叙文）06"/>
          <p:cNvPicPr/>
          <p:nvPr/>
        </p:nvPicPr>
        <p:blipFill>
          <a:blip r:embed="rId2"/>
          <a:stretch/>
        </p:blipFill>
        <p:spPr>
          <a:xfrm>
            <a:off x="106668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9"/>
          <p:cNvSpPr/>
          <p:nvPr/>
        </p:nvSpPr>
        <p:spPr>
          <a:xfrm>
            <a:off x="838080" y="1600200"/>
            <a:ext cx="28958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80008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读读记记 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1676520" y="2286000"/>
            <a:ext cx="64767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载人飞船    顺便    移居    打发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时光        外婆    聊天    屏幕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新型        污染    销售    预订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长鸣       安全带   旅客    太空 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一场梦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102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06668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1447920" y="2286000"/>
            <a:ext cx="67816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说一说你心中的未来世界是什么样的。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447920" y="3200400"/>
            <a:ext cx="61722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用图画一画你心中的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梦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。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447920" y="3984480"/>
            <a:ext cx="57909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课外阅读科幻故事。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06" name=""/>
          <p:cNvSpPr/>
          <p:nvPr/>
        </p:nvSpPr>
        <p:spPr>
          <a:xfrm>
            <a:off x="1106640" y="6083280"/>
            <a:ext cx="6759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楷体"/>
                <a:ea typeface="楷体"/>
                <a:hlinkClick r:id="rId3"/>
              </a:rPr>
              <a:t>PPT之家</a:t>
            </a:r>
            <a:r>
              <a:rPr b="1" lang="zh-CN" sz="1600" spc="-1" strike="noStrike">
                <a:solidFill>
                  <a:srgbClr val="800080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600" spc="-1" strike="noStrike">
                <a:solidFill>
                  <a:srgbClr val="800080"/>
                </a:solidFill>
                <a:latin typeface="楷体"/>
                <a:ea typeface="楷体"/>
              </a:rPr>
              <a:t>PPT</a:t>
            </a:r>
            <a:r>
              <a:rPr b="1" lang="zh-CN" sz="1600" spc="-1" strike="noStrike">
                <a:solidFill>
                  <a:srgbClr val="800080"/>
                </a:solidFill>
                <a:latin typeface="楷体"/>
                <a:ea typeface="楷体"/>
              </a:rPr>
              <a:t>模板下载请访问：</a:t>
            </a:r>
            <a:r>
              <a:rPr b="1" lang="zh-CN" sz="1600" spc="-1" strike="noStrike">
                <a:solidFill>
                  <a:srgbClr val="800080"/>
                </a:solidFill>
                <a:latin typeface="楷体"/>
                <a:ea typeface="楷体"/>
              </a:rPr>
              <a:t>www.eeppt.com</a:t>
            </a:r>
            <a:endParaRPr b="1" lang="en-US" sz="16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6"/>
          <p:cNvSpPr/>
          <p:nvPr/>
        </p:nvSpPr>
        <p:spPr>
          <a:xfrm>
            <a:off x="990720" y="4746600"/>
            <a:ext cx="7619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闭上眼睛就可以做梦，深夜里的清梦，大白天的美梦。阿德做梦了，他梦见了很多，你做过什么样的梦？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4" name="Picture 47" descr="0"/>
          <p:cNvPicPr/>
          <p:nvPr/>
        </p:nvPicPr>
        <p:blipFill>
          <a:blip r:embed="rId3"/>
          <a:stretch/>
        </p:blipFill>
        <p:spPr>
          <a:xfrm>
            <a:off x="1523880" y="1625760"/>
            <a:ext cx="6248520" cy="3098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80"/>
                </a:solidFill>
                <a:latin typeface="楷体_GB2312"/>
              </a:rPr>
              <a:t>www.eeppt.com</a:t>
            </a:r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E0FE-C4C8-437C-B702-EB59692D32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9" name="Picture 10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7"/>
          <p:cNvSpPr/>
          <p:nvPr/>
        </p:nvSpPr>
        <p:spPr>
          <a:xfrm>
            <a:off x="1219320" y="2508120"/>
            <a:ext cx="6858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自读课文，想一想阿德的梦里都有些什么。借助拼音认读生字，同学间可相互交流认字方法。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52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01"/>
          <p:cNvPicPr/>
          <p:nvPr/>
        </p:nvPicPr>
        <p:blipFill>
          <a:blip r:embed="rId3"/>
          <a:stretch/>
        </p:blipFill>
        <p:spPr>
          <a:xfrm>
            <a:off x="2195640" y="1600200"/>
            <a:ext cx="420516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" name="Picture 5" descr="sound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99160" y="1752480"/>
            <a:ext cx="639720" cy="5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56" name="Picture 1026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28" descr="02"/>
          <p:cNvPicPr/>
          <p:nvPr/>
        </p:nvPicPr>
        <p:blipFill>
          <a:blip r:embed="rId3"/>
          <a:stretch/>
        </p:blipFill>
        <p:spPr>
          <a:xfrm>
            <a:off x="2333520" y="1523880"/>
            <a:ext cx="444816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60" name="Picture 1026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28" descr="03"/>
          <p:cNvPicPr/>
          <p:nvPr/>
        </p:nvPicPr>
        <p:blipFill>
          <a:blip r:embed="rId3"/>
          <a:stretch/>
        </p:blipFill>
        <p:spPr>
          <a:xfrm>
            <a:off x="2209680" y="1523880"/>
            <a:ext cx="43354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63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04"/>
          <p:cNvPicPr/>
          <p:nvPr/>
        </p:nvPicPr>
        <p:blipFill>
          <a:blip r:embed="rId3"/>
          <a:stretch/>
        </p:blipFill>
        <p:spPr>
          <a:xfrm>
            <a:off x="2330280" y="1523880"/>
            <a:ext cx="437544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66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05"/>
          <p:cNvPicPr/>
          <p:nvPr/>
        </p:nvPicPr>
        <p:blipFill>
          <a:blip r:embed="rId3"/>
          <a:stretch/>
        </p:blipFill>
        <p:spPr>
          <a:xfrm>
            <a:off x="2511360" y="1600200"/>
            <a:ext cx="40323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02:02:13Z</dcterms:created>
  <dc:creator/>
  <dc:description/>
  <cp:keywords>幻灯片之家 http:/www.eeppt.com</cp:keywords>
  <dc:language>en-US</dc:language>
  <cp:lastModifiedBy/>
  <dcterms:modified xsi:type="dcterms:W3CDTF">2015-07-03T12:19:24Z</dcterms:modified>
  <cp:revision>6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