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57200" y="838080"/>
            <a:ext cx="8229600" cy="5683320"/>
            <a:chOff x="457200" y="838080"/>
            <a:chExt cx="8229600" cy="5683320"/>
          </a:xfrm>
        </p:grpSpPr>
        <p:sp>
          <p:nvSpPr>
            <p:cNvPr id="2" name=""/>
            <p:cNvSpPr/>
            <p:nvPr/>
          </p:nvSpPr>
          <p:spPr>
            <a:xfrm>
              <a:off x="6629400" y="6246720"/>
              <a:ext cx="205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0" y="6246720"/>
              <a:ext cx="205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514600" y="6246720"/>
              <a:ext cx="205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6246720"/>
              <a:ext cx="205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629400" y="4348080"/>
              <a:ext cx="20574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0" y="4348080"/>
              <a:ext cx="20574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14600" y="4348080"/>
              <a:ext cx="20574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7200" y="4348080"/>
              <a:ext cx="20574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629400" y="2436840"/>
              <a:ext cx="20574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572000" y="2436840"/>
              <a:ext cx="20574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514600" y="2436840"/>
              <a:ext cx="20574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57200" y="2436840"/>
              <a:ext cx="20574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629400" y="464796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572000" y="464796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514600" y="464796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57200" y="464796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629400" y="2743200"/>
              <a:ext cx="205740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572000" y="2743200"/>
              <a:ext cx="205740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14600" y="2743200"/>
              <a:ext cx="205740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57200" y="2743200"/>
              <a:ext cx="205740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629400" y="83808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572000" y="83808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514600" y="83808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57200" y="83808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57200" y="838080"/>
              <a:ext cx="8229600" cy="0"/>
            </a:xfrm>
            <a:prstGeom prst="line">
              <a:avLst/>
            </a:prstGeom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57200" y="243684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57200" y="274320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57200" y="434808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57200" y="464796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" y="624672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57200" y="6521400"/>
              <a:ext cx="8229600" cy="0"/>
            </a:xfrm>
            <a:prstGeom prst="line">
              <a:avLst/>
            </a:prstGeom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" y="838080"/>
              <a:ext cx="0" cy="5683320"/>
            </a:xfrm>
            <a:prstGeom prst="line">
              <a:avLst/>
            </a:prstGeom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514600" y="838080"/>
              <a:ext cx="0" cy="56833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572000" y="838080"/>
              <a:ext cx="0" cy="56833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629400" y="838080"/>
              <a:ext cx="0" cy="56833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86800" y="838080"/>
              <a:ext cx="0" cy="5683320"/>
            </a:xfrm>
            <a:prstGeom prst="line">
              <a:avLst/>
            </a:prstGeom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阿拉伯数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84480" y="4724280"/>
            <a:ext cx="9540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90720" y="914400"/>
            <a:ext cx="787320" cy="1447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081240" y="914400"/>
            <a:ext cx="990720" cy="1447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5099040" y="914400"/>
            <a:ext cx="1003320" cy="1447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7112160" y="914400"/>
            <a:ext cx="1062000" cy="1447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990720" y="2819520"/>
            <a:ext cx="996840" cy="1447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3048120" y="2819520"/>
            <a:ext cx="1015920" cy="1447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5029200" y="2819520"/>
            <a:ext cx="1089000" cy="1447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7162920" y="2819520"/>
            <a:ext cx="984240" cy="1447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990720" y="4724280"/>
            <a:ext cx="990360" cy="1371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0677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51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825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399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7760" y="438480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5160" y="438480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2560" y="438480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9960" y="438480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677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251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幻灯片之家</a:t>
            </a:r>
            <a:r>
              <a:rPr b="1" i="1" lang="en-US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i="1" lang="en-US" sz="13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22:39:55Z</dcterms:created>
  <dc:creator/>
  <dc:description/>
  <cp:keywords>幻灯片之家 http:/www.eeppt.com</cp:keywords>
  <dc:language>en-US</dc:language>
  <cp:lastModifiedBy/>
  <dcterms:modified xsi:type="dcterms:W3CDTF">2015-07-05T02:41:11Z</dcterms:modified>
  <cp:revision>7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