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1705-52A6-4D48-B129-FCCB6604F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1A22-F164-4E68-9687-FF862FF55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DF28-AE19-4BA7-972B-26B07E8F8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CB7E-D00E-4F7B-9BCA-CFA1FD03A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CEC1-8045-498F-BCD0-ED69AAF06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88A6-2661-4E1E-9C40-818AA25E0F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F1F5-89B8-40BB-849C-31FD20622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5AD0-223A-4F0D-9439-C38483CBE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C1E9-DDD2-4D6A-A86C-843224791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612E-6C22-4AE3-8837-1480E928B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82E3-B10C-42B7-8916-25E69D345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F550-CF07-4366-9722-254EA7FA3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087EA5A-B577-46DA-8B6B-118DE9C237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6350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3"/>
          <p:cNvPicPr/>
          <p:nvPr/>
        </p:nvPicPr>
        <p:blipFill>
          <a:blip r:embed="rId2"/>
          <a:stretch/>
        </p:blipFill>
        <p:spPr>
          <a:xfrm>
            <a:off x="0" y="-2556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633744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tongyong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92360" y="170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i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18000" y="765000"/>
            <a:ext cx="44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颁奖大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用模板免费下载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4786200" y="1557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6120" y="1123920"/>
            <a:ext cx="719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通用ppt模板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www.eeppt.com/moban/tongyong/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>幻灯片之家 http:/www.eeppt.com</cp:keywords>
  <dc:language>en-US</dc:language>
  <cp:lastModifiedBy/>
  <dcterms:modified xsi:type="dcterms:W3CDTF">2015-07-06T12:48:44Z</dcterms:modified>
  <cp:revision>2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