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19C69-3EF4-4EBF-A7F1-64DB84063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639D-6570-4B5A-9B1B-73954164D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A21BA-047B-44BA-B3C1-0E2FA1F68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3E14B-AF93-40FE-9A9A-2A0ED1959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1EF8-95F8-4B38-BE65-402CE873D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EB1A3-CB48-44E8-82EB-138AA07A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2A76-D58C-45CE-A6EC-36B68777F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6CDCD-C579-4C09-8ED3-75672D501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0EB77-A7E2-4F06-A1A3-D71FB8EA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1759-2223-405A-8916-1C533348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55EF-ACF8-4C95-83B6-30DACBAEF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7E39-A61B-402F-B96D-701B25252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2A4B-6B04-4BB8-A27E-674664B51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班级管理工作的意义</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班级管理工作是贯彻教育方针、完成教育任务和实现教育目标的重要保证。</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校的全部工作都是为了贯彻教育方针、完成教育任务，实现教育目标的，这些都要落实在学生身上。学校的教育教学活动，是以班级为单位进行的。因此班级管理工作对学生的全面发展起着直接现实的保证作用。</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班级管理工作是提高教育教学工作效率的重要保证。</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二．建立和谐的班级人际关系</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确保师生间情感交流畅通</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师生关系在很大程度上影响着学生的情绪，影响着学生的学业。在班级这个群体中，情绪是非常重要的。这种情绪体验对学生的感知、记忆、思维、想像等认识活动，都产生重要影响。因为教师教学和学生学习，共同在知识的海洋里的遨游，探索未知的世界，都是艰苦的劳动，需要充沛的热情去攻关。这就要求教师要信任学生、热爱学生，进而就能在学生身上产生积极的心理效应，激发他们的上进心和自信心。</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ea typeface="黑体"/>
              </a:rPr>
              <a:t>注重领导方式</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班主任的领导方式在人际关系方面也是不可忽视的因素。主要有三种类型：权威式、民主式、放任式。班主任应注意非权力因素对学生的影响。</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黑体"/>
              </a:rPr>
              <a:t>为人师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主任的行为是影响师生关系的关键，更是影响学生个性健康发展极其重要的因素。因此教师必须加强自身修养，严以律己，为人师表。班主任及科任老师自身人格对学生心灵的影响，决不是任何教科书、道德规范、格言和奖惩条例所能代替的。所以班主任要加强自身人格的完善，加强个性品质的修养，严格进行自我评价。</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三．培养核心带动全班</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个坚强的班集体必须有一批积极分子，并由他们组成班级的核心，团结和带动全班同学前进。要把全班同学组织起来，最重要的是挑选和培养本班的干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班干部的选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拔班干部，一是查阅学生的档案、走访原来学校的老师和同学、家访、和学生本人交谈；二是组织活动，在学生的活动中发现干部，通过一系列活动考察他们的组织能力、工作热情、思想觉悟等；三是要与科任老师交换意见。在选拔班干部时，既要坚持标准，又要从本班学生的实际出发，不能要求完美无缺；四是开展竞争的方式；五是不要受感情因素的影响。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二）班干部的条件</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品学兼优，积极上进。</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关心班集体，在班内有一定的威信。</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有较强的组织能力和管理能力。</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有一定的特长和爱好。</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三）班干部的培养</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干部的培养视年级不同，采用的方式和方法也不相同。对低年级学生，要给以具体的指导和帮助，同时要注意培养他们独立思考的能力，培养他们的开拓精神。对高年级的学生，应该在思想上的教育，鼓励他们发扬首创精神，大胆工作，同时帮助克服工作中的困难。要帮助他们解决学习与工作的矛盾，特殊学生与一般学生的意识；要保护好班干部的面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四．树立正确的集体舆论</a:t>
            </a:r>
            <a:br>
              <a:rPr sz="4400"/>
            </a:b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个班级树立了正确的集体舆论，它就会成为学生自我教育的重要手段。它以一种无形的力量帮助班主任教育学生，它对学生个体的影响往往比教师个人的力量大得多，有效得多。它是形成、保持和发展先进集体不可缺少的因素，也是帮助学生提高辨别是非能力、形成集体荣誉感、克服不良作风和养成良好品质的重要条件。</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黑体"/>
              </a:rPr>
              <a:t>树立正确集体舆论的途径和方法</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认真贯彻实施《中学生守则》和《中学生日常行为规范》，宣传学校的规章制度，建立具有自己特色的班训、班规。</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发挥舆论工具的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黑板报、量化考核表、评比台等是发挥集体舆论的重要阵地。黑板报和专栏应该形式多样，内容丰富，既要有对好人好事的赞颂，也要有对不良倾向的评论；既要有对班级工作的建议，又要有对国内外新闻、科技知识的介绍。</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rPr>
              <a:t>注意舆论倾向，正确引导</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主任要经常注意班级学生的舆论倾向，要有意识把舆论中心引向正确的方向。通过对学生的思想和行为的肯定或否定评价，以及为什么要肯定或否定，把舆论中心引导到正确的方向上来。班集体里涌现出来的好人好事，不论是大是小，是先进学生做的还是后进学生做的，都应及时予以表扬，这样有助于形成人人想做好事、争做好事的风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0948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三、班级管理工作能为学生的健康成长全面和谐发展提供良好的条件和氛围。一个班的班风、学习质量、人际关系、组织活动等，都对学生的发展起着至关重要的作用。</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在班级管理工作中，可以增长师生的才干。</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管好一个班级，需要多方面的素质，一个优秀的班主任必将在管理的能力上和各方面的素质上都能得到很大的提高。学生也是如此。班干部的竞选、值日班长、今天我是班主任、我为班级献计策等活动的开展，同样也能增长学生的才干。</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五．活动形式多样，突出教育意义。</a:t>
            </a:r>
            <a:br>
              <a:rPr sz="4400"/>
            </a:b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想科学创建班集体，就必须充分利用“活动”这个中介。离开班级各种各样、丰富多彩的活动，就如同过河没有船和桥一样，班集体创建工作就缺少了重要的一环。班集体开展活动在配合学校大型活动的基础上，应是多样性、教育性、、开放性、整体性、趣味性的有机的结合。按一般内容划分，可分为学习活动、文体活动、劳动、游戏四大类。</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六．争取科任教师的配合。</a:t>
            </a:r>
            <a:br>
              <a:rPr sz="4400"/>
            </a:b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班主任要做好班级管理工作，需要科任教师的配合。班主任必须主动和科任教师联系，以便对学生提出的管理要求及采取的教育措施，彼此协调，相互一致。班主任在培养班集体的过程中，应该成为科任教师的纽带，使本班各科教师形成一个坚强的集体。主要工作：多了解、多表扬、多帮助、多协调。</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七．培养自我教育、自我管理的能力。</a:t>
            </a:r>
            <a:br>
              <a:rPr sz="4400"/>
            </a:b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一）培养自我教育的能力</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自我教育是在自我意识的基础上产生强烈的进取心，向自己提出任务，进行自觉的转化，并主动采取行动，培养自己的道德品质的控制活动。</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培养自我认识与评价的能力。</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培养自我鼓舞与激励的能力。</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培养自我控制与调节的能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一）培养自我管理的能力</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是指以培养学生的集体主义为核心，培养学生以班级主人翁的精神管理班级。</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自我管理能力的培养可分为三个阶段：主管、共管、自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主管阶段。在班主任接手新班或者中途接班的时候，这个时期的中心工作是确立班主任在学生中的威信和影响力。班主任要通过各种途径在学生心目中树立起良好的形象，把学生紧密团结在自己的周围，使松散的班集体，逐渐以班主任为核心内聚成一个集体。</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师生共管阶段。在师生共管阶段，班主任要有目的、有计划地建立以为核心的管理机构，班级的一切事情不能由班主任一人决定，除个别重要的事情决策外，一般性的班级日常事务，由班长和班委承担，班主任只是出谋划策，充当幕后英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学生自管阶段。一般是在班级领导核心已经形成、巩固，集体健康舆论已经形成的时候。此阶段的班级管理工作要充分发扬民主，调动全体学生的积极性，更多地发挥集体的教育作用，让全班大多数学生在参加班给管理的过程中，增强主人翁意识，能力得到锻炼，思想品德得到提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八．争取家庭教育的配合</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学生进行教育管理工作，必须认识到家庭教育的意义和特点，必须与家长沟通信息，相互配合，只有这样才能收到良好的效果。班主任是学校与家庭联系的桥梁和纽带，在管理班级培养优良班集体的过程中，必须认真做好家长工作。班主任做家长工作的重点，应该是了解学生家庭情况，帮助家长形成正确的教育观点，学会运用科学的教育方法。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于学生家庭物质生活条件差别很大，家长的职业、文化程度、家庭周围环境等许多方面也都不同，这些情况对少年少年儿童既有有利的一面，也有不利的一面。作为班主任，对这些情况要充分调查，综合分析，帮助家长认识家庭教育的重要意义，充分发挥家庭中的有利因素的影响，从而使学生获得良好的家庭教育，把他们培养成身心健康、品德高尚、学业优良的接班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主任对家庭的联系和指导可以通过以下方式进行：</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家访。班主任在接受一个新的班级时，要有计划地对本班学生的家庭进行普遍性的访问。有时，在针对个别学生的教育过程中，可以进行临时性的家访。为了使家访达到如期的目的，班主任除了做好家访前的准备外，必须做到以下几点：一是“诚”字当头；二是以礼相待；三是以表扬鼓励为主。四是提前约好，时间适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科学创建班集体</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义：班集体是由集体成员、教育教学过程、班风班貌综合而成的一个微观的特殊的社会教育环境。它不同传统意义上的班级。</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开好家长会。</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书面联系。可以建立家校联系卡。班主任把学生的学习、纪律、思想表现等如实写在卡片上，由学生自己在家长和班主任之间传递。</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电话联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表扬可以由班主任进行，也可以发动学生互相表扬。对错误的思想行为，要进行适当的必要的批评。表扬和批评是把舆论引向正确方向的有效方法，但这种表扬和批评不要轻易地全盘肯定或全盘否定，在表扬中有时要指出不足之处，在批评中有时要提到优点。</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rPr>
              <a:t>定期开好班会</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会是在班主任领导下进行的学生会议，对于形成班级的集体舆论起着重要的作用。班会是教育学生最普遍最有价值的工作方法，也是班集体全体成员的会议，是学生组织生活的一种形式。</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题班会的特点：强烈的时代性、深刻的教育性、鲜明的针对性、丰富的知识性、浓厚的趣味性。</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D66C61-AEB6-4D78-945C-E47FE9297ABB}"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秀的班集体通常具有以下特征：一是学生有强烈的学习动机，并表现出较高的学习效率；二是学生愿意接受教育教学目标，并能按质、按量、按期或超额完成；三是学生心情舒畅、精神饱满、充满信心和力量；四是学生同校领导、教师和同学之间有良好的沟通联系；五是学生间能同心协力，有高度的相互作用和影响，成为一个安定、团结的整体；六是学生能积极参加集体管理，充分发挥每个人的聪明才智，群策群力。</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Times New Roman"/>
                <a:hlinkClick r:id="rId1"/>
              </a:rPr>
              <a:t>免费ppt模板下载</a:t>
            </a:r>
            <a:r>
              <a:rPr b="0" lang="zh-CN" sz="1600" spc="-1" strike="noStrike">
                <a:solidFill>
                  <a:srgbClr val="000000"/>
                </a:solidFill>
                <a:latin typeface="Times New Roman"/>
              </a:rPr>
              <a:t> </a:t>
            </a:r>
            <a:r>
              <a:rPr b="0" lang="zh-CN"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如何科学创建班集体</a:t>
            </a:r>
            <a:br>
              <a:rPr sz="4400"/>
            </a:b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a:t>
            </a:r>
            <a:r>
              <a:rPr b="0" lang="en-US" sz="2800" spc="-1" strike="noStrike">
                <a:solidFill>
                  <a:srgbClr val="000000"/>
                </a:solidFill>
                <a:latin typeface="Times New Roman"/>
                <a:ea typeface="黑体"/>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黑体"/>
              </a:rPr>
              <a:t>进行班情分析，明确班级奋斗目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进行班情分析</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资料分析法：即通过研究学生的档案获得学生自然状况的一种方法，它主要是了解学生过去的一些情况。</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观察法。这种方法贯穿于班主任工作的全过程。班主任按照一定的目的和计划对学生进行系统、连续的观察，并做出准确、具体的记录。</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问卷调查法。指通过一系列书面问题来征询学生对某一主题的意见，从而获得有关这一主题的第一手资料。</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谈话法。指班主任通过与学生以某种形式进行交流，直接搜集有关事实资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二）明确班级奋斗目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秀班集体的创建，既不是自发进行的，更不是随机工作所能实现的。它是班主任、学生、科任老师等有意识、有计划、系统地努力实践各个层次的目标所获得的预期结果。</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确立班级奋斗目标，要从本班的班情出发，所确立的目标要有方向性、阶段性、现实性和激励性等。方向性是指所提出的目标要以党的教育方针、教育目的、学校的教育教学任务及学生的年龄特征为依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阶段性是指围绕目标，分阶段、有层次地、按照先易后难、循序渐进地制定出近期、中期乃至远期目标；现实性是指目标符合班情，高低适当，通过努力就可以实现；激励性是指目标有一定难度，激发起学生的上进心，并把目标内化为个体精神需要，激励学生不断进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远期目标：一是指将班级培养成优良的集体；二是指全面地保质保量地完成教育教学任务；三是把学生培养成全面发展的人。</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中期目标：指创建班集体的过程中把松散的班级建设成班集体，并在完成一学年教育教学任务的同时，使学生德、质、体、美、劳等方面获得适当的发展。中期目标一般为一个学年度。</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近期目标：指为创建班集体，为完成教育教学任务，为使学生获得全面全发展而做的短期安排。</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24Z</dcterms:created>
  <dc:creator/>
  <dc:description/>
  <cp:keywords>幻灯片之家 http:/www.eeppt.com</cp:keywords>
  <dc:language>en-US</dc:language>
  <cp:lastModifiedBy/>
  <dcterms:modified xsi:type="dcterms:W3CDTF">2015-07-12T09:19:5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