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195-60E9-46A4-BFB0-1A978BCA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F27-B28C-40DD-93AF-89F42CE9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776-FDED-45F9-9D42-3557E5BD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41A-E2A3-4339-B8B0-CBBABE81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008-5008-4CE8-B80E-476D822F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356-700B-4FFB-B508-EA2DA20D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8E1-04F4-4284-9241-30A45CED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059-AA81-4E24-B3BF-FCCDE3D6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5C4-631F-471A-915F-4A239944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B85-49F9-4047-BDBB-7E15F7D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383-73E1-40AA-8159-2D47EEE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B18-D05C-4205-9927-5D68EED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7C90-3E88-40BA-87F6-2AAB43ACB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619280" y="1844640"/>
            <a:ext cx="5715000" cy="13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07160" y="2421000"/>
            <a:ext cx="33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半截蜡烛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568320" y="1989000"/>
            <a:ext cx="220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选择一个人物细致刻画内心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将故事编成课本剧，演一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gif0012"/>
          <p:cNvPicPr/>
          <p:nvPr/>
        </p:nvPicPr>
        <p:blipFill>
          <a:blip r:embed="rId2"/>
          <a:stretch/>
        </p:blipFill>
        <p:spPr>
          <a:xfrm>
            <a:off x="539640" y="1628640"/>
            <a:ext cx="1113120" cy="1513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979640" y="1700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烛焰摇曳，发出微弱的光，此时此刻，它仿佛成了屋子里最可怕的东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gif001"/>
          <p:cNvPicPr/>
          <p:nvPr/>
        </p:nvPicPr>
        <p:blipFill>
          <a:blip r:embed="rId3"/>
          <a:stretch/>
        </p:blipFill>
        <p:spPr>
          <a:xfrm>
            <a:off x="539640" y="1628640"/>
            <a:ext cx="1113120" cy="151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gif028"/>
          <p:cNvPicPr/>
          <p:nvPr/>
        </p:nvPicPr>
        <p:blipFill>
          <a:blip r:embed="rId4"/>
          <a:stretch/>
        </p:blipFill>
        <p:spPr>
          <a:xfrm>
            <a:off x="7667640" y="5661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6"/>
          <p:cNvSpPr/>
          <p:nvPr/>
        </p:nvSpPr>
        <p:spPr>
          <a:xfrm>
            <a:off x="2627280" y="3789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命悬于一</a:t>
            </a: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背景音乐.WAV" descr=""/>
          <p:cNvPicPr/>
          <p:nvPr/>
        </p:nvPicPr>
        <p:blipFill>
          <a:blip r:embed="rId5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8720" y="5589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gif001"/>
          <p:cNvPicPr/>
          <p:nvPr/>
        </p:nvPicPr>
        <p:blipFill>
          <a:blip r:embed="rId2"/>
          <a:stretch/>
        </p:blipFill>
        <p:spPr>
          <a:xfrm>
            <a:off x="6443640" y="1268280"/>
            <a:ext cx="981000" cy="13338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1"/>
          <p:cNvSpPr/>
          <p:nvPr/>
        </p:nvSpPr>
        <p:spPr>
          <a:xfrm>
            <a:off x="2341440" y="5805360"/>
            <a:ext cx="158292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伯诺德夫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4284720" y="580536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杰   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5869080" y="580536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杰奎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684360" y="580536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课文录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7381800" y="5805360"/>
            <a:ext cx="115092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作  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01680" y="148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半截蜡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1" descr="post-1684-1105176484"/>
          <p:cNvPicPr/>
          <p:nvPr/>
        </p:nvPicPr>
        <p:blipFill>
          <a:blip r:embed="rId3"/>
          <a:stretch/>
        </p:blipFill>
        <p:spPr>
          <a:xfrm>
            <a:off x="990720" y="2819520"/>
            <a:ext cx="11458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887-3FDC-4FF1-845B-A506B347B0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4"/>
          <p:cNvSpPr/>
          <p:nvPr/>
        </p:nvSpPr>
        <p:spPr>
          <a:xfrm>
            <a:off x="6300720" y="39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gif0281"/>
          <p:cNvPicPr/>
          <p:nvPr/>
        </p:nvPicPr>
        <p:blipFill>
          <a:blip r:embed="rId2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XC018005-1.mp3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0"/>
          <p:cNvSpPr/>
          <p:nvPr/>
        </p:nvSpPr>
        <p:spPr>
          <a:xfrm>
            <a:off x="596880" y="5549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gif0281"/>
          <p:cNvPicPr/>
          <p:nvPr/>
        </p:nvPicPr>
        <p:blipFill>
          <a:blip r:embed="rId2"/>
          <a:stretch/>
        </p:blipFill>
        <p:spPr>
          <a:xfrm>
            <a:off x="7524720" y="5661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76360" y="1052640"/>
            <a:ext cx="62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    她看着两个脸色苍白的孩子，急忙从厨房取出一盏油灯放在桌上。  “瞧，先生们，这盏灯亮些。”  说着，轻轻把蜡烛吹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476360" y="1052640"/>
            <a:ext cx="62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    她看着两个脸色苍白的孩子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急忙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从厨房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取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出一盏油灯放在桌上。  “瞧，先生们，这盏灯亮些。”  说着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轻轻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把蜡烛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吹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363560" y="4005360"/>
            <a:ext cx="12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瞧，先生们，这盏灯亮些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1" descr="未标题-1 拷贝"/>
          <p:cNvPicPr/>
          <p:nvPr/>
        </p:nvPicPr>
        <p:blipFill>
          <a:blip r:embed="rId3"/>
          <a:stretch/>
        </p:blipFill>
        <p:spPr>
          <a:xfrm>
            <a:off x="250920" y="3933720"/>
            <a:ext cx="1371600" cy="208764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4"/>
          <p:cNvGrpSpPr/>
          <p:nvPr/>
        </p:nvGrpSpPr>
        <p:grpSpPr>
          <a:xfrm>
            <a:off x="1979640" y="5084640"/>
            <a:ext cx="2305080" cy="865080"/>
            <a:chOff x="1979640" y="5084640"/>
            <a:chExt cx="2305080" cy="865080"/>
          </a:xfrm>
        </p:grpSpPr>
        <p:sp>
          <p:nvSpPr>
            <p:cNvPr id="72" name="AutoShape 12"/>
            <p:cNvSpPr/>
            <p:nvPr/>
          </p:nvSpPr>
          <p:spPr>
            <a:xfrm>
              <a:off x="1979640" y="5084640"/>
              <a:ext cx="2305080" cy="865080"/>
            </a:xfrm>
            <a:prstGeom prst="wedgeEllipseCallout">
              <a:avLst>
                <a:gd name="adj1" fmla="val -73828"/>
                <a:gd name="adj2" fmla="val -40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3"/>
            <p:cNvSpPr/>
            <p:nvPr/>
          </p:nvSpPr>
          <p:spPr>
            <a:xfrm>
              <a:off x="2419920" y="52290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内心独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547640" y="1268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时间一分一秒地过去。这时候，   大儿子杰克慢慢地站起来，“天真冷。我到柴房去搬些柴来生个火吧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403280" y="3573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　孩子是懂事的，他知道，厄运即将到来了。在斗争的最后时刻，他从容地搬回一捆木柴，生了火，默默地坐待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547640" y="1268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时间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一分一秒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地过去。这时候，   大儿子杰克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慢慢地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站起来，“天真冷。我到柴房去搬些柴来生个火吧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403280" y="3573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　孩子是懂事的，他知道，厄运即将到来了。在斗争的最后时刻，他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从容地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搬回一捆木柴，生了火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默默地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坐待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gif0281"/>
          <p:cNvPicPr/>
          <p:nvPr/>
        </p:nvPicPr>
        <p:blipFill>
          <a:blip r:embed="rId2"/>
          <a:stretch/>
        </p:blipFill>
        <p:spPr>
          <a:xfrm>
            <a:off x="752472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未标题-2 拷贝"/>
          <p:cNvPicPr/>
          <p:nvPr/>
        </p:nvPicPr>
        <p:blipFill>
          <a:blip r:embed="rId3"/>
          <a:stretch/>
        </p:blipFill>
        <p:spPr>
          <a:xfrm>
            <a:off x="179280" y="189000"/>
            <a:ext cx="1376640" cy="2448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10"/>
          <p:cNvGrpSpPr/>
          <p:nvPr/>
        </p:nvGrpSpPr>
        <p:grpSpPr>
          <a:xfrm>
            <a:off x="2050920" y="404640"/>
            <a:ext cx="2305080" cy="865080"/>
            <a:chOff x="2050920" y="404640"/>
            <a:chExt cx="2305080" cy="865080"/>
          </a:xfrm>
        </p:grpSpPr>
        <p:sp>
          <p:nvSpPr>
            <p:cNvPr id="81" name="AutoShape 11"/>
            <p:cNvSpPr/>
            <p:nvPr/>
          </p:nvSpPr>
          <p:spPr>
            <a:xfrm>
              <a:off x="2050920" y="404640"/>
              <a:ext cx="2305080" cy="865080"/>
            </a:xfrm>
            <a:prstGeom prst="wedgeEllipseCallout">
              <a:avLst>
                <a:gd name="adj1" fmla="val -73828"/>
                <a:gd name="adj2" fmla="val -40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2"/>
            <p:cNvSpPr/>
            <p:nvPr/>
          </p:nvSpPr>
          <p:spPr>
            <a:xfrm>
              <a:off x="2491200" y="5490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内心独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ZR108.wav" descr=""/>
          <p:cNvPicPr/>
          <p:nvPr/>
        </p:nvPicPr>
        <p:blipFill>
          <a:blip r:embed="rId4"/>
          <a:stretch/>
        </p:blipFill>
        <p:spPr>
          <a:xfrm>
            <a:off x="205740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未标题-3 拷贝"/>
          <p:cNvPicPr/>
          <p:nvPr/>
        </p:nvPicPr>
        <p:blipFill>
          <a:blip r:embed="rId2"/>
          <a:stretch/>
        </p:blipFill>
        <p:spPr>
          <a:xfrm>
            <a:off x="179280" y="1628640"/>
            <a:ext cx="1486080" cy="2273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835280" y="1125360"/>
            <a:ext cx="65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　小女儿杰奎琳娇声地对德国人说道：“司令官先生，天晚了，楼上黑，我可以拿一盏灯上楼睡觉吗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杰奎琳镇定地把烛台端起来，向几位军官道过晚安，上楼去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486400" y="56196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　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娇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gif0281"/>
          <p:cNvPicPr/>
          <p:nvPr/>
        </p:nvPicPr>
        <p:blipFill>
          <a:blip r:embed="rId3"/>
          <a:stretch/>
        </p:blipFill>
        <p:spPr>
          <a:xfrm>
            <a:off x="7524720" y="5661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981080" y="1371600"/>
            <a:ext cx="556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前进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前进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祖国的儿郎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那光荣的时刻已来临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专制暴政在压迫着我们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我们的祖国鲜血遍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我们的祖国鲜血遍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你可知道那凶狠的兵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到处在残杀人民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他们从你的怀抱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杀死你的妻子和儿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公民们，武装起来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公民们，投入战斗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前进前进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万众一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把敌人消灭净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065040" y="7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马赛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Rabotshaja-Marcelesa.mp3" descr=""/>
          <p:cNvPicPr/>
          <p:nvPr/>
        </p:nvPicPr>
        <p:blipFill>
          <a:blip r:embed="rId2"/>
          <a:stretch/>
        </p:blipFill>
        <p:spPr>
          <a:xfrm>
            <a:off x="42670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8:35:25Z</dcterms:created>
  <dc:creator/>
  <dc:description/>
  <cp:keywords>幻灯片之家 http:/www.eeppt.com</cp:keywords>
  <dc:language>en-US</dc:language>
  <cp:lastModifiedBy/>
  <dcterms:modified xsi:type="dcterms:W3CDTF">2015-07-03T13:16:25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