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F1D-08D7-46AB-9906-CEDAE719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34E-44AD-410A-BF18-B7E4A14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84D-E1E3-4362-8FEB-4BD0637F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CE9-9C0F-4D2A-967C-122027A8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815-26FD-4680-86EE-9FBF66F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83D9-3B90-414E-89DE-3DBED8D2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613-F625-4E10-9522-2A859A3D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A140-1898-425F-AE32-BFF450DE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9C51-4754-4179-90DA-BFF5747E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054-C3F9-4949-8D43-F51FAFB5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D16-4B5A-4C65-A31D-24C7B93E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5841-39D0-4E85-9E3C-6E98CA6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8BDD-1013-41BD-BF9F-5282D1F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25DF-FE71-4C7B-AE2C-EF3813F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6AC8-DAD9-4D39-8B0D-E2F1E31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297E-DF0F-45D3-A390-50588D55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4D1C-116D-49A0-A883-89C6F87B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69F6-9B61-4A36-B086-74018A6F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BDE-F729-4C4B-A68E-580C6C7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0E3-66D1-4AB9-A92B-467D2F1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FD-0B39-4BD1-9E0E-BF1ECC9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A19-71B8-466D-A0D5-B581F64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623-F3A0-4232-A396-597A310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F3A-782C-4034-983D-F72BBD9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4000" cy="836280"/>
            <a:chOff x="3851280" y="0"/>
            <a:chExt cx="446400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904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F0C-08B2-435E-BD3C-FB25A8D374C5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dabi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191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8640" y="765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毕业答辩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29264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d4bc7"/>
                </a:solidFill>
                <a:uFillTx/>
                <a:latin typeface="Arial"/>
                <a:hlinkClick r:id="rId1"/>
              </a:rPr>
              <a:t>答辩ppt模板下载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F66-D709-4C0A-95E2-0925AE478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/>
  <dc:description/>
  <cp:keywords>幻灯片之家 http:/www.eeppt.com</cp:keywords>
  <dc:language>en-US</dc:language>
  <cp:lastModifiedBy/>
  <dcterms:modified xsi:type="dcterms:W3CDTF">2015-07-06T02:16:5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