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80"/>
          <p:cNvSpPr/>
          <p:nvPr/>
        </p:nvSpPr>
        <p:spPr>
          <a:xfrm>
            <a:off x="3630600" y="3095640"/>
            <a:ext cx="42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指导教师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6800" y="2282760"/>
            <a:ext cx="662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3b41"/>
                </a:solidFill>
                <a:latin typeface="Verdana"/>
                <a:ea typeface="Gulim"/>
              </a:rPr>
              <a:t>论文题目</a:t>
            </a:r>
            <a:endParaRPr b="1" lang="en-US" sz="36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530520" y="4762440"/>
            <a:ext cx="49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班级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生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号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1822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78360" y="866880"/>
            <a:ext cx="33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13b41"/>
                </a:solidFill>
                <a:latin typeface="Times New Roman"/>
              </a:rPr>
              <a:t>毕业答辩</a:t>
            </a:r>
            <a:r>
              <a:rPr b="0" lang="en-US" sz="3600" spc="-1" strike="noStrike">
                <a:solidFill>
                  <a:srgbClr val="013b41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13b41"/>
                </a:solidFill>
                <a:latin typeface="Times New Roman"/>
              </a:rPr>
              <a:t>模板下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概述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：一张幻灯片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简明扼要（一两句话）说明：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背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意义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目标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问题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框架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的展开思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和论文结构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右边是一个例子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724280" cy="400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相关概念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若有特别专业或者要特别说明的概念，可以解释。一般无须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综述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简要说明国内外相关研究成果，谁、什么时间、什么成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最后很简要述评，引出自己的研究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方法与过程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采用了什么方法？在哪里展开？如何实施？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主要结论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3-5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自己研究的成果，条理清晰，简明扼要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多用图表、数据来说明和论证你的结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演示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若是系统开发者，则需要提前做好安装好演示准备，在答辩时对主要模块作一演示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－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分钟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问题讨论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有待进一步讨论和研究的课题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828720" y="4581360"/>
            <a:ext cx="611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1960" y="5288040"/>
            <a:ext cx="740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bad16f"/>
                </a:solidFill>
                <a:uFillTx/>
                <a:latin typeface="Times New Roman"/>
                <a:hlinkClick r:id="rId2"/>
              </a:rPr>
              <a:t>答辩ppt模板下载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eeppt.com/moban/dabian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致谢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请各位老师批评指正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57320" y="492120"/>
            <a:ext cx="615456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背景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意义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的背景及意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论文的结构和主要内容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58760" y="100476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一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二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三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四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需求分析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3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4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博客系统总体结构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全文总结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大学本科的学习生活即将结束。在此，我要感谢所有曾经教导过我的老师和关心过我的同学，他们在我成长过程中给予了我很大的帮助。本文能够顺利完成，要特别感谢我的导师</a:t>
            </a: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***</a:t>
            </a: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老师，感谢各位系的老师的关心和帮助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最后向所有关心和帮助过我的人表示真心的感谢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特别说明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大家需要对自己的论文选题、方法、结论、相关文献非常熟悉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答辩每个人最多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分钟，最好限制在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  <a:ea typeface="宋体"/>
              </a:rPr>
              <a:t>8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分钟之内，讲清楚后面幻灯片上的内容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回答老师问题有理有据，因为是自己完成的，你理所当然最权威，但不能狡辩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演示文稿尽量做得简洁、漂亮、得体。答辩自信、表达流利、有理有据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ad16f"/>
                </a:solidFill>
                <a:latin typeface="Verdana"/>
                <a:ea typeface="宋体"/>
              </a:rPr>
              <a:t>接下来是大家可以参考的答辩模板。</a:t>
            </a:r>
            <a:r>
              <a:rPr b="1" lang="en-US" sz="1800" spc="-1" strike="noStrike">
                <a:solidFill>
                  <a:srgbClr val="bad16f"/>
                </a:solidFill>
                <a:latin typeface="Verdana"/>
                <a:ea typeface="宋体"/>
              </a:rPr>
              <a:t>&gt;&gt;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  <a:ea typeface="黑体"/>
              </a:rPr>
              <a:t>论文题目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195880" y="0"/>
            <a:ext cx="3948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温州大学</a:t>
            </a:r>
            <a:r>
              <a:rPr b="1" lang="en-US" sz="2000" spc="-1" strike="noStrike">
                <a:solidFill>
                  <a:srgbClr val="efefff"/>
                </a:solidFill>
                <a:latin typeface="宋体"/>
                <a:ea typeface="宋体"/>
              </a:rPr>
              <a:t>2006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届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本科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学位论文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答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3769200" y="5791320"/>
            <a:ext cx="171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日期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/>
  <dc:description/>
  <cp:keywords>幻灯片之家 http:/www.eeppt.com</cp:keywords>
  <dc:language>en-US</dc:language>
  <cp:lastModifiedBy/>
  <dcterms:modified xsi:type="dcterms:W3CDTF">2015-07-06T02:17:36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