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8F93-8617-42DE-BF61-6EED428A5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FF07-693A-4C9D-A38D-20161AB7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D5EC-BFA2-4008-8614-E4E331211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CB33-9D9B-49CF-AFAC-CCA65B8F9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0093D1-DA94-4403-A231-503EBEABFC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84BFAE-70B0-4B27-A538-37D9F849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D48D9-49E6-4E15-AD2F-625ED0BE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21D2F-1127-47C8-B4A7-0A09AB00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76ED0-61AB-4B66-9D13-F7BFD9AA5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699970-A7B2-4691-BFF3-E539CD024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412C7-40B0-43AF-A2EC-305045D9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B37E-790D-4758-B76F-F42C25B2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B6EA5B-65D5-4CD9-A01E-C4676670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AFC0F-658D-43D6-AA73-83E73C00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8E8828-5041-4BA5-8BD3-C5A36077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61D97-B4FC-4C1B-BFC1-E960E98C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14CA3-E3B2-44E6-B93E-7D096B12A4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2AA34D-923E-47F9-B548-308E7BA580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BC9F0E-0107-44D0-A970-DD7DD570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B9BFC5-46C1-404A-A4CE-2A344FC3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E61BD7-0723-4D8D-BED6-F4E151A6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4EEBBF-92B9-4905-9FB5-B5ED90A07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3C66-B365-4650-9426-684EE0DF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941BD9-9B93-43DC-85B4-9C8853512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DAF88D-1D54-4029-8F4C-A79DE3D3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02DB0B-24D3-4B6F-8FBB-FFB8993E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8DFBDD-4C18-4589-B5FD-53533A0E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EFC978-21F3-41C6-8479-7EADB781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34B7FA-EB65-4E6C-B0D9-9DBE79DF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414720-2BDC-4D16-BD1A-F7AE7DD65B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C03C-631F-41CE-9FB2-C6ADEE76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6492-522B-4886-9399-0D0C3182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F18F-EFD8-4BDF-B152-9AD0BF88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F953-D6DF-433F-9A48-8DD6CF53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84C6-521E-4FA4-9A52-AC51329F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AE41-7A06-4D0B-959A-A33BD593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B476-AA15-4406-98EE-BAA9F7D1AA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28666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DC81-B8E0-4B17-AAE9-7A2F5C2A7D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285768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9AA0-AE64-44D5-876B-C3808ED946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dabian/" TargetMode="External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349800" y="2492280"/>
            <a:ext cx="482256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a452a"/>
                </a:solidFill>
                <a:latin typeface="汉仪中宋简"/>
                <a:ea typeface="汉仪中宋简"/>
              </a:rPr>
              <a:t>毕业论文答辩</a:t>
            </a:r>
            <a:r>
              <a:rPr b="0" lang="en-US" sz="3600" spc="-1" strike="noStrike">
                <a:solidFill>
                  <a:srgbClr val="4a452a"/>
                </a:solidFill>
                <a:latin typeface="汉仪中宋简"/>
                <a:ea typeface="汉仪中宋简"/>
              </a:rPr>
              <a:t>ppt</a:t>
            </a:r>
            <a:r>
              <a:rPr b="0" lang="zh-CN" sz="3600" spc="-1" strike="noStrike">
                <a:solidFill>
                  <a:srgbClr val="4a452a"/>
                </a:solidFill>
                <a:latin typeface="汉仪中宋简"/>
                <a:ea typeface="汉仪中宋简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>
            <a:off x="443520" y="638172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76360" y="48704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28720" y="4581360"/>
            <a:ext cx="6111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28560" y="2109960"/>
            <a:ext cx="7400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答辩ppt模板下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dab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CBF90C-B587-469E-A4B5-B973014A0009}" type="slidenum">
              <a:t>3</a:t>
            </a:fld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143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内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3347640" y="2492280"/>
            <a:ext cx="40323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a452a"/>
                </a:solidFill>
                <a:latin typeface="汉仪中宋简"/>
                <a:ea typeface="汉仪中宋简"/>
              </a:rPr>
              <a:t>谢谢观看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3"/>
          <p:cNvSpPr/>
          <p:nvPr/>
        </p:nvSpPr>
        <p:spPr>
          <a:xfrm>
            <a:off x="108000" y="189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6453360"/>
            <a:ext cx="676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12:34:15Z</dcterms:created>
  <dc:creator/>
  <dc:description/>
  <cp:keywords>幻灯片之家 http:/www.eeppt.com</cp:keywords>
  <dc:language>en-US</dc:language>
  <cp:lastModifiedBy/>
  <dcterms:modified xsi:type="dcterms:W3CDTF">2015-07-06T02:19:29Z</dcterms:modified>
  <cp:revision>5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