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042-A7A6-4724-8F71-0F30E4BB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381-5EE0-4F88-A350-22C4680D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2D2-8419-4E7D-A07F-3363D7CD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3F6-B8F9-4214-92B9-5E49D01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3D1-D142-4BD5-8F62-3D469CF6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69F-BA7E-4E9C-9B4E-00B901F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D92-7AAF-4CD4-895F-74911ECA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AA1-C460-4D0D-BE34-F5A78A38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498-6C2F-49A8-B3A8-F9D6CCC9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511-21D2-4D6B-92F5-2CB55070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E0C-5EA1-4358-9E6C-53A9BF2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CDD-75CB-4119-8072-E1EE1BE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DD84-82D5-44A5-B7FF-E718A908E146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lunwe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0"/>
          <p:cNvSpPr/>
          <p:nvPr/>
        </p:nvSpPr>
        <p:spPr>
          <a:xfrm rot="270000">
            <a:off x="3892320" y="3059280"/>
            <a:ext cx="311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9308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31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2640" y="1989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毕业论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 rot="21403800">
            <a:off x="7408440" y="107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1707120" y="1576800"/>
            <a:ext cx="6300360" cy="958680"/>
            <a:chOff x="1707120" y="1576800"/>
            <a:chExt cx="6300360" cy="958680"/>
          </a:xfrm>
        </p:grpSpPr>
        <p:sp>
          <p:nvSpPr>
            <p:cNvPr id="47" name="矩形 11"/>
            <p:cNvSpPr/>
            <p:nvPr/>
          </p:nvSpPr>
          <p:spPr>
            <a:xfrm rot="311400">
              <a:off x="1722600" y="1592280"/>
              <a:ext cx="360360" cy="3618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2"/>
            <p:cNvSpPr/>
            <p:nvPr/>
          </p:nvSpPr>
          <p:spPr>
            <a:xfrm rot="311400">
              <a:off x="2142720" y="1872000"/>
              <a:ext cx="585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2"/>
          <p:cNvGrpSpPr/>
          <p:nvPr/>
        </p:nvGrpSpPr>
        <p:grpSpPr>
          <a:xfrm>
            <a:off x="1645920" y="2535840"/>
            <a:ext cx="6225120" cy="962280"/>
            <a:chOff x="1645920" y="2535840"/>
            <a:chExt cx="6225120" cy="962280"/>
          </a:xfrm>
        </p:grpSpPr>
        <p:sp>
          <p:nvSpPr>
            <p:cNvPr id="50" name="矩形 14"/>
            <p:cNvSpPr/>
            <p:nvPr/>
          </p:nvSpPr>
          <p:spPr>
            <a:xfrm rot="311400">
              <a:off x="1661400" y="255132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5"/>
            <p:cNvSpPr/>
            <p:nvPr/>
          </p:nvSpPr>
          <p:spPr>
            <a:xfrm rot="311400">
              <a:off x="2006640" y="283500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1562040" y="3429720"/>
            <a:ext cx="6224760" cy="962280"/>
            <a:chOff x="1562040" y="3429720"/>
            <a:chExt cx="6224760" cy="962280"/>
          </a:xfrm>
        </p:grpSpPr>
        <p:sp>
          <p:nvSpPr>
            <p:cNvPr id="53" name="矩形 16"/>
            <p:cNvSpPr/>
            <p:nvPr/>
          </p:nvSpPr>
          <p:spPr>
            <a:xfrm rot="311400">
              <a:off x="1577520" y="3445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7"/>
            <p:cNvSpPr/>
            <p:nvPr/>
          </p:nvSpPr>
          <p:spPr>
            <a:xfrm rot="311400">
              <a:off x="1922760" y="372888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1432800" y="4286160"/>
            <a:ext cx="6220800" cy="1058760"/>
            <a:chOff x="1432800" y="4286160"/>
            <a:chExt cx="6220800" cy="1058760"/>
          </a:xfrm>
        </p:grpSpPr>
        <p:sp>
          <p:nvSpPr>
            <p:cNvPr id="56" name="矩形 18"/>
            <p:cNvSpPr/>
            <p:nvPr/>
          </p:nvSpPr>
          <p:spPr>
            <a:xfrm rot="365400">
              <a:off x="1450800" y="43041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9"/>
            <p:cNvSpPr/>
            <p:nvPr/>
          </p:nvSpPr>
          <p:spPr>
            <a:xfrm rot="365400">
              <a:off x="1791000" y="463644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24000" y="6453360"/>
            <a:ext cx="725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论文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lunw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5E4-A8A2-4264-9D46-56328642F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9"/>
          <p:cNvSpPr/>
          <p:nvPr/>
        </p:nvSpPr>
        <p:spPr>
          <a:xfrm>
            <a:off x="7467120" y="121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 rot="436800">
            <a:off x="1945080" y="18014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 rot="436800">
            <a:off x="1557720" y="295056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 rot="436800">
            <a:off x="1465560" y="406188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/>
          <p:cNvSpPr/>
          <p:nvPr/>
        </p:nvSpPr>
        <p:spPr>
          <a:xfrm rot="436800">
            <a:off x="3856320" y="29394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0"/>
          <p:cNvSpPr/>
          <p:nvPr/>
        </p:nvSpPr>
        <p:spPr>
          <a:xfrm rot="436800">
            <a:off x="4019400" y="225864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3"/>
          <p:cNvSpPr/>
          <p:nvPr/>
        </p:nvSpPr>
        <p:spPr>
          <a:xfrm rot="436800">
            <a:off x="3784680" y="36316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4"/>
          <p:cNvSpPr/>
          <p:nvPr/>
        </p:nvSpPr>
        <p:spPr>
          <a:xfrm rot="436800">
            <a:off x="3616560" y="42969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5"/>
          <p:cNvSpPr/>
          <p:nvPr/>
        </p:nvSpPr>
        <p:spPr>
          <a:xfrm rot="436800">
            <a:off x="3498840" y="49784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9"/>
          <p:cNvSpPr/>
          <p:nvPr/>
        </p:nvSpPr>
        <p:spPr>
          <a:xfrm>
            <a:off x="746712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1729080" y="1161360"/>
            <a:ext cx="1627920" cy="664560"/>
            <a:chOff x="1729080" y="1161360"/>
            <a:chExt cx="1627920" cy="664560"/>
          </a:xfrm>
        </p:grpSpPr>
        <p:sp>
          <p:nvSpPr>
            <p:cNvPr id="73" name="矩形 11"/>
            <p:cNvSpPr/>
            <p:nvPr/>
          </p:nvSpPr>
          <p:spPr>
            <a:xfrm rot="760800">
              <a:off x="1764000" y="119628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 rot="760800">
              <a:off x="2116440" y="1298520"/>
              <a:ext cx="121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1713600" y="2193120"/>
            <a:ext cx="1487520" cy="624960"/>
            <a:chOff x="1713600" y="2193120"/>
            <a:chExt cx="1487520" cy="624960"/>
          </a:xfrm>
        </p:grpSpPr>
        <p:sp>
          <p:nvSpPr>
            <p:cNvPr id="76" name="矩形 14"/>
            <p:cNvSpPr/>
            <p:nvPr/>
          </p:nvSpPr>
          <p:spPr>
            <a:xfrm rot="760800">
              <a:off x="1748520" y="222804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5"/>
            <p:cNvSpPr/>
            <p:nvPr/>
          </p:nvSpPr>
          <p:spPr>
            <a:xfrm rot="760800">
              <a:off x="2104560" y="230688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1571400" y="3131280"/>
            <a:ext cx="1486440" cy="644040"/>
            <a:chOff x="1571400" y="3131280"/>
            <a:chExt cx="1486440" cy="644040"/>
          </a:xfrm>
        </p:grpSpPr>
        <p:sp>
          <p:nvSpPr>
            <p:cNvPr id="79" name="矩形 16"/>
            <p:cNvSpPr/>
            <p:nvPr/>
          </p:nvSpPr>
          <p:spPr>
            <a:xfrm rot="760800">
              <a:off x="1606320" y="3166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7"/>
            <p:cNvSpPr/>
            <p:nvPr/>
          </p:nvSpPr>
          <p:spPr>
            <a:xfrm rot="760800">
              <a:off x="1958040" y="326376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1574640" y="3907800"/>
            <a:ext cx="1408680" cy="662400"/>
            <a:chOff x="1574640" y="3907800"/>
            <a:chExt cx="1408680" cy="662400"/>
          </a:xfrm>
        </p:grpSpPr>
        <p:sp>
          <p:nvSpPr>
            <p:cNvPr id="82" name="矩形 18"/>
            <p:cNvSpPr/>
            <p:nvPr/>
          </p:nvSpPr>
          <p:spPr>
            <a:xfrm rot="760800">
              <a:off x="1609560" y="394272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9"/>
            <p:cNvSpPr/>
            <p:nvPr/>
          </p:nvSpPr>
          <p:spPr>
            <a:xfrm rot="760800">
              <a:off x="1954440" y="4066560"/>
              <a:ext cx="99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圆角矩形 21"/>
          <p:cNvSpPr/>
          <p:nvPr/>
        </p:nvSpPr>
        <p:spPr>
          <a:xfrm rot="760800">
            <a:off x="3398760" y="171900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2"/>
          <p:cNvSpPr/>
          <p:nvPr/>
        </p:nvSpPr>
        <p:spPr>
          <a:xfrm rot="760800">
            <a:off x="3244680" y="2649240"/>
            <a:ext cx="39294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23"/>
          <p:cNvSpPr/>
          <p:nvPr/>
        </p:nvSpPr>
        <p:spPr>
          <a:xfrm rot="760800">
            <a:off x="3041640" y="363672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24"/>
          <p:cNvSpPr/>
          <p:nvPr/>
        </p:nvSpPr>
        <p:spPr>
          <a:xfrm rot="760800">
            <a:off x="2887560" y="450648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/>
  <dc:description/>
  <cp:keywords>幻灯片之家 http:/www.eeppt.com</cp:keywords>
  <dc:language>en-US</dc:language>
  <cp:lastModifiedBy/>
  <dcterms:modified xsi:type="dcterms:W3CDTF">2015-07-12T09:46:0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