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E69-597C-4F8C-954D-0A2801CC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1461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A55-0A2D-454A-BB38-97FD10F3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4424-60AD-4507-BA98-05D6097C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1E7-CAA3-43F7-87E9-B94443D5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8AD7-737D-4D37-AC27-5A0B0457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BD78E-66C3-4F8C-8CC4-545B717E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AD16-B167-4060-92C3-664FD144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DAF3-10E2-4952-896D-59551B07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3825-CE60-474C-B36F-0BC1ADF1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9572-175E-49DD-A99C-EA8F8C94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AF91-9131-43E0-B38C-56C3F54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81B-B9D5-4FA0-8F57-CFC593CE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5A54-0481-4B5E-9A17-0065C322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212A-203B-47D5-A9F2-1C8ECD1E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1461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CC44-00F0-40B4-8923-9CF2F37A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E36F-C2B0-45D1-A108-FF066CA8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11426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1461240"/>
            <a:ext cx="29440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4080-C7FA-45A1-8D85-3C23330D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483E-A5F0-417E-BBB7-C866633A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C2A-BF48-4260-A18A-EA24E637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06E-75AA-4275-911B-52457AA3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08D-D34D-43AE-8D49-D1E4E4FB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865-73C4-44B4-8B71-C38F9DE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14612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B70-1E79-4E6B-BCDF-F90ED3DD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1142640"/>
            <a:ext cx="446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1461240"/>
            <a:ext cx="91440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720-6065-43E9-8CD8-912F2D16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5138-49E8-48C8-BF17-6B0E2DEB7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EE61-5D26-4227-8FC4-ED998E25A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chuangyi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抽象艺术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1426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itle He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Print Pag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520" y="15238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d Text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20880" y="1695600"/>
            <a:ext cx="732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创意设计ppt模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chuangy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ubble_beauty_qx" descr=""/>
          <p:cNvPicPr/>
          <p:nvPr/>
        </p:nvPicPr>
        <p:blipFill>
          <a:blip r:embed="rId4"/>
          <a:stretch/>
        </p:blipFill>
        <p:spPr>
          <a:xfrm>
            <a:off x="2743200" y="13716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bubble_beauty_sld" descr=""/>
          <p:cNvPicPr/>
          <p:nvPr/>
        </p:nvPicPr>
        <p:blipFill>
          <a:blip r:embed="rId5"/>
          <a:stretch/>
        </p:blipFill>
        <p:spPr>
          <a:xfrm>
            <a:off x="5715000" y="14479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94" name="bubble_beauty_prt" descr=""/>
          <p:cNvPicPr/>
          <p:nvPr/>
        </p:nvPicPr>
        <p:blipFill>
          <a:blip r:embed="rId6"/>
          <a:stretch/>
        </p:blipFill>
        <p:spPr>
          <a:xfrm>
            <a:off x="2819520" y="38098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95" name="bubble_beauty_trs" descr=""/>
          <p:cNvPicPr/>
          <p:nvPr/>
        </p:nvPicPr>
        <p:blipFill>
          <a:blip r:embed="rId7"/>
          <a:stretch/>
        </p:blipFill>
        <p:spPr>
          <a:xfrm>
            <a:off x="5715000" y="3886200"/>
            <a:ext cx="2590920" cy="19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4:37:46Z</dcterms:created>
  <dc:creator/>
  <dc:description/>
  <cp:keywords>幻灯片之家 http:/www.eeppt.com</cp:keywords>
  <dc:language>en-US</dc:language>
  <cp:lastModifiedBy/>
  <dcterms:modified xsi:type="dcterms:W3CDTF">2015-07-05T07:24:16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