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230C-CAC8-4F18-84E9-83C4718E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45716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473076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3CB5-AB6D-4A5E-98B3-DAFFED30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45716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45716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473076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473076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CA34-BAB9-403F-A326-78FAA8889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45716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45716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45716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473076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473076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473076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CB7F-B04C-4F43-A3B8-B41D8BBEE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C6AB-E109-4FBE-9E98-8FFA6355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FC5E-B364-4C37-A551-BDC76421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45716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456D-BECC-486A-B1E7-A09A5E7E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4571640"/>
            <a:ext cx="446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4571640"/>
            <a:ext cx="446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FF6F-9E8F-46B1-A629-A39DBC83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5046-FF05-4D29-B78B-A840B979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4038480"/>
            <a:ext cx="9144000" cy="282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335E-F4EC-4619-94AE-DF847825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45716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4571640"/>
            <a:ext cx="446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473076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36E2-6822-45AC-9FC5-7278544C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7CD7-D60A-4DC6-B752-415FE6B8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4571640"/>
            <a:ext cx="446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45716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473076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2178-EC17-4F27-AACF-C40F666E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45716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45716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473076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55FB-C114-4397-A6D9-15364497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457164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473076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4D16-D20D-463C-8574-99BAE81F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45716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45716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473076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473076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E576-3090-4648-9344-FCB9903C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45716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45716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457164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473076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473076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4730760"/>
            <a:ext cx="294408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3507-2991-4249-942E-D28A4F92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45716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4112-D8DF-45CE-A8B0-74A08C95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4571640"/>
            <a:ext cx="446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4571640"/>
            <a:ext cx="446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693F-6392-41D7-8712-A7E5995D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5E4F-B1E7-49BF-A8D8-EC750FF8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4038480"/>
            <a:ext cx="9144000" cy="282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D7BD-5FDF-4884-8635-FAC467F6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45716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4571640"/>
            <a:ext cx="446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473076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418A-689A-40D1-9F86-74D4864B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4571640"/>
            <a:ext cx="4462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45716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473076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8D7A-C610-435A-83C9-9C7FBF3B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45716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4571640"/>
            <a:ext cx="44622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4730760"/>
            <a:ext cx="91440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348E-8EE6-438A-B67D-7A5D5492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153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189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257B-0189-43EE-A0E3-59BDF0556B76}" type="slidenum">
              <a:rPr b="1" lang="en-US" sz="10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D848-EFA2-4F07-BA3E-0B556C31CFD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chuangyi/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animationfactory.com/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image" Target="../media/image1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  <a:ea typeface="宋体"/>
              </a:rPr>
              <a:t>抽象艺术</a:t>
            </a:r>
            <a:r>
              <a:rPr b="0" lang="en-US" sz="4800" spc="-1" strike="noStrike">
                <a:solidFill>
                  <a:srgbClr val="ffffff"/>
                </a:solidFill>
                <a:latin typeface="Impact"/>
                <a:ea typeface="宋体"/>
              </a:rPr>
              <a:t>ppt</a:t>
            </a:r>
            <a:r>
              <a:rPr b="0" lang="zh-CN" sz="4800" spc="-1" strike="noStrike">
                <a:solidFill>
                  <a:srgbClr val="ffffff"/>
                </a:solidFill>
                <a:latin typeface="Impact"/>
                <a:ea typeface="宋体"/>
              </a:rPr>
              <a:t>模板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153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88" name=""/>
          <p:cNvSpPr/>
          <p:nvPr/>
        </p:nvSpPr>
        <p:spPr>
          <a:xfrm>
            <a:off x="920880" y="1693800"/>
            <a:ext cx="6819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创意设计ppt模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chuangyi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153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53280" y="93816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3760" y="93816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87080" y="93816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96" name="">
            <a:hlinkClick r:id="rId3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5909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2637000"/>
            <a:ext cx="2362320" cy="21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itional Graphic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ale them up or dow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GIF clipart is anim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JPG clipart can be scaled up and take up little file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PNG clipart can be scaled unusually large without distor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93240" y="94464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867280" y="121932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2666880" y="121932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4267080" y="121932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7467480" y="1219320"/>
            <a:ext cx="1447920" cy="1085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6T16:04:47Z</dcterms:created>
  <dc:creator/>
  <dc:description/>
  <cp:keywords>幻灯片之家 http:/www.eeppt.com</cp:keywords>
  <dc:language>en-US</dc:language>
  <cp:lastModifiedBy/>
  <dcterms:modified xsi:type="dcterms:W3CDTF">2015-07-05T07:34:02Z</dcterms:modified>
  <cp:revision>2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