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317-0A79-437D-A716-F099ACA4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E9B-084F-46F4-8BC4-41F4C3A1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34A-7DC8-4843-820B-0A9B6DA9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122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616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122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9616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697-34D4-4E69-A0F8-4859A7DE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4101-4B06-4455-8A84-181CF36A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914F-319F-405B-BFF3-951844C3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B44A-A39C-4C90-AF62-934E40F8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6307-CB83-480B-8E66-A336AFC3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19EB-AC60-4FD8-ABD2-CD6DAEE3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F28C-35D1-4A9E-BE3D-1C8F2378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C439-0FE8-4F13-A13E-503F998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C72-C6E0-4FD3-BB24-F93B6432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1971-11F2-4D2E-9725-98941CC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EC92-F5AC-4806-BE13-C02DB57E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6738-80B6-4BD1-B28A-876C20A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EC2E-A987-4C7D-8776-88221689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122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9616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122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9616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87AD-C3D3-454D-9886-7C78722C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DE6-A50D-4AF8-8438-22DB54B7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18F-A12E-44D7-99BE-66679E9D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C45-26BD-4D59-9550-EE276397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095-1022-4443-AF99-8D533E5B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F86-45B9-436C-9061-6E99F5C4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D0A-4548-4076-BA59-014DB20A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381-F1A3-4D24-99E0-284ABD95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529C-6D5B-47F3-B73A-C11B1D678632}" type="slidenum">
              <a:rPr b="1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C2B8-31BB-408C-A592-7282C596C048}" type="slidenum">
              <a:rPr b="0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86200"/>
            <a:ext cx="9144000" cy="1143000"/>
          </a:xfrm>
          <a:prstGeom prst="rect">
            <a:avLst/>
          </a:prstGeom>
          <a:solidFill>
            <a:srgbClr val="b2b2b2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3957480"/>
            <a:ext cx="1143000" cy="989280"/>
          </a:xfrm>
          <a:prstGeom prst="hexagon">
            <a:avLst>
              <a:gd name="adj" fmla="val 28885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8960" y="457200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抽象主义</a:t>
            </a: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Eurostile"/>
                <a:ea typeface="宋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Transitional Page</a:t>
            </a:r>
            <a:endParaRPr b="1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457200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Elements</a:t>
            </a:r>
            <a:endParaRPr b="1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457200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www.animationfactory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89320" y="5108400"/>
            <a:ext cx="2128680" cy="1597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26000" y="5108400"/>
            <a:ext cx="2128680" cy="1597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61240" y="5108400"/>
            <a:ext cx="2130480" cy="1597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52280" y="5108400"/>
            <a:ext cx="2130480" cy="1597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Eurostile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155-BCDF-4279-8A7E-02C63B126ED4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/>
  <dc:description/>
  <cp:keywords>幻灯片之家 http:/www.eeppt.com</cp:keywords>
  <dc:language>en-US</dc:language>
  <cp:lastModifiedBy/>
  <dcterms:modified xsi:type="dcterms:W3CDTF">2015-07-12T09:33:09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