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349-F515-454C-8571-9B4AD294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B14-7300-4E93-AEDA-18B40E21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762-6535-41F7-AB7A-D9C2FDFE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336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988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336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988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70B-9FE4-4FC0-BA4E-B4EBB778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438E-783B-4457-A0A9-9E1DE366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4E77-B69E-4A75-88B4-EFF69F67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C81-E0FF-4DA7-A160-38222153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728-28CC-4A7B-8D77-B845ED9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0707-B2C3-46ED-B2DF-648B0416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114440"/>
            <a:ext cx="762012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66F0-6941-48B9-B706-28BD3E6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684C-35FA-474D-B75F-F1E3C5F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65E-DC80-4624-935D-FDE0925F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CC29-ACD0-4CAE-BA81-313925B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F010-4BB8-4D3B-AC8C-63C9195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323B-CD99-42BC-8529-8B5F098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8E62-AEF4-464C-B412-7B7C6BE8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336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0988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336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0988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56AC-348D-43E3-A5F4-1C5BCA2C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CB5-0499-48AB-8DB9-3A6D59CC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64A-1A72-468C-A3FB-2DD2F6A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8AE-931E-416B-949E-FDBBB8A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114440"/>
            <a:ext cx="762012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501-4184-45F0-8E9D-BD87D34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F4B-F30F-4CF5-B2C3-D468538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F00-1424-4B91-9FC0-777E330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FCF-25E4-484A-9DE7-3EDD308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1FA-A810-42FA-B948-787198265EC4}" type="slidenum">
              <a:rPr b="1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32D-08DC-44CF-BA40-0C3FC314E94B}" type="slidenum"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淡紫色抽象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7416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5:47:00Z</dcterms:created>
  <dc:creator/>
  <dc:description/>
  <cp:keywords>幻灯片之家 http:/www.eeppt.com</cp:keywords>
  <dc:language>en-US</dc:language>
  <cp:lastModifiedBy/>
  <dcterms:modified xsi:type="dcterms:W3CDTF">2015-07-05T07:33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