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33B-1555-454B-AC78-AE69B4DC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7489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560" y="4293360"/>
            <a:ext cx="7489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8C0-DAA4-45BA-8360-6BF9636E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9652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58560" y="429336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196520" y="429336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640-1AF8-4A71-AF85-51E1E5F1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891160" y="190512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423760" y="190512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58560" y="429336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891160" y="429336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423760" y="429336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6BE-E644-48D0-AE91-397201B5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58560" y="190512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365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6520" y="1905120"/>
            <a:ext cx="365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58560" y="358560"/>
            <a:ext cx="7489800" cy="64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96520" y="1905120"/>
            <a:ext cx="365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8560" y="429336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58560" y="190512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D78-C0E1-43A0-8E3C-8AB89500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365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652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6520" y="429336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9652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8560" y="4293360"/>
            <a:ext cx="7489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7489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8560" y="4293360"/>
            <a:ext cx="7489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9652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8560" y="429336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96520" y="429336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891160" y="190512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423760" y="190512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58560" y="429336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891160" y="429336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423760" y="4293360"/>
            <a:ext cx="241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B28-6C46-49F0-9AB0-694005EB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365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6520" y="1905120"/>
            <a:ext cx="365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17B-59E6-4647-80AC-B1C0BA4F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B3A-A808-4DB2-8849-AEF00B80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58560" y="358560"/>
            <a:ext cx="7489800" cy="64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F1B-2834-45F7-8909-BC5AA4D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6520" y="1905120"/>
            <a:ext cx="365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8560" y="429336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61E-FBC3-425F-B2E8-3A09B3C9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365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652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6520" y="429336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71D-34AD-4DDA-BFA8-C050CDDE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56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6520" y="1905120"/>
            <a:ext cx="3654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560" y="4293360"/>
            <a:ext cx="7489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36B-139C-4703-835D-A42DA5B6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74898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190512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100f76"/>
              </a:buClr>
              <a:buSzPct val="7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100f76"/>
              </a:buClr>
              <a:buSzPct val="7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SzPct val="7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SzPct val="7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21120"/>
            <a:ext cx="10666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69696"/>
                </a:solidFill>
                <a:latin typeface="Arial Narrow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 Narrow"/>
                <a:ea typeface="宋体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3880" y="662112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96969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969696"/>
                </a:solidFill>
                <a:latin typeface="Arial Narrow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1920" y="6621120"/>
            <a:ext cx="3049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96969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8484-2DC6-42AF-9799-404697A48D45}" type="slidenum">
              <a:rPr b="0" lang="sv-SE" sz="800" spc="-1" strike="noStrike">
                <a:solidFill>
                  <a:srgbClr val="969696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230040" y="0"/>
            <a:ext cx="201600" cy="2674800"/>
            <a:chOff x="-230040" y="0"/>
            <a:chExt cx="201600" cy="2674800"/>
          </a:xfrm>
        </p:grpSpPr>
        <p:sp>
          <p:nvSpPr>
            <p:cNvPr id="6" name=""/>
            <p:cNvSpPr/>
            <p:nvPr/>
          </p:nvSpPr>
          <p:spPr>
            <a:xfrm>
              <a:off x="-230040" y="279360"/>
              <a:ext cx="201600" cy="201600"/>
            </a:xfrm>
            <a:prstGeom prst="rect">
              <a:avLst/>
            </a:prstGeom>
            <a:solidFill>
              <a:srgbClr val="cf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-230040" y="0"/>
              <a:ext cx="201600" cy="198360"/>
            </a:xfrm>
            <a:prstGeom prst="rect">
              <a:avLst/>
            </a:prstGeom>
            <a:solidFill>
              <a:srgbClr val="da7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-230040" y="557280"/>
              <a:ext cx="201600" cy="201600"/>
            </a:xfrm>
            <a:prstGeom prst="rect">
              <a:avLst/>
            </a:prstGeom>
            <a:solidFill>
              <a:srgbClr val="ba8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-230040" y="1393920"/>
              <a:ext cx="201600" cy="198360"/>
            </a:xfrm>
            <a:prstGeom prst="rect">
              <a:avLst/>
            </a:prstGeom>
            <a:solidFill>
              <a:srgbClr val="00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-230040" y="1117440"/>
              <a:ext cx="201600" cy="200160"/>
            </a:xfrm>
            <a:prstGeom prst="rect">
              <a:avLst/>
            </a:prstGeom>
            <a:solidFill>
              <a:srgbClr val="009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-230040" y="1944720"/>
              <a:ext cx="201600" cy="200160"/>
            </a:xfrm>
            <a:prstGeom prst="rect">
              <a:avLst/>
            </a:prstGeom>
            <a:solidFill>
              <a:srgbClr val="b00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230040" y="1665360"/>
              <a:ext cx="201600" cy="201600"/>
            </a:xfrm>
            <a:prstGeom prst="rect">
              <a:avLst/>
            </a:prstGeom>
            <a:solidFill>
              <a:srgbClr val="352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-230040" y="838080"/>
              <a:ext cx="201600" cy="200160"/>
            </a:xfrm>
            <a:prstGeom prst="rect">
              <a:avLst/>
            </a:prstGeom>
            <a:solidFill>
              <a:srgbClr val="004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-230040" y="2220840"/>
              <a:ext cx="201600" cy="201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-230040" y="2473200"/>
              <a:ext cx="201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7772400" y="5715000"/>
            <a:ext cx="685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798560"/>
            <a:ext cx="6478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295280" y="6621120"/>
            <a:ext cx="10670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69696"/>
                </a:solidFill>
                <a:latin typeface="Arial Narrow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 Narrow"/>
                <a:ea typeface="宋体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209680" y="662112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96969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969696"/>
                </a:solidFill>
                <a:latin typeface="Arial Narrow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spcBef>
                <a:spcPts val="499"/>
              </a:spcBef>
              <a:buClr>
                <a:srgbClr val="100f76"/>
              </a:buClr>
              <a:buSzPct val="70000"/>
              <a:buFont typeface="Webding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pl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tplGaramond"/>
            </a:endParaRPr>
          </a:p>
          <a:p>
            <a:pPr lvl="4" algn="ctr">
              <a:spcBef>
                <a:spcPts val="1001"/>
              </a:spcBef>
              <a:buClr>
                <a:srgbClr val="100f76"/>
              </a:buClr>
              <a:buSzPct val="70000"/>
              <a:buFont typeface="Webding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7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7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09680"/>
            <a:ext cx="9144000" cy="990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黑体"/>
                <a:ea typeface="宋体"/>
              </a:rPr>
              <a:t>ERP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宋体"/>
              </a:rPr>
              <a:t>业务需求分析方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宋体"/>
              </a:rPr>
              <a:t>XX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宋体"/>
              </a:rPr>
              <a:t>高级管理咨询顾问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企业的根本目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336840"/>
            <a:ext cx="2438280" cy="854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净利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3336840"/>
            <a:ext cx="2286000" cy="9302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投资回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336840"/>
            <a:ext cx="2133360" cy="9302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现金流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14600" y="342864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332320" y="3489120"/>
            <a:ext cx="1800" cy="54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6920" y="3489120"/>
            <a:ext cx="1800" cy="54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1752480"/>
            <a:ext cx="2133360" cy="1051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资本效率最大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股东价值最大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9582200">
            <a:off x="2963880" y="2930040"/>
            <a:ext cx="817560" cy="476280"/>
          </a:xfrm>
          <a:prstGeom prst="rightArrow">
            <a:avLst>
              <a:gd name="adj1" fmla="val 50000"/>
              <a:gd name="adj2" fmla="val 42914"/>
            </a:avLst>
          </a:prstGeom>
          <a:solidFill>
            <a:srgbClr val="de18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408200" y="2753640"/>
            <a:ext cx="32724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e18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3284000">
            <a:off x="5513400" y="2766600"/>
            <a:ext cx="620640" cy="452520"/>
          </a:xfrm>
          <a:prstGeom prst="rightArrow">
            <a:avLst>
              <a:gd name="adj1" fmla="val 50000"/>
              <a:gd name="adj2" fmla="val 34288"/>
            </a:avLst>
          </a:prstGeom>
          <a:solidFill>
            <a:srgbClr val="de18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企业运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-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资本流动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981080"/>
            <a:ext cx="990720" cy="1219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应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209680"/>
            <a:ext cx="1295280" cy="76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原材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2209680"/>
            <a:ext cx="1295280" cy="76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制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2209680"/>
            <a:ext cx="1295280" cy="76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1981080"/>
            <a:ext cx="990720" cy="1219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客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3581280"/>
            <a:ext cx="2133360" cy="7621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资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5105520"/>
            <a:ext cx="990720" cy="1218960"/>
          </a:xfrm>
          <a:prstGeom prst="ellipse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股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05240" y="5105520"/>
            <a:ext cx="990720" cy="1218960"/>
          </a:xfrm>
          <a:prstGeom prst="ellipse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债权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4267080"/>
            <a:ext cx="990720" cy="1219320"/>
          </a:xfrm>
          <a:prstGeom prst="ellipse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员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3581280"/>
            <a:ext cx="914400" cy="7621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付帐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581280"/>
            <a:ext cx="914400" cy="7621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收帐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38" idx="6"/>
            <a:endCxn id="139" idx="1"/>
          </p:cNvCxnSpPr>
          <p:nvPr/>
        </p:nvCxnSpPr>
        <p:spPr>
          <a:xfrm>
            <a:off x="1218960" y="2590560"/>
            <a:ext cx="686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40" idx="1"/>
          </p:cNvCxnSpPr>
          <p:nvPr/>
        </p:nvCxnSpPr>
        <p:spPr>
          <a:xfrm>
            <a:off x="3200400" y="2590560"/>
            <a:ext cx="496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0" idx="3"/>
            <a:endCxn id="141" idx="1"/>
          </p:cNvCxnSpPr>
          <p:nvPr/>
        </p:nvCxnSpPr>
        <p:spPr>
          <a:xfrm>
            <a:off x="4991040" y="2590560"/>
            <a:ext cx="496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142" idx="2"/>
          </p:cNvCxnSpPr>
          <p:nvPr/>
        </p:nvCxnSpPr>
        <p:spPr>
          <a:xfrm>
            <a:off x="6781680" y="2590560"/>
            <a:ext cx="9151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3" name=""/>
          <p:cNvCxnSpPr>
            <a:stCxn id="142" idx="4"/>
            <a:endCxn id="148" idx="3"/>
          </p:cNvCxnSpPr>
          <p:nvPr/>
        </p:nvCxnSpPr>
        <p:spPr>
          <a:xfrm rot="5400000">
            <a:off x="7104960" y="2876400"/>
            <a:ext cx="762840" cy="14104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1"/>
            <a:endCxn id="143" idx="3"/>
          </p:cNvCxnSpPr>
          <p:nvPr/>
        </p:nvCxnSpPr>
        <p:spPr>
          <a:xfrm rot="10800000">
            <a:off x="5409360" y="3961800"/>
            <a:ext cx="45792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3" idx="1"/>
            <a:endCxn id="147" idx="3"/>
          </p:cNvCxnSpPr>
          <p:nvPr/>
        </p:nvCxnSpPr>
        <p:spPr>
          <a:xfrm flipH="1">
            <a:off x="2819160" y="396216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7" idx="1"/>
            <a:endCxn id="138" idx="4"/>
          </p:cNvCxnSpPr>
          <p:nvPr/>
        </p:nvCxnSpPr>
        <p:spPr>
          <a:xfrm rot="10800000">
            <a:off x="723240" y="3199680"/>
            <a:ext cx="1181880" cy="7628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1" idx="3"/>
            <a:endCxn id="142" idx="2"/>
          </p:cNvCxnSpPr>
          <p:nvPr/>
        </p:nvCxnSpPr>
        <p:spPr>
          <a:xfrm>
            <a:off x="6781680" y="2590560"/>
            <a:ext cx="915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4" idx="0"/>
            <a:endCxn id="143" idx="2"/>
          </p:cNvCxnSpPr>
          <p:nvPr/>
        </p:nvCxnSpPr>
        <p:spPr>
          <a:xfrm flipH="1" flipV="1" rot="5400000">
            <a:off x="3714480" y="4476240"/>
            <a:ext cx="762840" cy="4960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"/>
          <p:cNvCxnSpPr>
            <a:stCxn id="145" idx="0"/>
            <a:endCxn id="143" idx="2"/>
          </p:cNvCxnSpPr>
          <p:nvPr/>
        </p:nvCxnSpPr>
        <p:spPr>
          <a:xfrm flipV="1" rot="16200000">
            <a:off x="4190400" y="4494960"/>
            <a:ext cx="762840" cy="4579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"/>
          <p:cNvCxnSpPr>
            <a:stCxn id="143" idx="1"/>
            <a:endCxn id="146" idx="6"/>
          </p:cNvCxnSpPr>
          <p:nvPr/>
        </p:nvCxnSpPr>
        <p:spPr>
          <a:xfrm flipV="1" rot="10800000">
            <a:off x="1218600" y="3962160"/>
            <a:ext cx="2057760" cy="915120"/>
          </a:xfrm>
          <a:prstGeom prst="bentConnector3">
            <a:avLst>
              <a:gd name="adj1" fmla="val 925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5181480"/>
            <a:ext cx="990720" cy="1219320"/>
          </a:xfrm>
          <a:prstGeom prst="ellipse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资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供应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43" idx="1"/>
            <a:endCxn id="161" idx="6"/>
          </p:cNvCxnSpPr>
          <p:nvPr/>
        </p:nvCxnSpPr>
        <p:spPr>
          <a:xfrm flipV="1" rot="10800000">
            <a:off x="1218600" y="3962160"/>
            <a:ext cx="2057760" cy="1829520"/>
          </a:xfrm>
          <a:prstGeom prst="bentConnector3">
            <a:avLst>
              <a:gd name="adj1" fmla="val 561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5867280" y="4724280"/>
            <a:ext cx="914400" cy="6098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坏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1447920"/>
            <a:ext cx="4876560" cy="4572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损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514600" y="1905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43400" y="1905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95880" y="1905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48" idx="2"/>
            <a:endCxn id="163" idx="0"/>
          </p:cNvCxnSpPr>
          <p:nvPr/>
        </p:nvCxnSpPr>
        <p:spPr>
          <a:xfrm>
            <a:off x="6324120" y="43434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从资本流动看企业的问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5760" y="175248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企业的目标是资本效率的最大化（股东价值最大化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什么阻碍了资本的增值效率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资本流动的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资本的损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企业的问题就是阻碍资本流动的负面因素或者导致资本损失的因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宋体"/>
              </a:rPr>
              <a:t>资本流动的关键环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15760" y="175248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457200" indent="-45720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关键环节就是企业核心问题所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销售更多的成品给客户（市场竞争力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产出更多的成品（充分挖掘产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宋体"/>
              </a:rPr>
              <a:t>A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宋体"/>
              </a:rPr>
              <a:t>、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宋体"/>
              </a:rPr>
              <a:t>提高资本的流动速度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-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销售更多的成品给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15760" y="175248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提高销售的关键是市场竞争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宋体"/>
              </a:rPr>
              <a:t>决定企业竞争力的因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15760" y="175248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价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产品质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产品性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交货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交货的准时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竞争力要素分析 – 价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价格是竞争的有力手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价格是由市场决定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成本是由企业决定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成本越低企业定价的自由度越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成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材料价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营运费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营运费用是相对固定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材料价格是由市场决定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成品成本最有效的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在现有产能条件下，尽量提高成品产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提高产量的方法：加快物流的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成本越低竞争力越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竞争力要素分析 – 交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交货期越短越容易赢得订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越准时交货客户满意度越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缩短生产周期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快物流的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配套件同步生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准时交货率的方法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生产过程的可控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同步化制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竞争力要素分析 – 产品质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质量问题是综合性的，多方面影响竞争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量损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本的损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能的损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产周期的延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费用上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质量信誉的损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量维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费用的上升（如检验的费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产周期的延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流缩短减慢（检验时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决质量问题的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降低库存，暴露质量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降低库存，减少质量损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调整质量维持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竞争力要素分析 – 产品性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断改进老产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断推出新产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面因素：老零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品的报废（资本的损失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库存越高浪费越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决方法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库存运作企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讲演提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、业务需求分析的重要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二、业务需求分析的基本概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什么是需求分析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确定目标，通过分析阻碍目标实现的负面因素，找出核心问题以及解决核心问题的方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什么是问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什么是核心问题？（木桶之最短板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、业务需求分析方法和过程（寻找最短板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确定业务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寻找阻碍目标实现的负面因素（问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寻找问题的核心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确定解决核心原因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R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系统数据需求分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决策为企业目标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什么是科学的决策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什么数据为什么决策服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结论：竞争力决定因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物流的速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存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宋体"/>
              </a:rPr>
              <a:t>B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宋体"/>
              </a:rPr>
              <a:t>、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宋体"/>
              </a:rPr>
              <a:t>提高资本的流动速度</a:t>
            </a:r>
            <a:br>
              <a:rPr sz="48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生产出更多的成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15760" y="175248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产能利用最大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宋体"/>
              </a:rPr>
              <a:t>产能最大化的根本方法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5760" y="175248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提高制造物流的速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制造物流是以原材料投入生产过程为起点，以成品形式入库为终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结论：决定资本流动的速度的因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5760" y="175248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提高制造物流的速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降低存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宋体"/>
              </a:rPr>
              <a:t>什么因素制约了物流的速度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15760" y="175248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加工能力不足（等待加工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关物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零部件不同步（等待配套件完工后进行装配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它原因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设备故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质量问题（工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料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宋体"/>
              </a:rPr>
              <a:t>什么因素制约了存货的降低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5760" y="175248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物料投入的速度大于流出的速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瓶颈决定了产出的速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物料投入的节奏和瓶颈的节奏不同步导致存货上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配套件之间不同步导致存货上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解决核心问题的根本方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步化生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四、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宋体"/>
              </a:rPr>
              <a:t>ERP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数据需求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什么是管理决策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数据为什么服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决策为什么服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R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系统的目标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决策提供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管理决策需要什么数据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态的同步生产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什么是管理决策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管理决策就是评估将要采取的行动与要实现的目标之间的内在联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决策过程是管理人员寻求问题答案的过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想一想：你的目标是什么？企业的目标又是什么？二者的关系是怎样的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管理决策的依据是什么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15760" y="190512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经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直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数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一、需求分析的重要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15760" y="1828440"/>
            <a:ext cx="7489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明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R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实施的根本目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高层各部门统一分析和解决的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量减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R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系统客户化需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信息是什么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5760" y="190512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管理问题的答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宋体"/>
              </a:rPr>
              <a:t>数据、信息和决策的关系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43480" y="3048120"/>
            <a:ext cx="20574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策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308628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308628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9" idx="6"/>
            <a:endCxn id="208" idx="1"/>
          </p:cNvCxnSpPr>
          <p:nvPr/>
        </p:nvCxnSpPr>
        <p:spPr>
          <a:xfrm>
            <a:off x="2304720" y="3466800"/>
            <a:ext cx="1220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8" idx="3"/>
            <a:endCxn id="210" idx="2"/>
          </p:cNvCxnSpPr>
          <p:nvPr/>
        </p:nvCxnSpPr>
        <p:spPr>
          <a:xfrm>
            <a:off x="5619240" y="3466800"/>
            <a:ext cx="129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2057400" y="441972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只有用于决策才能成为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决策需要的是信息，而不是数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48402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092240" y="1465200"/>
            <a:ext cx="7010280" cy="5087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618640" y="572760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57800" y="4965840"/>
            <a:ext cx="21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01880" y="41274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19760" y="328932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41320" y="16891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从数据到行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信息系统的构成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362320"/>
            <a:ext cx="8305560" cy="1676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876920"/>
            <a:ext cx="19051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面临的管理决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2743200"/>
            <a:ext cx="19051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67160" y="274320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7160" y="4876920"/>
            <a:ext cx="2209680" cy="99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策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4876920"/>
            <a:ext cx="190476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答案：决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743200"/>
            <a:ext cx="190476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工后的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5" idx="6"/>
            <a:endCxn id="226" idx="1"/>
          </p:cNvCxnSpPr>
          <p:nvPr/>
        </p:nvCxnSpPr>
        <p:spPr>
          <a:xfrm>
            <a:off x="2819160" y="3238200"/>
            <a:ext cx="648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4" idx="6"/>
            <a:endCxn id="227" idx="1"/>
          </p:cNvCxnSpPr>
          <p:nvPr/>
        </p:nvCxnSpPr>
        <p:spPr>
          <a:xfrm>
            <a:off x="2590920" y="5371920"/>
            <a:ext cx="838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6" idx="3"/>
            <a:endCxn id="229" idx="2"/>
          </p:cNvCxnSpPr>
          <p:nvPr/>
        </p:nvCxnSpPr>
        <p:spPr>
          <a:xfrm>
            <a:off x="5676480" y="3238200"/>
            <a:ext cx="801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7" idx="3"/>
            <a:endCxn id="228" idx="2"/>
          </p:cNvCxnSpPr>
          <p:nvPr/>
        </p:nvCxnSpPr>
        <p:spPr>
          <a:xfrm>
            <a:off x="5715000" y="5371920"/>
            <a:ext cx="991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9" idx="6"/>
            <a:endCxn id="227" idx="0"/>
          </p:cNvCxnSpPr>
          <p:nvPr/>
        </p:nvCxnSpPr>
        <p:spPr>
          <a:xfrm flipH="1">
            <a:off x="4571280" y="3238200"/>
            <a:ext cx="3810600" cy="1600920"/>
          </a:xfrm>
          <a:prstGeom prst="bentConnector4">
            <a:avLst>
              <a:gd name="adj1" fmla="val -5999"/>
              <a:gd name="adj2" fmla="val 6666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685800" y="2430360"/>
            <a:ext cx="838080" cy="2764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宋体"/>
              </a:rPr>
              <a:t>ERP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  <a:ea typeface="宋体"/>
              </a:rPr>
              <a:t>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企业考核政策对信息化的影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2971800"/>
            <a:ext cx="19051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效产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19440" y="2971800"/>
            <a:ext cx="19051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2971800"/>
            <a:ext cx="19051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营运费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4876920"/>
            <a:ext cx="4572000" cy="330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决策（问题的答案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33640" y="5597640"/>
            <a:ext cx="3276720" cy="3459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管理决策过程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4526600">
            <a:off x="2790000" y="3497760"/>
            <a:ext cx="242640" cy="343080"/>
          </a:xfrm>
          <a:prstGeom prst="rightArrow">
            <a:avLst>
              <a:gd name="adj1" fmla="val 56213"/>
              <a:gd name="adj2" fmla="val 2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4476600" y="3638160"/>
            <a:ext cx="190440" cy="304560"/>
          </a:xfrm>
          <a:prstGeom prst="rightArrow">
            <a:avLst>
              <a:gd name="adj1" fmla="val 56213"/>
              <a:gd name="adj2" fmla="val 2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872600">
            <a:off x="6642000" y="3519360"/>
            <a:ext cx="192240" cy="376200"/>
          </a:xfrm>
          <a:prstGeom prst="rightArrow">
            <a:avLst>
              <a:gd name="adj1" fmla="val 56213"/>
              <a:gd name="adj2" fmla="val 2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4456800" y="5942880"/>
            <a:ext cx="230400" cy="380880"/>
          </a:xfrm>
          <a:prstGeom prst="rightArrow">
            <a:avLst>
              <a:gd name="adj1" fmla="val 56213"/>
              <a:gd name="adj2" fmla="val 2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1905120"/>
            <a:ext cx="19047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净利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9440" y="1905120"/>
            <a:ext cx="19051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投资回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1905120"/>
            <a:ext cx="19051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金流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971800" y="3072960"/>
            <a:ext cx="1440" cy="20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3048120"/>
            <a:ext cx="144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7480" y="3048120"/>
            <a:ext cx="180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743200" y="1955520"/>
            <a:ext cx="144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257800" y="2057400"/>
            <a:ext cx="1440" cy="20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467480" y="2057400"/>
            <a:ext cx="1800" cy="20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209680" y="2387520"/>
            <a:ext cx="180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362320" y="2361960"/>
            <a:ext cx="19810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590920" y="2387520"/>
            <a:ext cx="403848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2361960"/>
            <a:ext cx="14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572000" y="24130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010280" y="2361960"/>
            <a:ext cx="180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105520" y="2361960"/>
            <a:ext cx="17524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666880" y="2387520"/>
            <a:ext cx="381024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48240" y="3470400"/>
            <a:ext cx="838440" cy="203040"/>
          </a:xfrm>
          <a:custGeom>
            <a:avLst/>
            <a:gdLst/>
            <a:ahLst/>
            <a:rect l="l" t="t" r="r" b="b"/>
            <a:pathLst>
              <a:path w="528" h="192">
                <a:moveTo>
                  <a:pt x="0" y="0"/>
                </a:moveTo>
                <a:cubicBezTo>
                  <a:pt x="76" y="96"/>
                  <a:pt x="152" y="192"/>
                  <a:pt x="240" y="192"/>
                </a:cubicBezTo>
                <a:cubicBezTo>
                  <a:pt x="328" y="192"/>
                  <a:pt x="480" y="32"/>
                  <a:pt x="528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19440" y="99072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企业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9582200">
            <a:off x="2840040" y="1607760"/>
            <a:ext cx="685800" cy="220680"/>
          </a:xfrm>
          <a:prstGeom prst="rightArrow">
            <a:avLst>
              <a:gd name="adj1" fmla="val 50000"/>
              <a:gd name="adj2" fmla="val 776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4457520" y="161100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3284000">
            <a:off x="5382720" y="1599480"/>
            <a:ext cx="685800" cy="227160"/>
          </a:xfrm>
          <a:prstGeom prst="rightArrow">
            <a:avLst>
              <a:gd name="adj1" fmla="val 50000"/>
              <a:gd name="adj2" fmla="val 754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5562720"/>
            <a:ext cx="19051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R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0800" y="5689440"/>
            <a:ext cx="380880" cy="203400"/>
          </a:xfrm>
          <a:prstGeom prst="leftArrow">
            <a:avLst>
              <a:gd name="adj1" fmla="val 50000"/>
              <a:gd name="adj2" fmla="val 46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546360"/>
            <a:ext cx="838080" cy="3049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528" y="0"/>
                </a:moveTo>
                <a:cubicBezTo>
                  <a:pt x="428" y="92"/>
                  <a:pt x="328" y="184"/>
                  <a:pt x="240" y="192"/>
                </a:cubicBezTo>
                <a:cubicBezTo>
                  <a:pt x="152" y="200"/>
                  <a:pt x="76" y="124"/>
                  <a:pt x="0" y="4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6299280"/>
            <a:ext cx="4572000" cy="330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面临的管理问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4456800" y="5181840"/>
            <a:ext cx="230040" cy="380880"/>
          </a:xfrm>
          <a:prstGeom prst="rightArrow">
            <a:avLst>
              <a:gd name="adj1" fmla="val 56213"/>
              <a:gd name="adj2" fmla="val 2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5486400"/>
            <a:ext cx="6934320" cy="609480"/>
          </a:xfrm>
          <a:prstGeom prst="rect">
            <a:avLst/>
          </a:prstGeom>
          <a:noFill/>
          <a:ln w="572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4800600"/>
            <a:ext cx="1371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信息系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4114800"/>
            <a:ext cx="4572000" cy="33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局部目标（考核指标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4476600" y="4552560"/>
            <a:ext cx="190440" cy="304560"/>
          </a:xfrm>
          <a:prstGeom prst="rightArrow">
            <a:avLst>
              <a:gd name="adj1" fmla="val 56213"/>
              <a:gd name="adj2" fmla="val 2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080" y="5143680"/>
            <a:ext cx="987480" cy="1202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考核政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5715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noFill/>
          <a:ln w="12600">
            <a:solidFill>
              <a:srgbClr val="100f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宋体"/>
              </a:rPr>
              <a:t>ERP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宋体"/>
              </a:rPr>
              <a:t>系统的作用</a:t>
            </a:r>
            <a:br>
              <a:rPr sz="48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如何定位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宋体"/>
              </a:rPr>
              <a:t>ERP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系统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15760" y="190512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事务处理（数据处理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业务流程自动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辅助管理决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升企业的绩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高层获取信息的旁路系统（控制方式的改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监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如何分析业务对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宋体"/>
              </a:rPr>
              <a:t>ERP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系统的需求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明确定位（事务处理，还是辅助决策？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做哪些管理决策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做这些管理决策需要什么数据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R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系统能提供这些数据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态的同步生产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二、业务需求分析的基本概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什么是业务需求分析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确定业务目标，通过分析阻碍目标实现的负面因素，找出核心问题以及解决核心问题的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二、业务需求分析的基本概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什么是业务问题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达到目标而需满足的前提条件所构成的冲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问题的定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200400"/>
            <a:ext cx="1371600" cy="9907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目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514600"/>
            <a:ext cx="1523880" cy="6858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必备条件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4038480"/>
            <a:ext cx="1524240" cy="6858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必备条件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4038480"/>
            <a:ext cx="1524240" cy="6858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前提条件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2514600"/>
            <a:ext cx="1524240" cy="6858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前提条件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5" idx="1"/>
            <a:endCxn id="104" idx="7"/>
          </p:cNvCxnSpPr>
          <p:nvPr/>
        </p:nvCxnSpPr>
        <p:spPr>
          <a:xfrm flipH="1">
            <a:off x="2084400" y="2857320"/>
            <a:ext cx="1192680" cy="48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6" idx="1"/>
            <a:endCxn id="104" idx="5"/>
          </p:cNvCxnSpPr>
          <p:nvPr/>
        </p:nvCxnSpPr>
        <p:spPr>
          <a:xfrm flipH="1" flipV="1">
            <a:off x="2083680" y="4045680"/>
            <a:ext cx="126900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1"/>
            <a:endCxn id="105" idx="3"/>
          </p:cNvCxnSpPr>
          <p:nvPr/>
        </p:nvCxnSpPr>
        <p:spPr>
          <a:xfrm flipH="1">
            <a:off x="4800240" y="285732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7" idx="1"/>
            <a:endCxn id="106" idx="3"/>
          </p:cNvCxnSpPr>
          <p:nvPr/>
        </p:nvCxnSpPr>
        <p:spPr>
          <a:xfrm flipH="1">
            <a:off x="4876560" y="438120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V="1" rot="10800000">
            <a:off x="6400080" y="3200040"/>
            <a:ext cx="1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6477120" y="3505320"/>
            <a:ext cx="8380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Times New Roman"/>
                <a:ea typeface="宋体"/>
              </a:rPr>
              <a:t>冲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假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4952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假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二、业务需求分析的基本概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什么是核心问题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生所有企业中不良现象的核心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100f7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木桶理论中之最短的木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100f76"/>
                </a:solidFill>
                <a:uFillTx/>
                <a:latin typeface="Times New Roman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三、业务需求分析方法和过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企业业务的根本目标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何分解目标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什么负面因素阻碍目标的实现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造成这些负面因素的核心原因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00f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消除核心原因（问题）的方法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0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企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-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资本增值的工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774880"/>
            <a:ext cx="1600200" cy="1282680"/>
          </a:xfrm>
          <a:prstGeom prst="rightArrow">
            <a:avLst>
              <a:gd name="adj1" fmla="val 50000"/>
              <a:gd name="adj2" fmla="val 31189"/>
            </a:avLst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资本投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2622600"/>
            <a:ext cx="2133720" cy="1676520"/>
          </a:xfrm>
          <a:prstGeom prst="rightArrow">
            <a:avLst>
              <a:gd name="adj1" fmla="val 50000"/>
              <a:gd name="adj2" fmla="val 31818"/>
            </a:avLst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资本产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2819520" cy="193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49:27Z</dcterms:created>
  <dc:creator/>
  <dc:description/>
  <cp:keywords>幻灯片之家 http:/www.eeppt.com</cp:keywords>
  <dc:language>en-US</dc:language>
  <cp:lastModifiedBy/>
  <dcterms:modified xsi:type="dcterms:W3CDTF">2015-07-09T13:49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