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B251-3949-4E0A-A33A-A7D51378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9572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01C-DD60-41DB-9368-AC34A1D7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9572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9572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B053-C295-4CE6-8102-BC5C92E8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77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77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9572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9572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9572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F53-EBA1-4E93-8DBF-7C3933C2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10E3-A9D7-45B1-B0DF-4DDE2BE6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77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3859-16AD-4DA6-89A1-F15225F1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F0E9-43A7-4CAA-B85C-DDDA15C7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40FB-2A73-457E-8E60-57829EE9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8DB8-5470-4206-B37C-99F4A2EE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4E73-C518-40B5-9B16-6A54252F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9572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63AF-BBE7-430D-9FE7-2B1E638B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77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A7D-0459-4AE6-917E-77F299AC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9572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E88B-942D-4B51-B74C-BE312AAB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9572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27A7-9449-48DC-A819-6A57B2E3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9572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262E-6F7F-4D35-8F62-89EF4EE3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9572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9572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572D-7AED-450E-95CE-962C745D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77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77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9572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9572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9572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74164-5B60-4ECA-B902-FAC6F1D0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073-F357-4284-BDEC-6D847031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48B-CDC2-43AF-9627-1F2E40EC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9F8-37E3-44A5-8304-DC1B898F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1AE-757A-4115-AF4B-D50369BA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9572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6C1-D603-4AF3-AAE6-3A891E50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9572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F73-7488-4EAF-80EE-E79F005E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77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9572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DA5-2D5E-4537-9BB4-472C976B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9140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Bold ITC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Bold ITC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Bold ITC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4DAA-E821-48C1-8168-8340C3653B3D}" type="slidenum">
              <a:rPr b="0" lang="en-US" sz="1000" spc="-1" strike="noStrike">
                <a:solidFill>
                  <a:srgbClr val="000000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94B0-A34F-44D7-AC87-BF54EFD748B3}" type="slidenum"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300000"/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300000"/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chuangyi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Impact"/>
                <a:ea typeface="宋体"/>
              </a:rPr>
              <a:t>非常抽象的</a:t>
            </a:r>
            <a:r>
              <a:rPr b="1" lang="zh-CN" sz="4400" spc="-1" strike="noStrike">
                <a:solidFill>
                  <a:srgbClr val="000000"/>
                </a:solidFill>
                <a:latin typeface="Impact"/>
                <a:ea typeface="宋体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Impact"/>
                <a:ea typeface="宋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274284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 Black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 Black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宋体"/>
              </a:rPr>
              <a:t>Your subtopic goes her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9140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宋体"/>
              </a:rPr>
              <a:t>Your subtopic goes her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920880" y="1693800"/>
            <a:ext cx="6819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创意设计ppt模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867280" y="1295280"/>
            <a:ext cx="1447920" cy="10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666880" y="1295280"/>
            <a:ext cx="1447920" cy="10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4267080" y="1295280"/>
            <a:ext cx="1447920" cy="10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7:18:13Z</dcterms:created>
  <dc:creator/>
  <dc:description/>
  <cp:keywords>幻灯片之家 http:/www.eeppt.com</cp:keywords>
  <dc:language>en-US</dc:language>
  <cp:lastModifiedBy/>
  <dcterms:modified xsi:type="dcterms:W3CDTF">2015-07-05T07:32:18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