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126-6CE1-4FDF-B60F-E57B24A8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F302-113C-470B-AA1F-89F36364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EAA-14BB-4223-AEB1-C6896014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60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672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260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884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EA2-4494-4B86-A0C4-2478D358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88D8-F414-4217-AEA8-883DF4E5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F8A-CF5B-46BF-BBD9-3141E5D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A9B4-C2CC-45DC-AD0A-4933EB0A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B615-C900-45D8-86E9-44C9278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3CB3-5630-41A6-8976-9A95D1A2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6720" y="274320"/>
            <a:ext cx="685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FBE4-1579-471F-94CE-CB6662B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A393-4549-4DA1-94F3-B380093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2BC-C7B2-473E-88A7-4E8467AC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BF50-FEF4-4F21-AF07-AB619D9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7F13-27D2-4750-A4E6-B6DA281B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A21-9BFA-43C5-A769-E199F8D7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968B-4CAD-44C5-BA13-8BA6B42E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260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672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5260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884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2B7A-019A-4600-ADC7-160B7444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9E6-1AC8-47B3-B674-FE215144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867E-D8CF-4684-8F72-16C395EF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D0F-E9F4-4AE3-BAD8-8AC05B2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6720" y="274320"/>
            <a:ext cx="685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239-682E-43FA-963C-6527F56D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3F5-C0AF-49DE-B960-B6FC2D1B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307-3231-4697-931C-F6769BE2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428-54D0-40BA-857C-73CBBD29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9B2-A1CB-44C8-9E96-E88D7CB2F6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017A-074E-43C1-8C78-7A9E5E324A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83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47840"/>
            <a:ext cx="5470560" cy="1470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父亲节感恩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31920" y="3744720"/>
            <a:ext cx="506880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2015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父亲节感恩模板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638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爱如山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长期以来，我们总是习惯强调母爱的力量，强调母爱最崇高，但事实上，父爱的力量同样伟大。就像一只鸟两只翅膀、一个人两条腿一样，母爱和父爱是缺一不可，无法替代的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父爱同母爱一样的无私，他不求回报；父爱是一种默默无闻，寓于无形之中的一种感情，只有用心的人才能体会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小的时候，父亲的一句严厉吆喝，我们就会觉得委屈不堪，跑到母亲面前哭泣，却没发现满满的父爱原来就蕴藏在深沉的吆喝声中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我们不懂，从来就不懂父爱的伟大，以为每一位父亲都是一个冷冰的个体。但爱，需要我们体味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32000" y="594360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F8CC-054D-4657-9F00-998D0D01D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5760"/>
            <a:ext cx="8002440" cy="99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亲，节日快乐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我最亲爱的父亲，今年没为你准备特别的礼物，我只想真诚的跟你说一句：“爸，节日快乐。你的爱，从未走远，我理解了。在以后的每一个平凡相依的日子里，伴随左右，分享你的快乐与忧愁。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100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祝父亲们节日快乐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06:33:43Z</dcterms:created>
  <dc:creator/>
  <dc:description/>
  <cp:keywords>幻灯片之家 http:/www.eeppt.com</cp:keywords>
  <dc:language>en-US</dc:language>
  <cp:lastModifiedBy/>
  <dcterms:modified xsi:type="dcterms:W3CDTF">2015-07-12T09:50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