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5.png" ContentType="image/png"/>
  <Override PartName="/ppt/media/image12.gif" ContentType="image/gif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6E0-6719-4EAF-A509-B0BB237A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D7F-3A1B-44C7-9F6B-E1B4F870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126-51E9-4872-A28E-70C7328B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48F-0999-4807-8FEE-02822DAB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CB3-95A4-406B-A2BC-A0C4741D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CBA9-E9EC-4996-A03F-89DBB810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AA30-72F1-4831-93DA-268F6AEC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17C9-C4FE-4362-8099-ABB833E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9A96-1521-4014-9D55-2FF934DE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7F6B-8F6E-4AB5-BE51-5FC8B08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B6B2-1366-457E-A5C2-4A74D3C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106-85AE-4B3E-ACED-0E845C90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3FB9-029F-486F-A23A-39DF3DD0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1678-2984-4EFE-8FCA-43E0647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D24C-F5C5-46B3-A66B-13782C3C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EF7B-8B6F-476D-9EA4-1DCB19DE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ED51-339A-4D85-81FF-D8211D58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09EB-D916-4C9E-B4AB-B66A268D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B033-A725-499B-B47B-F09B07F7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1C99-4A6D-4363-8120-1C4C794F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16DF-6090-46FC-BE7E-D3A738EA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8738-58E5-4C8F-8598-95286148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5E0-ECBB-4085-9294-ADA20F1E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BED1-7F45-45A6-AB09-16FDAE81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0791-DA72-453A-A05C-717B7F9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0CB6-75E6-49ED-B966-0A6A82A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73FD-5016-458E-ADB5-849CEF2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4E46-2F15-4556-802F-27F44569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FC18-4F8E-45C4-85F1-46096E42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ADA9-4BCF-4C17-B14B-37518E69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6785-4403-45F1-9073-DD722BAA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68A0-CBDC-4A78-B444-AD6B3F7C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6E45-252B-47DC-8900-43338BF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324-19C4-4181-B1EB-B0A7FB79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6BC1-56DB-4F9B-84FC-9F69527A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6D2F-02A8-4F00-8D72-1CE6A4C7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707AC-A4DD-4C45-8A09-E952EDD9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49C5-8210-4719-A234-0BF0481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F4CAA-25F4-47AE-A2D0-61F4432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902B-66EB-4E57-87FA-16E509E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82095-345F-4176-90C6-9D96B4F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8A1D-7E58-41AB-800E-6CCAEFF3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F63D5-E99D-4934-A280-470C3352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DFB-C2DA-4881-A7D1-89B45027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7BA-5217-4066-A32E-E14D9470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39A-A0BB-4C9D-9175-D02962C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B3C-40C9-4C9E-9A9D-1C09E98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253-837D-463D-9081-4036A45B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2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4.png"/><Relationship Id="rId21" Type="http://schemas.openxmlformats.org/officeDocument/2006/relationships/image" Target="../media/image7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1.xml"/><Relationship Id="rId26" Type="http://schemas.openxmlformats.org/officeDocument/2006/relationships/slideLayout" Target="../slideLayouts/slideLayout2.xml"/><Relationship Id="rId27" Type="http://schemas.openxmlformats.org/officeDocument/2006/relationships/slideLayout" Target="../slideLayouts/slideLayout3.xml"/><Relationship Id="rId28" Type="http://schemas.openxmlformats.org/officeDocument/2006/relationships/slideLayout" Target="../slideLayouts/slideLayout4.xml"/><Relationship Id="rId29" Type="http://schemas.openxmlformats.org/officeDocument/2006/relationships/slideLayout" Target="../slideLayouts/slideLayout5.xml"/><Relationship Id="rId30" Type="http://schemas.openxmlformats.org/officeDocument/2006/relationships/slideLayout" Target="../slideLayouts/slideLayout6.xml"/><Relationship Id="rId31" Type="http://schemas.openxmlformats.org/officeDocument/2006/relationships/slideLayout" Target="../slideLayouts/slideLayout7.xml"/><Relationship Id="rId32" Type="http://schemas.openxmlformats.org/officeDocument/2006/relationships/slideLayout" Target="../slideLayouts/slideLayout8.xml"/><Relationship Id="rId33" Type="http://schemas.openxmlformats.org/officeDocument/2006/relationships/slideLayout" Target="../slideLayouts/slideLayout9.xml"/><Relationship Id="rId34" Type="http://schemas.openxmlformats.org/officeDocument/2006/relationships/slideLayout" Target="../slideLayouts/slideLayout10.xml"/><Relationship Id="rId35" Type="http://schemas.openxmlformats.org/officeDocument/2006/relationships/slideLayout" Target="../slideLayouts/slideLayout11.xml"/><Relationship Id="rId3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2669040" y="3244680"/>
            <a:ext cx="38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8" descr="4d95d693377e027f7af48072"/>
          <p:cNvPicPr/>
          <p:nvPr/>
        </p:nvPicPr>
        <p:blipFill>
          <a:blip r:embed="rId3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B080-3F3E-4E5D-B12C-84715EC9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7"/>
          <p:cNvSpPr/>
          <p:nvPr/>
        </p:nvSpPr>
        <p:spPr>
          <a:xfrm>
            <a:off x="1197000" y="4078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68"/>
          <p:cNvSpPr/>
          <p:nvPr/>
        </p:nvSpPr>
        <p:spPr>
          <a:xfrm flipV="1">
            <a:off x="838080" y="407808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69" descr="竹杆"/>
          <p:cNvPicPr/>
          <p:nvPr/>
        </p:nvPicPr>
        <p:blipFill>
          <a:blip r:embed="rId4"/>
          <a:stretch/>
        </p:blipFill>
        <p:spPr>
          <a:xfrm rot="1086600">
            <a:off x="262080" y="5273640"/>
            <a:ext cx="352440" cy="16574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70" descr="zy-1"/>
          <p:cNvPicPr/>
          <p:nvPr/>
        </p:nvPicPr>
        <p:blipFill>
          <a:blip r:embed="rId5"/>
          <a:stretch/>
        </p:blipFill>
        <p:spPr>
          <a:xfrm rot="16531200">
            <a:off x="85320" y="4866840"/>
            <a:ext cx="295560" cy="5904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71" descr="zy-2"/>
          <p:cNvPicPr/>
          <p:nvPr/>
        </p:nvPicPr>
        <p:blipFill>
          <a:blip r:embed="rId6"/>
          <a:stretch/>
        </p:blipFill>
        <p:spPr>
          <a:xfrm rot="4014000">
            <a:off x="1397160" y="3663000"/>
            <a:ext cx="160560" cy="847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72" descr="zy-4"/>
          <p:cNvPicPr/>
          <p:nvPr/>
        </p:nvPicPr>
        <p:blipFill>
          <a:blip r:embed="rId7"/>
          <a:stretch/>
        </p:blipFill>
        <p:spPr>
          <a:xfrm rot="5685000">
            <a:off x="1788480" y="5430600"/>
            <a:ext cx="331560" cy="6490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73" descr="zy-5"/>
          <p:cNvPicPr/>
          <p:nvPr/>
        </p:nvPicPr>
        <p:blipFill>
          <a:blip r:embed="rId8"/>
          <a:stretch/>
        </p:blipFill>
        <p:spPr>
          <a:xfrm flipH="1" rot="13063800">
            <a:off x="2278080" y="4148640"/>
            <a:ext cx="406440" cy="3862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74" descr="zy-6"/>
          <p:cNvPicPr/>
          <p:nvPr/>
        </p:nvPicPr>
        <p:blipFill>
          <a:blip r:embed="rId9"/>
          <a:stretch/>
        </p:blipFill>
        <p:spPr>
          <a:xfrm rot="1458600">
            <a:off x="549000" y="5157360"/>
            <a:ext cx="780840" cy="36216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75" descr="zy-7"/>
          <p:cNvPicPr/>
          <p:nvPr/>
        </p:nvPicPr>
        <p:blipFill>
          <a:blip r:embed="rId10"/>
          <a:stretch/>
        </p:blipFill>
        <p:spPr>
          <a:xfrm>
            <a:off x="693720" y="5086440"/>
            <a:ext cx="504720" cy="1332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76" descr="zy-31"/>
          <p:cNvPicPr/>
          <p:nvPr/>
        </p:nvPicPr>
        <p:blipFill>
          <a:blip r:embed="rId11"/>
          <a:stretch/>
        </p:blipFill>
        <p:spPr>
          <a:xfrm rot="19454400">
            <a:off x="2278080" y="5446800"/>
            <a:ext cx="504720" cy="25704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77" descr="竹叶"/>
          <p:cNvPicPr/>
          <p:nvPr/>
        </p:nvPicPr>
        <p:blipFill>
          <a:blip r:embed="rId12"/>
          <a:stretch/>
        </p:blipFill>
        <p:spPr>
          <a:xfrm>
            <a:off x="1270080" y="3573360"/>
            <a:ext cx="571320" cy="400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78" descr="竹杆"/>
          <p:cNvPicPr/>
          <p:nvPr/>
        </p:nvPicPr>
        <p:blipFill>
          <a:blip r:embed="rId13"/>
          <a:stretch/>
        </p:blipFill>
        <p:spPr>
          <a:xfrm rot="1086600">
            <a:off x="549360" y="4006440"/>
            <a:ext cx="276120" cy="129708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79" descr="zg8"/>
          <p:cNvPicPr/>
          <p:nvPr/>
        </p:nvPicPr>
        <p:blipFill>
          <a:blip r:embed="rId14"/>
          <a:stretch/>
        </p:blipFill>
        <p:spPr>
          <a:xfrm rot="2103600">
            <a:off x="1053720" y="5662440"/>
            <a:ext cx="227160" cy="126864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80" descr="zg8"/>
          <p:cNvPicPr/>
          <p:nvPr/>
        </p:nvPicPr>
        <p:blipFill>
          <a:blip r:embed="rId15"/>
          <a:stretch/>
        </p:blipFill>
        <p:spPr>
          <a:xfrm rot="1669200">
            <a:off x="1618920" y="4408560"/>
            <a:ext cx="237960" cy="132552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81" descr="竹叶"/>
          <p:cNvPicPr/>
          <p:nvPr/>
        </p:nvPicPr>
        <p:blipFill>
          <a:blip r:embed="rId16"/>
          <a:stretch/>
        </p:blipFill>
        <p:spPr>
          <a:xfrm rot="21444000">
            <a:off x="838080" y="429408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82" descr="zy-31"/>
          <p:cNvPicPr/>
          <p:nvPr/>
        </p:nvPicPr>
        <p:blipFill>
          <a:blip r:embed="rId17"/>
          <a:stretch/>
        </p:blipFill>
        <p:spPr>
          <a:xfrm>
            <a:off x="909720" y="4613400"/>
            <a:ext cx="504720" cy="25704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83" descr="zy-31"/>
          <p:cNvPicPr/>
          <p:nvPr/>
        </p:nvPicPr>
        <p:blipFill>
          <a:blip r:embed="rId18"/>
          <a:stretch/>
        </p:blipFill>
        <p:spPr>
          <a:xfrm>
            <a:off x="1341360" y="4006800"/>
            <a:ext cx="505080" cy="25740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84" descr="竹叶"/>
          <p:cNvPicPr/>
          <p:nvPr/>
        </p:nvPicPr>
        <p:blipFill>
          <a:blip r:embed="rId19"/>
          <a:stretch/>
        </p:blipFill>
        <p:spPr>
          <a:xfrm rot="775800">
            <a:off x="1846080" y="523080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23" name="Picture 85" descr="zy-2"/>
          <p:cNvPicPr/>
          <p:nvPr/>
        </p:nvPicPr>
        <p:blipFill>
          <a:blip r:embed="rId20"/>
          <a:stretch/>
        </p:blipFill>
        <p:spPr>
          <a:xfrm rot="5923800">
            <a:off x="1458360" y="4824360"/>
            <a:ext cx="154080" cy="820800"/>
          </a:xfrm>
          <a:prstGeom prst="rect">
            <a:avLst/>
          </a:prstGeom>
          <a:ln w="0">
            <a:noFill/>
          </a:ln>
        </p:spPr>
      </p:pic>
      <p:pic>
        <p:nvPicPr>
          <p:cNvPr id="24" name="Picture 86" descr="zy-6"/>
          <p:cNvPicPr/>
          <p:nvPr/>
        </p:nvPicPr>
        <p:blipFill>
          <a:blip r:embed="rId21"/>
          <a:stretch/>
        </p:blipFill>
        <p:spPr>
          <a:xfrm rot="201000">
            <a:off x="2061720" y="5662080"/>
            <a:ext cx="781200" cy="362160"/>
          </a:xfrm>
          <a:prstGeom prst="rect">
            <a:avLst/>
          </a:prstGeom>
          <a:ln w="0">
            <a:noFill/>
          </a:ln>
        </p:spPr>
      </p:pic>
      <p:pic>
        <p:nvPicPr>
          <p:cNvPr id="25" name="Picture 87" descr="竹叶"/>
          <p:cNvPicPr/>
          <p:nvPr/>
        </p:nvPicPr>
        <p:blipFill>
          <a:blip r:embed="rId22"/>
          <a:stretch/>
        </p:blipFill>
        <p:spPr>
          <a:xfrm rot="3702000">
            <a:off x="2109240" y="43066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26" name="Picture 88" descr="zy-4"/>
          <p:cNvPicPr/>
          <p:nvPr/>
        </p:nvPicPr>
        <p:blipFill>
          <a:blip r:embed="rId23"/>
          <a:stretch/>
        </p:blipFill>
        <p:spPr>
          <a:xfrm rot="13446000">
            <a:off x="909360" y="5085720"/>
            <a:ext cx="220680" cy="431640"/>
          </a:xfrm>
          <a:prstGeom prst="rect">
            <a:avLst/>
          </a:prstGeom>
          <a:ln w="0">
            <a:noFill/>
          </a:ln>
        </p:spPr>
      </p:pic>
      <p:pic>
        <p:nvPicPr>
          <p:cNvPr id="27" name="Picture 89" descr="zy-4"/>
          <p:cNvPicPr/>
          <p:nvPr/>
        </p:nvPicPr>
        <p:blipFill>
          <a:blip r:embed="rId24"/>
          <a:stretch/>
        </p:blipFill>
        <p:spPr>
          <a:xfrm rot="3600600">
            <a:off x="2130480" y="3865320"/>
            <a:ext cx="295200" cy="578160"/>
          </a:xfrm>
          <a:prstGeom prst="rect">
            <a:avLst/>
          </a:prstGeom>
          <a:ln w="0">
            <a:noFill/>
          </a:ln>
        </p:spPr>
      </p:pic>
      <p:sp>
        <p:nvSpPr>
          <p:cNvPr id="28" name="Line 90"/>
          <p:cNvSpPr/>
          <p:nvPr/>
        </p:nvSpPr>
        <p:spPr>
          <a:xfrm flipV="1">
            <a:off x="622440" y="4726080"/>
            <a:ext cx="21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91"/>
          <p:cNvSpPr/>
          <p:nvPr/>
        </p:nvSpPr>
        <p:spPr>
          <a:xfrm flipV="1">
            <a:off x="981000" y="41493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Line 92"/>
          <p:cNvSpPr/>
          <p:nvPr/>
        </p:nvSpPr>
        <p:spPr>
          <a:xfrm flipV="1">
            <a:off x="1125360" y="3933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Line 93"/>
          <p:cNvSpPr/>
          <p:nvPr/>
        </p:nvSpPr>
        <p:spPr>
          <a:xfrm flipV="1">
            <a:off x="1486080" y="54468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Line 94"/>
          <p:cNvSpPr/>
          <p:nvPr/>
        </p:nvSpPr>
        <p:spPr>
          <a:xfrm>
            <a:off x="1630440" y="5589720"/>
            <a:ext cx="647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Line 95"/>
          <p:cNvSpPr/>
          <p:nvPr/>
        </p:nvSpPr>
        <p:spPr>
          <a:xfrm flipV="1">
            <a:off x="1989000" y="422280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Line 96"/>
          <p:cNvSpPr/>
          <p:nvPr/>
        </p:nvSpPr>
        <p:spPr>
          <a:xfrm flipV="1">
            <a:off x="1989000" y="429408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5"/>
    <p:sldLayoutId id="2147483650" r:id="rId26"/>
    <p:sldLayoutId id="2147483651" r:id="rId27"/>
    <p:sldLayoutId id="2147483652" r:id="rId28"/>
    <p:sldLayoutId id="2147483653" r:id="rId29"/>
    <p:sldLayoutId id="2147483654" r:id="rId30"/>
    <p:sldLayoutId id="2147483655" r:id="rId31"/>
    <p:sldLayoutId id="2147483656" r:id="rId32"/>
    <p:sldLayoutId id="2147483657" r:id="rId33"/>
    <p:sldLayoutId id="2147483658" r:id="rId34"/>
    <p:sldLayoutId id="2147483659" r:id="rId35"/>
    <p:sldLayoutId id="2147483660" r:id="rId3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FE1B-4156-4CBF-A99D-1F642632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BE6F-C5DF-4AC0-93E9-53A981F9B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200712419435657_2"/>
          <p:cNvPicPr/>
          <p:nvPr/>
        </p:nvPicPr>
        <p:blipFill>
          <a:blip r:embed="rId3"/>
          <a:stretch/>
        </p:blipFill>
        <p:spPr>
          <a:xfrm flipH="1">
            <a:off x="9467640" y="2205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未标题-1321副本"/>
          <p:cNvPicPr/>
          <p:nvPr/>
        </p:nvPicPr>
        <p:blipFill>
          <a:blip r:embed="rId4"/>
          <a:stretch/>
        </p:blipFill>
        <p:spPr>
          <a:xfrm rot="19677600">
            <a:off x="9612000" y="3284280"/>
            <a:ext cx="647640" cy="577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未标题3-1"/>
          <p:cNvPicPr/>
          <p:nvPr/>
        </p:nvPicPr>
        <p:blipFill>
          <a:blip r:embed="rId5"/>
          <a:stretch/>
        </p:blipFill>
        <p:spPr>
          <a:xfrm>
            <a:off x="-673272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未标题-1321副本"/>
          <p:cNvPicPr/>
          <p:nvPr/>
        </p:nvPicPr>
        <p:blipFill>
          <a:blip r:embed="rId6"/>
          <a:stretch/>
        </p:blipFill>
        <p:spPr>
          <a:xfrm rot="19677600">
            <a:off x="-324000" y="1268280"/>
            <a:ext cx="648000" cy="57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4993-D1CD-4AF8-83EF-169CABFE1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未标题3-1"/>
          <p:cNvPicPr/>
          <p:nvPr/>
        </p:nvPicPr>
        <p:blipFill>
          <a:blip r:embed="rId3"/>
          <a:stretch/>
        </p:blipFill>
        <p:spPr>
          <a:xfrm>
            <a:off x="39528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hd-1"/>
          <p:cNvPicPr/>
          <p:nvPr/>
        </p:nvPicPr>
        <p:blipFill>
          <a:blip r:embed="rId4"/>
          <a:stretch/>
        </p:blipFill>
        <p:spPr>
          <a:xfrm>
            <a:off x="971640" y="1700280"/>
            <a:ext cx="71280" cy="92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mhd-2"/>
          <p:cNvPicPr/>
          <p:nvPr/>
        </p:nvPicPr>
        <p:blipFill>
          <a:blip r:embed="rId5"/>
          <a:stretch/>
        </p:blipFill>
        <p:spPr>
          <a:xfrm>
            <a:off x="6443640" y="1557360"/>
            <a:ext cx="57240" cy="38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mhg-1"/>
          <p:cNvPicPr/>
          <p:nvPr/>
        </p:nvPicPr>
        <p:blipFill>
          <a:blip r:embed="rId6"/>
          <a:stretch/>
        </p:blipFill>
        <p:spPr>
          <a:xfrm>
            <a:off x="1763640" y="170028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mhg-5"/>
          <p:cNvPicPr/>
          <p:nvPr/>
        </p:nvPicPr>
        <p:blipFill>
          <a:blip r:embed="rId7"/>
          <a:stretch/>
        </p:blipFill>
        <p:spPr>
          <a:xfrm>
            <a:off x="2700360" y="1773360"/>
            <a:ext cx="144360" cy="9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mhb-3"/>
          <p:cNvPicPr/>
          <p:nvPr/>
        </p:nvPicPr>
        <p:blipFill>
          <a:blip r:embed="rId8"/>
          <a:stretch/>
        </p:blipFill>
        <p:spPr>
          <a:xfrm rot="20659800">
            <a:off x="1042560" y="1591920"/>
            <a:ext cx="149400" cy="10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mhb-4"/>
          <p:cNvPicPr/>
          <p:nvPr/>
        </p:nvPicPr>
        <p:blipFill>
          <a:blip r:embed="rId9"/>
          <a:stretch/>
        </p:blipFill>
        <p:spPr>
          <a:xfrm>
            <a:off x="1042920" y="1484280"/>
            <a:ext cx="142920" cy="103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mhb-2"/>
          <p:cNvPicPr/>
          <p:nvPr/>
        </p:nvPicPr>
        <p:blipFill>
          <a:blip r:embed="rId10"/>
          <a:stretch/>
        </p:blipFill>
        <p:spPr>
          <a:xfrm>
            <a:off x="826920" y="1484280"/>
            <a:ext cx="190800" cy="209520"/>
          </a:xfrm>
          <a:prstGeom prst="rect">
            <a:avLst/>
          </a:prstGeom>
          <a:ln w="0">
            <a:noFill/>
          </a:ln>
        </p:spPr>
      </p:pic>
      <p:sp>
        <p:nvSpPr>
          <p:cNvPr id="166" name="Line 15"/>
          <p:cNvSpPr/>
          <p:nvPr/>
        </p:nvSpPr>
        <p:spPr>
          <a:xfrm>
            <a:off x="971640" y="162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1042920" y="155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971640" y="15588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mhb-6"/>
          <p:cNvPicPr/>
          <p:nvPr/>
        </p:nvPicPr>
        <p:blipFill>
          <a:blip r:embed="rId11"/>
          <a:stretch/>
        </p:blipFill>
        <p:spPr>
          <a:xfrm>
            <a:off x="1692360" y="1628640"/>
            <a:ext cx="142920" cy="152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mhb-7"/>
          <p:cNvPicPr/>
          <p:nvPr/>
        </p:nvPicPr>
        <p:blipFill>
          <a:blip r:embed="rId12"/>
          <a:stretch/>
        </p:blipFill>
        <p:spPr>
          <a:xfrm>
            <a:off x="2801880" y="1628640"/>
            <a:ext cx="1144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mhb-3"/>
          <p:cNvPicPr/>
          <p:nvPr/>
        </p:nvPicPr>
        <p:blipFill>
          <a:blip r:embed="rId13"/>
          <a:stretch/>
        </p:blipFill>
        <p:spPr>
          <a:xfrm rot="15319200">
            <a:off x="4035240" y="1811160"/>
            <a:ext cx="120960" cy="88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mhb-4"/>
          <p:cNvPicPr/>
          <p:nvPr/>
        </p:nvPicPr>
        <p:blipFill>
          <a:blip r:embed="rId14"/>
          <a:stretch/>
        </p:blipFill>
        <p:spPr>
          <a:xfrm rot="17632800">
            <a:off x="3983760" y="1832400"/>
            <a:ext cx="96840" cy="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27.png"/><Relationship Id="rId8" Type="http://schemas.openxmlformats.org/officeDocument/2006/relationships/image" Target="../media/image1.jpe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7.png"/><Relationship Id="rId13" Type="http://schemas.openxmlformats.org/officeDocument/2006/relationships/image" Target="../media/image37.png"/><Relationship Id="rId14" Type="http://schemas.openxmlformats.org/officeDocument/2006/relationships/image" Target="../media/image37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8.png"/><Relationship Id="rId18" Type="http://schemas.openxmlformats.org/officeDocument/2006/relationships/image" Target="../media/image38.png"/><Relationship Id="rId19" Type="http://schemas.openxmlformats.org/officeDocument/2006/relationships/image" Target="../media/image38.png"/><Relationship Id="rId20" Type="http://schemas.openxmlformats.org/officeDocument/2006/relationships/image" Target="../media/image38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39.png"/><Relationship Id="rId24" Type="http://schemas.openxmlformats.org/officeDocument/2006/relationships/image" Target="../media/image39.png"/><Relationship Id="rId25" Type="http://schemas.openxmlformats.org/officeDocument/2006/relationships/image" Target="../media/image39.png"/><Relationship Id="rId26" Type="http://schemas.openxmlformats.org/officeDocument/2006/relationships/image" Target="../media/image39.png"/><Relationship Id="rId27" Type="http://schemas.openxmlformats.org/officeDocument/2006/relationships/image" Target="../media/image39.png"/><Relationship Id="rId2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47"/>
          <p:cNvSpPr/>
          <p:nvPr/>
        </p:nvSpPr>
        <p:spPr>
          <a:xfrm>
            <a:off x="4284720" y="414972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2" descr="200712419435657_2"/>
          <p:cNvPicPr/>
          <p:nvPr/>
        </p:nvPicPr>
        <p:blipFill>
          <a:blip r:embed="rId1"/>
          <a:stretch/>
        </p:blipFill>
        <p:spPr>
          <a:xfrm>
            <a:off x="25560" y="1341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5" descr="mo"/>
          <p:cNvPicPr/>
          <p:nvPr/>
        </p:nvPicPr>
        <p:blipFill>
          <a:blip r:embed="rId2"/>
          <a:stretch/>
        </p:blipFill>
        <p:spPr>
          <a:xfrm>
            <a:off x="3995640" y="3789360"/>
            <a:ext cx="432000" cy="37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6" descr="mo"/>
          <p:cNvPicPr/>
          <p:nvPr/>
        </p:nvPicPr>
        <p:blipFill>
          <a:blip r:embed="rId3"/>
          <a:stretch/>
        </p:blipFill>
        <p:spPr>
          <a:xfrm>
            <a:off x="4427640" y="4797360"/>
            <a:ext cx="431640" cy="378000"/>
          </a:xfrm>
          <a:prstGeom prst="rect">
            <a:avLst/>
          </a:prstGeom>
          <a:ln w="0">
            <a:noFill/>
          </a:ln>
        </p:spPr>
      </p:pic>
      <p:sp>
        <p:nvSpPr>
          <p:cNvPr id="215" name="Line 48"/>
          <p:cNvSpPr/>
          <p:nvPr/>
        </p:nvSpPr>
        <p:spPr>
          <a:xfrm>
            <a:off x="4788000" y="508464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9"/>
          <p:cNvSpPr/>
          <p:nvPr/>
        </p:nvSpPr>
        <p:spPr>
          <a:xfrm>
            <a:off x="2271600" y="210996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60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96480" y="9097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【古典中国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7 C 0.02725 -0.01621 0.05451 -0.03241 0.09566 -0.01713 C 0.1368 -0.00185 0.19774 0.06574 0.24722 0.09143 C 0.2967 0.11713 0.3434 0.14907 0.39288 0.13727 C 0.44236 0.12546 0.47066 0.03287 0.54427 0.02106 C 0.61788 0.00926 0.78611 0.05903 0.83437 0.06666 E">
                                      <p:cBhvr>
                                        <p:cTn id="6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6"/>
          <p:cNvSpPr/>
          <p:nvPr/>
        </p:nvSpPr>
        <p:spPr>
          <a:xfrm>
            <a:off x="3419640" y="242100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85128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栏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3419640" y="306864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851280" y="25639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栏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419640" y="37893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851280" y="32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栏目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419640" y="450864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3851280" y="40035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栏目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6381720"/>
            <a:ext cx="68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20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40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40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60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60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2" descr="未标题3-1"/>
          <p:cNvPicPr/>
          <p:nvPr/>
        </p:nvPicPr>
        <p:blipFill>
          <a:blip r:embed="rId2"/>
          <a:stretch/>
        </p:blipFill>
        <p:spPr>
          <a:xfrm>
            <a:off x="39528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3" descr="mhd-1"/>
          <p:cNvPicPr/>
          <p:nvPr/>
        </p:nvPicPr>
        <p:blipFill>
          <a:blip r:embed="rId3"/>
          <a:stretch/>
        </p:blipFill>
        <p:spPr>
          <a:xfrm>
            <a:off x="971640" y="1700280"/>
            <a:ext cx="71280" cy="92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4" descr="mhd-2"/>
          <p:cNvPicPr/>
          <p:nvPr/>
        </p:nvPicPr>
        <p:blipFill>
          <a:blip r:embed="rId4"/>
          <a:stretch/>
        </p:blipFill>
        <p:spPr>
          <a:xfrm>
            <a:off x="6443640" y="1557360"/>
            <a:ext cx="57240" cy="38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5" descr="mhg-1"/>
          <p:cNvPicPr/>
          <p:nvPr/>
        </p:nvPicPr>
        <p:blipFill>
          <a:blip r:embed="rId5"/>
          <a:stretch/>
        </p:blipFill>
        <p:spPr>
          <a:xfrm>
            <a:off x="1763640" y="170028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6" descr="mhg-5"/>
          <p:cNvPicPr/>
          <p:nvPr/>
        </p:nvPicPr>
        <p:blipFill>
          <a:blip r:embed="rId6"/>
          <a:stretch/>
        </p:blipFill>
        <p:spPr>
          <a:xfrm>
            <a:off x="2700360" y="1773360"/>
            <a:ext cx="144360" cy="9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7" descr="mhb-3"/>
          <p:cNvPicPr/>
          <p:nvPr/>
        </p:nvPicPr>
        <p:blipFill>
          <a:blip r:embed="rId7"/>
          <a:stretch/>
        </p:blipFill>
        <p:spPr>
          <a:xfrm rot="20659800">
            <a:off x="1042560" y="1591920"/>
            <a:ext cx="149400" cy="10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8" descr="mhb-4"/>
          <p:cNvPicPr/>
          <p:nvPr/>
        </p:nvPicPr>
        <p:blipFill>
          <a:blip r:embed="rId8"/>
          <a:stretch/>
        </p:blipFill>
        <p:spPr>
          <a:xfrm>
            <a:off x="1042920" y="1484280"/>
            <a:ext cx="142920" cy="103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9" descr="mhb-2"/>
          <p:cNvPicPr/>
          <p:nvPr/>
        </p:nvPicPr>
        <p:blipFill>
          <a:blip r:embed="rId9"/>
          <a:stretch/>
        </p:blipFill>
        <p:spPr>
          <a:xfrm>
            <a:off x="826920" y="1484280"/>
            <a:ext cx="190800" cy="209520"/>
          </a:xfrm>
          <a:prstGeom prst="rect">
            <a:avLst/>
          </a:prstGeom>
          <a:ln w="0">
            <a:noFill/>
          </a:ln>
        </p:spPr>
      </p:pic>
      <p:sp>
        <p:nvSpPr>
          <p:cNvPr id="236" name="Line 40"/>
          <p:cNvSpPr/>
          <p:nvPr/>
        </p:nvSpPr>
        <p:spPr>
          <a:xfrm>
            <a:off x="971640" y="162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1042920" y="155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971640" y="15588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3" descr="mhb-6"/>
          <p:cNvPicPr/>
          <p:nvPr/>
        </p:nvPicPr>
        <p:blipFill>
          <a:blip r:embed="rId10"/>
          <a:stretch/>
        </p:blipFill>
        <p:spPr>
          <a:xfrm>
            <a:off x="1042920" y="1557360"/>
            <a:ext cx="142920" cy="152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4" descr="mhb-7"/>
          <p:cNvPicPr/>
          <p:nvPr/>
        </p:nvPicPr>
        <p:blipFill>
          <a:blip r:embed="rId11"/>
          <a:stretch/>
        </p:blipFill>
        <p:spPr>
          <a:xfrm>
            <a:off x="1692360" y="170028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5" descr="mhb-3"/>
          <p:cNvPicPr/>
          <p:nvPr/>
        </p:nvPicPr>
        <p:blipFill>
          <a:blip r:embed="rId12"/>
          <a:stretch/>
        </p:blipFill>
        <p:spPr>
          <a:xfrm rot="15319200">
            <a:off x="4035240" y="1811160"/>
            <a:ext cx="120960" cy="88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6" descr="mhb-4"/>
          <p:cNvPicPr/>
          <p:nvPr/>
        </p:nvPicPr>
        <p:blipFill>
          <a:blip r:embed="rId13"/>
          <a:stretch/>
        </p:blipFill>
        <p:spPr>
          <a:xfrm rot="17632800">
            <a:off x="3983760" y="1832400"/>
            <a:ext cx="96840" cy="69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1" descr="mb"/>
          <p:cNvPicPr/>
          <p:nvPr/>
        </p:nvPicPr>
        <p:blipFill>
          <a:blip r:embed="rId14"/>
          <a:stretch/>
        </p:blipFill>
        <p:spPr>
          <a:xfrm flipH="1" rot="19755000">
            <a:off x="9396000" y="5157360"/>
            <a:ext cx="504720" cy="311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"/>
          <p:cNvPicPr/>
          <p:nvPr/>
        </p:nvPicPr>
        <p:blipFill>
          <a:blip r:embed="rId15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7" descr="hh"/>
          <p:cNvPicPr/>
          <p:nvPr/>
        </p:nvPicPr>
        <p:blipFill>
          <a:blip r:embed="rId16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9"/>
          <p:cNvSpPr/>
          <p:nvPr/>
        </p:nvSpPr>
        <p:spPr>
          <a:xfrm>
            <a:off x="539640" y="2492280"/>
            <a:ext cx="8604360" cy="4030920"/>
          </a:xfrm>
          <a:prstGeom prst="rect">
            <a:avLst/>
          </a:prstGeom>
          <a:solidFill>
            <a:srgbClr val="ff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6" descr=""/>
          <p:cNvPicPr/>
          <p:nvPr/>
        </p:nvPicPr>
        <p:blipFill>
          <a:blip r:embed="rId17"/>
          <a:srcRect l="0" t="0" r="64168" b="0"/>
          <a:stretch/>
        </p:blipFill>
        <p:spPr>
          <a:xfrm>
            <a:off x="250920" y="2276640"/>
            <a:ext cx="1728720" cy="4392360"/>
          </a:xfrm>
          <a:prstGeom prst="rect">
            <a:avLst/>
          </a:prstGeom>
          <a:ln w="0">
            <a:noFill/>
          </a:ln>
        </p:spPr>
      </p:pic>
      <p:grpSp>
        <p:nvGrpSpPr>
          <p:cNvPr id="248" name="Rectangle 70"/>
          <p:cNvGrpSpPr/>
          <p:nvPr/>
        </p:nvGrpSpPr>
        <p:grpSpPr>
          <a:xfrm>
            <a:off x="-6010200" y="-98280"/>
            <a:ext cx="8272440" cy="10364760"/>
            <a:chOff x="-6010200" y="-98280"/>
            <a:chExt cx="8272440" cy="10364760"/>
          </a:xfrm>
        </p:grpSpPr>
        <p:pic>
          <p:nvPicPr>
            <p:cNvPr id="249" name="Rectangle 70" descr=""/>
            <p:cNvPicPr/>
            <p:nvPr/>
          </p:nvPicPr>
          <p:blipFill>
            <a:blip r:embed="rId18"/>
            <a:stretch/>
          </p:blipFill>
          <p:spPr>
            <a:xfrm>
              <a:off x="-6010200" y="-78480"/>
              <a:ext cx="8272440" cy="10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 rot="19585800">
              <a:off x="-2196720" y="-920520"/>
              <a:ext cx="647640" cy="12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ectangle 71"/>
          <p:cNvGrpSpPr/>
          <p:nvPr/>
        </p:nvGrpSpPr>
        <p:grpSpPr>
          <a:xfrm>
            <a:off x="6303960" y="-4488480"/>
            <a:ext cx="8271000" cy="10359360"/>
            <a:chOff x="6303960" y="-4488480"/>
            <a:chExt cx="8271000" cy="10359360"/>
          </a:xfrm>
        </p:grpSpPr>
        <p:pic>
          <p:nvPicPr>
            <p:cNvPr id="252" name="Rectangle 71" descr=""/>
            <p:cNvPicPr/>
            <p:nvPr/>
          </p:nvPicPr>
          <p:blipFill>
            <a:blip r:embed="rId19"/>
            <a:stretch/>
          </p:blipFill>
          <p:spPr>
            <a:xfrm>
              <a:off x="6303960" y="-4465800"/>
              <a:ext cx="8271000" cy="10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 rot="19585800">
              <a:off x="10117080" y="-5310000"/>
              <a:ext cx="647640" cy="120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Rectangle 72"/>
          <p:cNvGrpSpPr/>
          <p:nvPr/>
        </p:nvGrpSpPr>
        <p:grpSpPr>
          <a:xfrm>
            <a:off x="-6010200" y="-98280"/>
            <a:ext cx="8272440" cy="10364760"/>
            <a:chOff x="-6010200" y="-98280"/>
            <a:chExt cx="8272440" cy="10364760"/>
          </a:xfrm>
        </p:grpSpPr>
        <p:pic>
          <p:nvPicPr>
            <p:cNvPr id="255" name="Rectangle 72" descr=""/>
            <p:cNvPicPr/>
            <p:nvPr/>
          </p:nvPicPr>
          <p:blipFill>
            <a:blip r:embed="rId20"/>
            <a:stretch/>
          </p:blipFill>
          <p:spPr>
            <a:xfrm>
              <a:off x="-6010200" y="-78480"/>
              <a:ext cx="8272440" cy="10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 rot="19585800">
              <a:off x="-2196720" y="-920520"/>
              <a:ext cx="647640" cy="12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Rectangle 73"/>
          <p:cNvGrpSpPr/>
          <p:nvPr/>
        </p:nvGrpSpPr>
        <p:grpSpPr>
          <a:xfrm>
            <a:off x="6303960" y="-4488480"/>
            <a:ext cx="8271000" cy="10359360"/>
            <a:chOff x="6303960" y="-4488480"/>
            <a:chExt cx="8271000" cy="10359360"/>
          </a:xfrm>
        </p:grpSpPr>
        <p:pic>
          <p:nvPicPr>
            <p:cNvPr id="258" name="Rectangle 73" descr=""/>
            <p:cNvPicPr/>
            <p:nvPr/>
          </p:nvPicPr>
          <p:blipFill>
            <a:blip r:embed="rId21"/>
            <a:stretch/>
          </p:blipFill>
          <p:spPr>
            <a:xfrm>
              <a:off x="6303960" y="-4465800"/>
              <a:ext cx="8271000" cy="10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rot="19585800">
              <a:off x="10117080" y="-5310000"/>
              <a:ext cx="647640" cy="120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C 0.00312 -0.00694 0.00625 -0.01388 0.01007 -0.01897 C 0.01389 -0.02406 0.01632 -0.02893 0.02292 -0.03055 C 0.02952 -0.03217 0.04289 -0.03124 0.05 -0.02846 C 0.05712 -0.02569 0.06198 -0.01781 0.0658 -0.01319 C 0.06962 -0.00856 0.07205 -0.00578 0.07292 5.18519E-006 C 0.07379 0.0058 0.07327 0.01482 0.07153 0.02107 C 0.0698 0.02732 0.06632 0.03265 0.06285 0.0382 E">
                                      <p:cBhvr>
                                        <p:cTn id="11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C -0.0019 0.0118 -0.00381 0.02361 -1.11111E-006 0.0324 C 0.00382 0.0412 0.01042 0.0449 0.02275 0.05324 C 0.03507 0.06157 0.05643 0.07939 0.07431 0.08194 C 0.09219 0.08449 0.11789 0.07615 0.13004 0.06851 C 0.14219 0.06088 0.14445 0.04629 0.14705 0.03611 C 0.14966 0.02592 0.14688 0.01527 0.14566 0.00763 C 0.14445 2.96296000000008E-006 0.14219 -0.00487 0.13994 -0.00949 E">
                                      <p:cBhvr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L -0.93715 -0.55648 E">
                                      <p:cBhvr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11563 L 1.3033 -0.81799 E">
                                      <p:cBhvr>
                                        <p:cTn id="158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3715 -0.55648 L -1.00798 -0.50394 E">
                                      <p:cBhvr>
                                        <p:cTn id="16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798 -0.50394 L -0.93715 -0.50394 E">
                                      <p:cBhvr>
                                        <p:cTn id="16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3715 -0.50394 L -0.88975 -0.50394 E">
                                      <p:cBhvr>
                                        <p:cTn id="16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-0.0104 L -1.39792 1.05967 E">
                                      <p:cBhvr>
                                        <p:cTn id="170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594 -0.49537 L -0.85452 -0.53727 E">
                                      <p:cBhvr>
                                        <p:cTn id="17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D0EF-BA51-420C-843A-F098B68F3F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7"/>
          <p:cNvSpPr/>
          <p:nvPr/>
        </p:nvSpPr>
        <p:spPr>
          <a:xfrm>
            <a:off x="378000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雌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42764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洋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2916360" y="19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赭石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268360" y="19098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藤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268360" y="19098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藤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3780000" y="1909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雌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2914560" y="1909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赭石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442764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洋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mb"/>
          <p:cNvPicPr/>
          <p:nvPr/>
        </p:nvPicPr>
        <p:blipFill>
          <a:blip r:embed="rId2"/>
          <a:stretch/>
        </p:blipFill>
        <p:spPr>
          <a:xfrm flipH="1" rot="19755000">
            <a:off x="3924000" y="1557000"/>
            <a:ext cx="504720" cy="311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"/>
          <p:cNvPicPr/>
          <p:nvPr/>
        </p:nvPicPr>
        <p:blipFill>
          <a:blip r:embed="rId3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" descr=""/>
          <p:cNvPicPr/>
          <p:nvPr/>
        </p:nvPicPr>
        <p:blipFill>
          <a:blip r:embed="rId4"/>
          <a:srcRect l="0" t="0" r="64168" b="0"/>
          <a:stretch/>
        </p:blipFill>
        <p:spPr>
          <a:xfrm>
            <a:off x="179280" y="2276640"/>
            <a:ext cx="1728720" cy="43923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7"/>
          <p:cNvSpPr/>
          <p:nvPr/>
        </p:nvSpPr>
        <p:spPr>
          <a:xfrm>
            <a:off x="468360" y="2492280"/>
            <a:ext cx="8675640" cy="4032360"/>
          </a:xfrm>
          <a:prstGeom prst="rect">
            <a:avLst/>
          </a:prstGeom>
          <a:solidFill>
            <a:srgbClr val="cc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7060680" y="3068640"/>
            <a:ext cx="1472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藤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明黄。用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画花卉、枝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199120" y="3357720"/>
            <a:ext cx="174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赭石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暗棕色矿物，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做颜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1757160" y="3141720"/>
            <a:ext cx="3546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雌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矿物名。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三硫化二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(As2S3)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橙黄色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透明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可用来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颜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1009080" y="3141720"/>
            <a:ext cx="14720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洋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橘红。用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画花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Rectangle 28"/>
          <p:cNvGrpSpPr/>
          <p:nvPr/>
        </p:nvGrpSpPr>
        <p:grpSpPr>
          <a:xfrm>
            <a:off x="-5960880" y="-4700520"/>
            <a:ext cx="9831240" cy="8748720"/>
            <a:chOff x="-5960880" y="-4700520"/>
            <a:chExt cx="9831240" cy="8748720"/>
          </a:xfrm>
        </p:grpSpPr>
        <p:pic>
          <p:nvPicPr>
            <p:cNvPr id="280" name="Rectangle 28" descr=""/>
            <p:cNvPicPr/>
            <p:nvPr/>
          </p:nvPicPr>
          <p:blipFill>
            <a:blip r:embed="rId5"/>
            <a:stretch/>
          </p:blipFill>
          <p:spPr>
            <a:xfrm>
              <a:off x="-5933160" y="-4700520"/>
              <a:ext cx="9774360" cy="87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3238800">
              <a:off x="-1368720" y="-6166440"/>
              <a:ext cx="647640" cy="116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Rectangle 29"/>
          <p:cNvGrpSpPr/>
          <p:nvPr/>
        </p:nvGrpSpPr>
        <p:grpSpPr>
          <a:xfrm>
            <a:off x="4840560" y="3054240"/>
            <a:ext cx="9832680" cy="8740800"/>
            <a:chOff x="4840560" y="3054240"/>
            <a:chExt cx="9832680" cy="8740800"/>
          </a:xfrm>
        </p:grpSpPr>
        <p:pic>
          <p:nvPicPr>
            <p:cNvPr id="283" name="Rectangle 29" descr=""/>
            <p:cNvPicPr/>
            <p:nvPr/>
          </p:nvPicPr>
          <p:blipFill>
            <a:blip r:embed="rId6"/>
            <a:stretch/>
          </p:blipFill>
          <p:spPr>
            <a:xfrm>
              <a:off x="4867920" y="3054240"/>
              <a:ext cx="9776880" cy="874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 rot="3238800">
              <a:off x="9432720" y="1580760"/>
              <a:ext cx="648000" cy="1168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0" descr="hh"/>
          <p:cNvPicPr/>
          <p:nvPr/>
        </p:nvPicPr>
        <p:blipFill>
          <a:blip r:embed="rId7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0" descr="4d95d693377e027f7af4807221"/>
          <p:cNvPicPr/>
          <p:nvPr/>
        </p:nvPicPr>
        <p:blipFill>
          <a:blip r:embed="rId8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4" descr="u=3575232052,4105491596&amp;fm=52&amp;gp=0副本"/>
          <p:cNvPicPr/>
          <p:nvPr/>
        </p:nvPicPr>
        <p:blipFill>
          <a:blip r:embed="rId9"/>
          <a:stretch/>
        </p:blipFill>
        <p:spPr>
          <a:xfrm>
            <a:off x="1547640" y="2781360"/>
            <a:ext cx="4535640" cy="4246560"/>
          </a:xfrm>
          <a:prstGeom prst="rect">
            <a:avLst/>
          </a:prstGeom>
          <a:ln w="0">
            <a:noFill/>
          </a:ln>
        </p:spPr>
      </p:pic>
      <p:grpSp>
        <p:nvGrpSpPr>
          <p:cNvPr id="288" name="组合 5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289" name="任意多边形 2"/>
            <p:cNvGrpSpPr/>
            <p:nvPr/>
          </p:nvGrpSpPr>
          <p:grpSpPr>
            <a:xfrm>
              <a:off x="1474920" y="4844160"/>
              <a:ext cx="680760" cy="474840"/>
              <a:chOff x="1474920" y="4844160"/>
              <a:chExt cx="680760" cy="474840"/>
            </a:xfrm>
          </p:grpSpPr>
          <p:pic>
            <p:nvPicPr>
              <p:cNvPr id="290" name="任意多边形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78880" y="4849560"/>
                <a:ext cx="67680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Text Box 149"/>
              <p:cNvSpPr/>
              <p:nvPr/>
            </p:nvSpPr>
            <p:spPr>
              <a:xfrm rot="5400000">
                <a:off x="1576080" y="4742640"/>
                <a:ext cx="474840" cy="67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椭圆 3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4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7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295" name="任意多边形 8"/>
            <p:cNvGrpSpPr/>
            <p:nvPr/>
          </p:nvGrpSpPr>
          <p:grpSpPr>
            <a:xfrm>
              <a:off x="1474920" y="4844160"/>
              <a:ext cx="680760" cy="474840"/>
              <a:chOff x="1474920" y="4844160"/>
              <a:chExt cx="680760" cy="474840"/>
            </a:xfrm>
          </p:grpSpPr>
          <p:pic>
            <p:nvPicPr>
              <p:cNvPr id="296" name="任意多边形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1478880" y="4849560"/>
                <a:ext cx="67680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55"/>
              <p:cNvSpPr/>
              <p:nvPr/>
            </p:nvSpPr>
            <p:spPr>
              <a:xfrm rot="5400000">
                <a:off x="1576080" y="4742640"/>
                <a:ext cx="474840" cy="67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椭圆 9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0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11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01" name="任意多边形 12"/>
            <p:cNvGrpSpPr/>
            <p:nvPr/>
          </p:nvGrpSpPr>
          <p:grpSpPr>
            <a:xfrm>
              <a:off x="1474920" y="4844160"/>
              <a:ext cx="680760" cy="474840"/>
              <a:chOff x="1474920" y="4844160"/>
              <a:chExt cx="680760" cy="474840"/>
            </a:xfrm>
          </p:grpSpPr>
          <p:pic>
            <p:nvPicPr>
              <p:cNvPr id="302" name="任意多边形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78880" y="4849560"/>
                <a:ext cx="67680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61"/>
              <p:cNvSpPr/>
              <p:nvPr/>
            </p:nvSpPr>
            <p:spPr>
              <a:xfrm rot="5400000">
                <a:off x="1576080" y="4742640"/>
                <a:ext cx="474840" cy="67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椭圆 13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4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15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07" name="任意多边形 16"/>
            <p:cNvGrpSpPr/>
            <p:nvPr/>
          </p:nvGrpSpPr>
          <p:grpSpPr>
            <a:xfrm>
              <a:off x="1474920" y="4844160"/>
              <a:ext cx="680760" cy="474840"/>
              <a:chOff x="1474920" y="4844160"/>
              <a:chExt cx="680760" cy="474840"/>
            </a:xfrm>
          </p:grpSpPr>
          <p:pic>
            <p:nvPicPr>
              <p:cNvPr id="308" name="任意多边形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78880" y="4849560"/>
                <a:ext cx="67680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67"/>
              <p:cNvSpPr/>
              <p:nvPr/>
            </p:nvSpPr>
            <p:spPr>
              <a:xfrm rot="5400000">
                <a:off x="1576080" y="4742640"/>
                <a:ext cx="474840" cy="67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椭圆 17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18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9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13" name="任意多边形 20"/>
            <p:cNvGrpSpPr/>
            <p:nvPr/>
          </p:nvGrpSpPr>
          <p:grpSpPr>
            <a:xfrm>
              <a:off x="1474920" y="4844160"/>
              <a:ext cx="680760" cy="474840"/>
              <a:chOff x="1474920" y="4844160"/>
              <a:chExt cx="680760" cy="474840"/>
            </a:xfrm>
          </p:grpSpPr>
          <p:pic>
            <p:nvPicPr>
              <p:cNvPr id="314" name="任意多边形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78880" y="4849560"/>
                <a:ext cx="67680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 Box 173"/>
              <p:cNvSpPr/>
              <p:nvPr/>
            </p:nvSpPr>
            <p:spPr>
              <a:xfrm rot="5400000">
                <a:off x="1576080" y="4742640"/>
                <a:ext cx="474840" cy="67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椭圆 21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22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3"/>
          <p:cNvGrpSpPr/>
          <p:nvPr/>
        </p:nvGrpSpPr>
        <p:grpSpPr>
          <a:xfrm>
            <a:off x="541440" y="4869000"/>
            <a:ext cx="1589040" cy="485640"/>
            <a:chOff x="541440" y="4869000"/>
            <a:chExt cx="1589040" cy="485640"/>
          </a:xfrm>
        </p:grpSpPr>
        <p:grpSp>
          <p:nvGrpSpPr>
            <p:cNvPr id="319" name="任意多边形 24"/>
            <p:cNvGrpSpPr/>
            <p:nvPr/>
          </p:nvGrpSpPr>
          <p:grpSpPr>
            <a:xfrm>
              <a:off x="1449720" y="4874400"/>
              <a:ext cx="680760" cy="474840"/>
              <a:chOff x="1449720" y="4874400"/>
              <a:chExt cx="680760" cy="474840"/>
            </a:xfrm>
          </p:grpSpPr>
          <p:pic>
            <p:nvPicPr>
              <p:cNvPr id="320" name="任意多边形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453680" y="4879800"/>
                <a:ext cx="67680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Text Box 179"/>
              <p:cNvSpPr/>
              <p:nvPr/>
            </p:nvSpPr>
            <p:spPr>
              <a:xfrm rot="5400000">
                <a:off x="1550880" y="4772880"/>
                <a:ext cx="474840" cy="67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椭圆 25"/>
            <p:cNvSpPr/>
            <p:nvPr/>
          </p:nvSpPr>
          <p:spPr>
            <a:xfrm>
              <a:off x="1187640" y="496872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6"/>
            <p:cNvSpPr/>
            <p:nvPr/>
          </p:nvSpPr>
          <p:spPr>
            <a:xfrm rot="5400000">
              <a:off x="639000" y="477108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椭圆 6"/>
          <p:cNvSpPr/>
          <p:nvPr/>
        </p:nvSpPr>
        <p:spPr>
          <a:xfrm>
            <a:off x="1219320" y="4938840"/>
            <a:ext cx="285480" cy="2854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ffaf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54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326" name="任意多边形 55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327" name="任意多边形 55" descr=""/>
              <p:cNvPicPr/>
              <p:nvPr/>
            </p:nvPicPr>
            <p:blipFill>
              <a:blip r:embed="rId16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86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椭圆 56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57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58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332" name="任意多边形 59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333" name="任意多边形 59" descr=""/>
              <p:cNvPicPr/>
              <p:nvPr/>
            </p:nvPicPr>
            <p:blipFill>
              <a:blip r:embed="rId17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192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椭圆 60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61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62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338" name="任意多边形 63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339" name="任意多边形 63" descr=""/>
              <p:cNvPicPr/>
              <p:nvPr/>
            </p:nvPicPr>
            <p:blipFill>
              <a:blip r:embed="rId18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Text Box 198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椭圆 64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65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66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344" name="任意多边形 67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345" name="任意多边形 67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Text Box 204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椭圆 68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69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70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350" name="任意多边形 71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351" name="任意多边形 71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Text Box 210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椭圆 72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73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74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356" name="任意多边形 75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357" name="任意多边形 75" descr=""/>
              <p:cNvPicPr/>
              <p:nvPr/>
            </p:nvPicPr>
            <p:blipFill>
              <a:blip r:embed="rId21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Text Box 216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椭圆 76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77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椭圆 78"/>
          <p:cNvSpPr/>
          <p:nvPr/>
        </p:nvSpPr>
        <p:spPr>
          <a:xfrm rot="12472200">
            <a:off x="1371240" y="5091120"/>
            <a:ext cx="285840" cy="285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1e8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104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363" name="任意多边形 105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364" name="任意多边形 105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Text Box 223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椭圆 106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107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08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369" name="任意多边形 109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370" name="任意多边形 109" descr=""/>
              <p:cNvPicPr/>
              <p:nvPr/>
            </p:nvPicPr>
            <p:blipFill>
              <a:blip r:embed="rId23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 Box 229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椭圆 110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111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112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375" name="任意多边形 113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376" name="任意多边形 113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 Box 235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椭圆 114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115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116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381" name="任意多边形 117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382" name="任意多边形 117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241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椭圆 118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119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20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387" name="任意多边形 121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388" name="任意多边形 121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Text Box 247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椭圆 122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23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124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393" name="任意多边形 125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394" name="任意多边形 125" descr=""/>
              <p:cNvPicPr/>
              <p:nvPr/>
            </p:nvPicPr>
            <p:blipFill>
              <a:blip r:embed="rId27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253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椭圆 126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127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椭圆 128"/>
          <p:cNvSpPr/>
          <p:nvPr/>
        </p:nvSpPr>
        <p:spPr>
          <a:xfrm rot="6915000">
            <a:off x="5625720" y="5946480"/>
            <a:ext cx="285840" cy="285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1e8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57"/>
          <p:cNvSpPr/>
          <p:nvPr/>
        </p:nvSpPr>
        <p:spPr>
          <a:xfrm>
            <a:off x="5149800" y="1413000"/>
            <a:ext cx="23749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05273E-006 L 1.20486 1.26919 E">
                                      <p:cBhvr>
                                        <p:cTn id="19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17309 0.03148 E">
                                      <p:cBhvr>
                                        <p:cTn id="19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09 0.03148 L -0.07864 0.03148 E">
                                      <p:cBhvr>
                                        <p:cTn id="212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4 0.03148 L -0.00781 0.03148 E">
                                      <p:cBhvr>
                                        <p:cTn id="22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3148 L 0.07083 0.03148 E">
                                      <p:cBhvr>
                                        <p:cTn id="240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20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90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46161E-006 L -1.15763 -1.2167 E">
                                      <p:cBhvr>
                                        <p:cTn id="25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3600000">
                                      <p:cBhvr>
                                        <p:cTn id="268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7200000">
                                      <p:cBhvr>
                                        <p:cTn id="275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2" dur="12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4400000">
                                      <p:cBhvr>
                                        <p:cTn id="289" dur="16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8000000">
                                      <p:cBhvr>
                                        <p:cTn id="29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303" dur="24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2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4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3600000">
                                      <p:cBhvr>
                                        <p:cTn id="315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7200000">
                                      <p:cBhvr>
                                        <p:cTn id="322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0800000">
                                      <p:cBhvr>
                                        <p:cTn id="329" dur="1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4400000">
                                      <p:cBhvr>
                                        <p:cTn id="336" dur="16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8000000">
                                      <p:cBhvr>
                                        <p:cTn id="343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21600000">
                                      <p:cBhvr>
                                        <p:cTn id="350" dur="2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4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359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361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363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365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367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36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37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3600000">
                                      <p:cBhvr>
                                        <p:cTn id="376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78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7200000">
                                      <p:cBhvr>
                                        <p:cTn id="383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0800000">
                                      <p:cBhvr>
                                        <p:cTn id="390" dur="12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4400000">
                                      <p:cBhvr>
                                        <p:cTn id="397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99" dur="2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8000000">
                                      <p:cBhvr>
                                        <p:cTn id="40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21600000">
                                      <p:cBhvr>
                                        <p:cTn id="411" dur="2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2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13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4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4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4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54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22:37Z</dcterms:created>
  <dc:creator/>
  <dc:description/>
  <cp:keywords>幻灯片之家 http:/www.eeppt.com</cp:keywords>
  <dc:language>en-US</dc:language>
  <cp:lastModifiedBy/>
  <dcterms:modified xsi:type="dcterms:W3CDTF">2015-07-12T09:07:41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