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7E6-615A-4F51-8FA6-B4E22BB1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222-64F2-413B-A06E-F52E8AC4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8CB-A8CE-4A1B-814B-B770330E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477-8F77-4961-AD98-A8028454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2B0-707D-4E9D-9EF3-5B9F2FC7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DE6-C579-459C-959D-94639177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B3F-7797-4221-BD10-C160B2D1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113-CB24-4353-81F9-213AF352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04C-481E-482E-9A58-B555D965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0BE-9F88-4C1A-BEE0-28A7F8F1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C13-EF8A-4BB5-A6A9-4CDBFA0F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357-E76F-4052-894B-5EA62A29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95C1-4AB9-4BFF-AB43-AEEA5FD5F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jieri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3960" y="909720"/>
            <a:ext cx="28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恩教师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0" y="2565360"/>
            <a:ext cx="9325080" cy="1628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129200" y="299736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教师是火种，点燃了学生的心灵之火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0" y="645336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170960" y="537372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师是石级，承受着学生一步步踏实地向上攀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080240" y="6922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教师是一支蜡烛，虽然细弱，但有一分热，发一分光，照亮了别人，耗尽了自己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EBF-DCE7-4004-A66A-7AC07718C8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403280" y="2924280"/>
            <a:ext cx="66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这无私的奉献，令人永志不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103640" cy="1141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tretch/>
        </p:blipFill>
        <p:spPr>
          <a:xfrm>
            <a:off x="2195640" y="476280"/>
            <a:ext cx="1589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/>
  <dc:description/>
  <cp:keywords>幻灯片之家 http:/www.eeppt.com</cp:keywords>
  <dc:language>en-US</dc:language>
  <cp:lastModifiedBy/>
  <dcterms:modified xsi:type="dcterms:W3CDTF">2015-07-09T06:15:25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